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100B-9F08-4C1F-9C95-05B01A694E62}" type="datetime">
              <a:rPr b="0" lang="en-US" sz="1200" spc="-1" strike="noStrike">
                <a:solidFill>
                  <a:srgbClr val="000000"/>
                </a:solidFill>
                <a:latin typeface="Gill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Museo Sans Rounded 900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D6A1-83B4-431B-976C-16ED31684FD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C67F-B64D-4190-9601-DDFB97710198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7609-B11B-41FA-8F13-72D9F9D13628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F6D5-BDAA-48C1-920C-E3CF16DC53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96F5-C66E-4E15-AF07-FD04F83FA2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37E3-35E4-44C0-8FD3-B02DCF7D3C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13EC-64D7-432D-BC94-EB6B78FB1F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42AD-EA8A-4F6D-B90B-306B0BA219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7FD0-B453-422D-862D-76EDDE1B3B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04E7-0A14-43F9-99E6-4A8EA50DD6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7911-EC18-471E-B5F2-7E52BCBF41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324D-638C-4C82-8D43-4519C981A0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31F1-EEDB-4207-B34B-6C493E2161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C2B8-ED95-4760-AEE5-6F79F1B7BE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E859-DF21-42E1-A22C-DA7BD96539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6FB7F-F32A-4DA9-94D3-A7A7245C3A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D55F8-54C1-4323-B302-F7A2BA3A12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5E2C-B2DD-43EA-8B2C-7116D9CE99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C5E8-FF67-4A16-B7CF-3164125AF2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97CE9-40EE-45F7-9DA4-0F19EB78A6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EF178-0ACC-49E5-9BFE-DE3990EF40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B7602-8D09-4431-957E-DB5F915AD5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62F8-36EB-4EA6-8D59-3C5A7E6C89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E555-4ACE-4374-B390-9C7F371B51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923A-36EA-401A-8830-FDB8F01D55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8844-B066-4F9F-BC78-525F86D5C7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993E-12A0-4F1B-AF7D-DF6CCAB262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30240" y="1700280"/>
            <a:ext cx="13053960" cy="3443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68200" y="5562360"/>
            <a:ext cx="10566360" cy="327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2000"/>
          </a:bodyPr>
          <a:p>
            <a:pPr marL="2124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1" marL="212400" indent="-212400"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2" marL="212400" indent="-212400">
              <a:buClr>
                <a:srgbClr val="000000"/>
              </a:buClr>
              <a:buFont typeface="Museo Sans Rounded 300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3" marL="212400" indent="-212400"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4" marL="212400" indent="-212400"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5" marL="212400" indent="-212400"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6" marL="212400" indent="-212400"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68200" y="2603520"/>
            <a:ext cx="10566360" cy="165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27080" rIns="127080" tIns="127080" bIns="127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Museo Sans Rounded 900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2184480" y="406440"/>
            <a:ext cx="40766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useo Sans Rounded 700"/>
              </a:rPr>
              <a:t>REFORMA PÉČE O DUŠEVNÍ ZDRAVÍ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useo Sans Rounded 300"/>
              </a:rPr>
              <a:t>Strategie reformy psychiatrické péč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1168560" y="406440"/>
            <a:ext cx="888840" cy="888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9893160" y="622440"/>
            <a:ext cx="182880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Museo Sans Rounded 300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1" marL="45720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2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3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4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5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6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35040" y="635040"/>
            <a:ext cx="11734920" cy="41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930240" y="306000"/>
            <a:ext cx="295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700"/>
              </a:rPr>
              <a:t>REFORMA PÉČE O DUŠEVNÍ ZDRAVÍ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2242160" y="306000"/>
            <a:ext cx="5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300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6316560" y="9245160"/>
            <a:ext cx="357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666666"/>
                </a:solidFill>
                <a:latin typeface="Museo Sans Rounded 30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B0A1-3E3D-4466-B1C5-BE4A59D76617}" type="slidenum">
              <a:rPr b="0" lang="en-US" sz="1800" spc="-1" strike="noStrike">
                <a:solidFill>
                  <a:srgbClr val="666666"/>
                </a:solidFill>
                <a:latin typeface="Museo Sans Rounded 300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8840" y="914040"/>
            <a:ext cx="1130328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Museo Sans Rounded 300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76240" y="3479760"/>
            <a:ext cx="7112160" cy="542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1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2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4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5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6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635040" y="635040"/>
            <a:ext cx="11734920" cy="414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930240" y="306000"/>
            <a:ext cx="295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700"/>
                <a:ea typeface="ヒラギノ角ゴ ProN W3"/>
              </a:rPr>
              <a:t>REFORMA PÉČE O DUŠEVNÍ ZDRAVÍ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0112040" y="306000"/>
            <a:ext cx="227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300"/>
                <a:ea typeface="ヒラギノ角ゴ ProN W3"/>
              </a:rPr>
              <a:t>Pracovní skupina 15.5.201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6316560" y="9245160"/>
            <a:ext cx="357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000E-B45C-42E7-8765-8AE2EF8DDDC0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68200" y="2590920"/>
            <a:ext cx="10566360" cy="257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27080" rIns="127080" tIns="127080" bIns="127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Strategie</a:t>
            </a: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reformy</a:t>
            </a: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psychiatrické</a:t>
            </a: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péče</a:t>
            </a:r>
            <a:br>
              <a:rPr sz="4800"/>
            </a:b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a geriatrická problematika transformace psychiatrických služeb</a:t>
            </a:r>
            <a:endParaRPr b="0" lang="en-US" sz="4800" spc="-1" strike="noStrike">
              <a:solidFill>
                <a:srgbClr val="ffffff"/>
              </a:solidFill>
              <a:latin typeface="Museo Sans Rounded 900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68200" y="5562360"/>
            <a:ext cx="10566360" cy="327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0825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MUDr. Simona Papežová / Bc. Vanda Horná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Ministerstvo zdravotnictví ČR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14. 6. 2016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Rada vlády pro seniory a stárnutí popula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101600" y="339840"/>
            <a:ext cx="514368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Cíle Národního akčního plánu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75880" y="1563840"/>
            <a:ext cx="11302920" cy="733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ajištění včasné a správné diagnózy syndromu demen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Úhrada léčby z veřejného zdravotního pojišt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lepšení přístupu k vhodné péči, zajištění vhodné péče a její koordina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výšení podpory pro pečovatel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ajištění edukace rodinných pečujících </a:t>
            </a:r>
            <a:br>
              <a:rPr sz="3600"/>
            </a:b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 asistentů sociální péč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revence v rámci zdravotních a sociálních služeb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výšení povědomí široké veřejnosti </a:t>
            </a:r>
            <a:br>
              <a:rPr sz="3600"/>
            </a:b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 onemocn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A674-8A71-4448-834C-7F4A56C70F8B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08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Cíle Národního akčního plánu II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75880" y="1852560"/>
            <a:ext cx="11302920" cy="70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ýchova k ohleduplnosti vůči seniorům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odpora a rozvoj vzdělávání pro profesionální pečujíc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zdělávání pracovníků ve školství a veřejném sektoru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Koordinované úsilí v oblasti výzkumu včetně využití již dostupných výsledků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rganizace epidemiologického dozoru a sledová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apojení ČR do evropské spoluprá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1EE1-BE90-41D9-9694-268C13249068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00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Aktuální stav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75880" y="2068560"/>
            <a:ext cx="11302920" cy="683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lnění některých cílů bude probíhat v rámci  pracovní skupiny pro neurodegenerativní onemocnění  (SRPP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Tím se dostáváme ke geriatrické problematice transformace psychiatrických služeb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ochází k posunu směrem k terénní psychiatrii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o systému by v souladu s cílem 3. mělo dojít k zapojení terénních psychiatrických sester (sestra pro péči v psychiatrii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387A-A748-49F9-A2E9-B0A8C2DB3536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Změny v síti psychiatrické péče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85600" y="2068200"/>
            <a:ext cx="1130292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Museo Sans Rounded 700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kutní oddělení v rámci VN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sychiatrická nemocnice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CDZ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mbulantní péče,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mbulance s rozšířenou péčí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 duševně nemocné  - přesun péče do komunity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 pomocí a podporou psychiatrických sester, sociálních pracovníků a dalších specialistů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7997-9DE2-4FBE-8092-7EFFAC9A30C6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85600" y="163656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 současné době probíhají jednání na úrovni krajských úřadů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ýstupem by měl být 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trategický plán psychiatrické péče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 kraji v návaznosti na SRPP (transformační plán psychiatrických nemocnic v návaznosti na rozvoj dalších složek psychiatrické péče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ktualizace kapitol zdravotního a střednědobého plánu sociálních služeb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BEA0-BEDA-4862-8927-C9559E9B86CD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85600" y="773280"/>
            <a:ext cx="11302920" cy="122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Ukázka práce na udržitelném financování – </a:t>
            </a:r>
            <a:br>
              <a:rPr sz="3600"/>
            </a:br>
            <a:r>
              <a:rPr b="1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odb. 914 – psychiatrická sestra</a:t>
            </a: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85600" y="2068200"/>
            <a:ext cx="11302920" cy="748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Zavedení/ukončení individuální psychiatrické rehabilitace, konzultace, administrativní činnost psychiatrické sestry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sychiatrická rehabilitace individuální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Terénní krizová intervence prováděná psychiatrickou sestrou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sychoterapeutické činnosti poskytované sestrou (pod odborným vedením a indikací psychiatra či psychologa)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Sociální šetření a objektivní anamnéza v pacientově prostředí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Edukace psychiatrickou sestrou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Reedukace psychiatrickou sestrou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Museo Sans Rounded 700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C962-8EE1-4BF8-ABFE-A697EFFCD4F9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08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Souhrn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13960" y="2428560"/>
            <a:ext cx="11302920" cy="591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RPP řeší problematiku duševních onemocnění komplexně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Jsme na počátku procesu, který by měl kvalitativně změnit péči poskytovanou duševně nemocným všech věkových skupin a diagnostického spektra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ůležitá je koordinovaná a provázaná změna ve všech oblastech péče o duševně nemocné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5A09-366A-49E9-8AC9-16166A50B2E7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70c0"/>
                </a:solidFill>
                <a:latin typeface="Museo Sans Rounded 300"/>
              </a:rPr>
              <a:t>Zvýšení </a:t>
            </a:r>
            <a:r>
              <a:rPr b="1" lang="cs-CZ" sz="4400" spc="-1" strike="noStrike">
                <a:solidFill>
                  <a:srgbClr val="0070c0"/>
                </a:solidFill>
                <a:latin typeface="Museo Sans Rounded 300"/>
              </a:rPr>
              <a:t>kvality</a:t>
            </a:r>
            <a:r>
              <a:rPr b="1" lang="cs-CZ" sz="4000" spc="-1" strike="noStrike">
                <a:solidFill>
                  <a:srgbClr val="0070c0"/>
                </a:solidFill>
                <a:latin typeface="Museo Sans Rounded 300"/>
              </a:rPr>
              <a:t> života duševně nemocných – globální cíl našeho společného snažení</a:t>
            </a:r>
            <a:endParaRPr b="0" lang="en-US" sz="40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8274-B3A4-4200-815F-3764AE6A9829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1389240" y="2459160"/>
            <a:ext cx="10383840" cy="727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Děkuji za Vaši pozornost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85600" y="1923840"/>
            <a:ext cx="11302920" cy="591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Simona Papežová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simona.papezova</a:t>
            </a:r>
            <a:r>
              <a:rPr b="0" lang="en-US" sz="3800" spc="-1" strike="noStrike">
                <a:solidFill>
                  <a:srgbClr val="000000"/>
                </a:solidFill>
                <a:latin typeface="Museo Sans Rounded 700"/>
              </a:rPr>
              <a:t>@</a:t>
            </a: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mzcr.cz 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Vanda Horná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vanda.horna</a:t>
            </a:r>
            <a:r>
              <a:rPr b="0" lang="en-US" sz="3800" spc="-1" strike="noStrike">
                <a:solidFill>
                  <a:srgbClr val="000000"/>
                </a:solidFill>
                <a:latin typeface="Museo Sans Rounded 700"/>
              </a:rPr>
              <a:t>@</a:t>
            </a: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mzcr.cz 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A8AA-688E-4A25-8D3A-3EA0F51343B1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165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Hlavní cíl SRPP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75880" y="2355840"/>
            <a:ext cx="11302920" cy="6546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osun péče co nejblíže do vlastního sociálního prostředí pacienta (komunitní – terénní péče)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ůraz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na destigmatizaci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umanizaci péč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respektování potřeb pacienta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lepšení dostupnosti i kvality péče 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včas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ý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záchyt a včas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léčb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vážně duševně nemocných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8426-45E5-4784-9922-2FCBD31EF4EA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Geneze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13960" y="213984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říjen 2013 – Strategie schválena  ministrem zdravotnictví Martinem Holcátem, MBA. 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nyní jsme v první fázi procesu implementace: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lvl="2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niciace a zajištění podmínek</a:t>
            </a: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2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I. Realizace</a:t>
            </a: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2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II. Vyhodnocení a evaluace</a:t>
            </a: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marL="254160" indent="-254160" algn="just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18AB-871F-44AF-8810-D10122BDF9F8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Geneze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6880" y="1924200"/>
            <a:ext cx="1130292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schváleno institucionální ukotvení 8 pracovních skupin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inklusivní přístup zachován i v procesu implementa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700"/>
              </a:rPr>
              <a:t>v roce 2015 byly k reformě jmenovány další 3 skupiny: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Museo Sans Rounded 300"/>
              </a:rPr>
              <a:t>PS pro neurodegenerativní onemocn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PS pro problematiku dětské a dorostové psychiatri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PS pro problematiku závislostí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47EC-AD02-4B72-89A3-8309AED42C0D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75880" y="2212920"/>
            <a:ext cx="11302920" cy="669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CA2C-5AA6-409E-A6AF-803A1FDFB1FA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461960" y="1060560"/>
            <a:ext cx="10031400" cy="759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165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Rok 2015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75880" y="2644560"/>
            <a:ext cx="11302920" cy="625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oučasně na MZ pracovala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v 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loňské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roc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Mezirezortní a mezioborová skupina pro přípravu Národního akčního plánu pro Alzheimerovu nemoc a další obdobná onemocn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Účelem akčního plánu je zajistit odpovídající péči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 pacienty ve všech stadiích tohoto závažného onemocnění, podle potřeb, které průběh onemocnění přináší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1E82-FCAD-482D-A19F-0A6FBA97967F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3960" y="988920"/>
            <a:ext cx="11302920" cy="100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6666"/>
                </a:solidFill>
                <a:latin typeface="Museo Sans Rounded 300"/>
              </a:rPr>
              <a:t>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Rok 2016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72880" y="1924200"/>
            <a:ext cx="11302920" cy="707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Dne 3.2.2016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Vláda svým usnesením přijala Národní akční plan pro Alzheimerovu nemoc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a další obdobná onemocněnéná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a léta 2016 -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2019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dkaz na Národní akční plán: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zcr.cz/Odbornik/dokumenty/narodni-akcni-plan-pro-alzheimerovu-nemoc-a-dalsi-obdobna-onemocneni-na-leta-201_11429_2785_3.html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098A-B0EF-490D-A6B7-430A3B1D6912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Museo Sans Rounded 300"/>
              </a:rPr>
              <a:t>Usnesení č. 85 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90BC-DC19-4750-A478-5BF7135C88ED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2" name="Zástupný symbol pro obsah 6" descr="Bez názvu.png"/>
          <p:cNvPicPr/>
          <p:nvPr/>
        </p:nvPicPr>
        <p:blipFill>
          <a:blip r:embed="rId1"/>
          <a:stretch/>
        </p:blipFill>
        <p:spPr>
          <a:xfrm>
            <a:off x="2901960" y="1827360"/>
            <a:ext cx="6232680" cy="707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4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6666"/>
                </a:solidFill>
                <a:latin typeface="Arial"/>
                <a:ea typeface="Arial"/>
              </a:rPr>
              <a:t>Národní akční plán </a:t>
            </a:r>
            <a:r>
              <a:rPr b="1" lang="cs-CZ" sz="3600" spc="-1" strike="noStrike">
                <a:solidFill>
                  <a:srgbClr val="666666"/>
                </a:solidFill>
                <a:latin typeface="Arial"/>
                <a:ea typeface="Arial"/>
              </a:rPr>
              <a:t>byl </a:t>
            </a:r>
            <a:r>
              <a:rPr b="1" lang="en-GB" sz="3600" spc="-1" strike="noStrike">
                <a:solidFill>
                  <a:srgbClr val="666666"/>
                </a:solidFill>
                <a:latin typeface="Arial"/>
                <a:ea typeface="Arial"/>
              </a:rPr>
              <a:t>tvořen </a:t>
            </a:r>
            <a:r>
              <a:rPr b="0" lang="en-GB" sz="3600" spc="-1" strike="noStrike">
                <a:solidFill>
                  <a:srgbClr val="666666"/>
                </a:solidFill>
                <a:latin typeface="Arial"/>
                <a:ea typeface="Arial"/>
              </a:rPr>
              <a:t>ve spolupráci s</a:t>
            </a:r>
            <a:r>
              <a:rPr b="0" lang="cs-CZ" sz="3600" spc="-1" strike="noStrike">
                <a:solidFill>
                  <a:srgbClr val="666666"/>
                </a:solidFill>
                <a:latin typeface="Arial"/>
                <a:ea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75880" y="1923840"/>
            <a:ext cx="11302920" cy="697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nisterstvem práce a sociálních věc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nisterstvem školství, mládeže a tělovýchovy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zástupc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Sdružení měst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obcí, krajů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ástupci zdravotních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pojišťoven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ástupci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odborných společností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(neurologická, psychiatrická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0D3-6984-4314-A8C3-B61A4F42E65C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20:36:45Z</dcterms:created>
  <dc:creator>Duškov Ivan PhDr.</dc:creator>
  <dc:description/>
  <dc:language>en-US</dc:language>
  <cp:lastModifiedBy>Horná Vanda</cp:lastModifiedBy>
  <dcterms:modified xsi:type="dcterms:W3CDTF">2016-06-13T10:57:06Z</dcterms:modified>
  <cp:revision>199</cp:revision>
  <dc:subject/>
  <dc:title>Sociální dopady Národního plánu péče o osoby s duševním onemocněním</dc:title>
</cp:coreProperties>
</file>