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49B7-B4E7-419E-9C95-2F1450569811}" type="datetime">
              <a:rPr b="0" lang="en-US" sz="1200" spc="-1" strike="noStrike">
                <a:solidFill>
                  <a:srgbClr val="000000"/>
                </a:solidFill>
                <a:latin typeface="Gill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6520-3C7C-4B4F-85EC-B5CB45A1E99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D47A-4BF1-4CD2-B94D-19ADACBD0A30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C02F-AE9A-4423-A733-3A23848EF7B3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E552-A46A-4328-A589-422AE3A2C4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87C7-9861-4DDB-BB9D-91ADFB0604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AD2C-6C6E-4DFF-9FAC-BE3A566896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789A-9E22-448F-93AD-E47F3C1C23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3ECE-E1BF-4F94-85AD-DE937E0E7A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FDC5-CD3A-4D4B-9854-9ACF62F521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8186-E9DF-41F0-9B0D-F4635B145E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467F-0E98-4B89-9F37-9AC976FB11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AEF5-D44A-484B-B03C-4A375675F1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50DC-FFA3-4071-B92B-01E04BA379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3A20-DF9F-4521-B696-61C382C904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5465-5162-4765-9F5B-540C82AEA3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7CA5-79BA-402B-AFB5-F5FDBE8033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0B25-126E-4E9E-A869-CE9B5DCB35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4B0E-B89A-49FE-9327-9DF8026618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2CFE-C6E4-4C8A-AF35-67467A64FC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A0EA-1EEE-4AEA-AD43-CBD38A32D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FBEE-1448-4D53-B735-7B994FA8B6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7E2B-AA36-46E1-8683-76F7BE218D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8481-45E4-49FE-BD07-07F7EEDAF7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1B69-2EFD-4C62-BC91-646AFEC175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CA47-A9A9-4370-8863-F951BC6258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AF2B-3013-4205-96B0-8783F1414A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61E0-1966-4883-A46E-83007C42B3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0240" y="1700280"/>
            <a:ext cx="13053960" cy="3443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2000"/>
          </a:bodyPr>
          <a:p>
            <a:pPr marL="2124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212400" indent="-212400"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8200" y="2603520"/>
            <a:ext cx="10566360" cy="165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184480" y="406440"/>
            <a:ext cx="40766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300"/>
              </a:rPr>
              <a:t>Strategie reformy psychiatrické péč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1168560" y="40644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9893160" y="622440"/>
            <a:ext cx="18288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45720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242160" y="306000"/>
            <a:ext cx="5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1609-1D57-4884-82AB-B4310F18F9F3}" type="slidenum">
              <a:rPr b="0" lang="en-US" sz="1800" spc="-1" strike="noStrike">
                <a:solidFill>
                  <a:srgbClr val="666666"/>
                </a:solidFill>
                <a:latin typeface="Museo Sans Rounded 300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8840" y="914040"/>
            <a:ext cx="1130328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76240" y="3479760"/>
            <a:ext cx="7112160" cy="542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1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4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5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6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  <a:ea typeface="ヒラギノ角ゴ ProN W3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0112040" y="306000"/>
            <a:ext cx="227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  <a:ea typeface="ヒラギノ角ゴ ProN W3"/>
              </a:rPr>
              <a:t>Pracovní skupina 15.5.201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83A0-B642-476A-BFF1-5CB60DAAD4D5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8200" y="2590920"/>
            <a:ext cx="10566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Strategie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reformy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sychiatrické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éče</a:t>
            </a:r>
            <a:br>
              <a:rPr sz="4800"/>
            </a:b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a geriatrická problematika transformace psychiatrických služeb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82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UDr. Simona Papežová / Bc. Vanda Horná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inisterstvo zdravotnictví ČR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14. 6. 2016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Rada vlády pro seniory a stárnutí popul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101600" y="339840"/>
            <a:ext cx="514368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75880" y="1563840"/>
            <a:ext cx="11302920" cy="733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včasné a správné diagnózy syndromu demen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Úhrada léčby z veřejného zdravotního pojišt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lepšení přístupu k vhodné péči, zajištění vhodné péče a její koordin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dpory pro pečovatel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edukace rodinných pečujících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 asistentů sociální péč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revence v rámci zdravotních a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vědomí široké veřejnosti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B981-9174-4EBA-AC91-3B4C6C98BAA1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 II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75880" y="1852560"/>
            <a:ext cx="11302920" cy="70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chova k ohleduplnosti vůči seniorům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odpora a rozvoj vzdělávání pro profesionální pečují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zdělávání pracovníků ve školství a veřejném sektoru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Koordinované úsilí v oblasti výzkumu včetně využití již dostupných výsledk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rganizace epidemiologického dozoru a sledová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pojení ČR do evropské spoluprá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631C-546E-4DB4-99D1-A874307AE908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0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Aktuální stav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75880" y="2068560"/>
            <a:ext cx="11302920" cy="683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lnění některých cílů bude probíhat v rámci  pracovní skupiny pro neurodegenerativní onemocnění  (SRPP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Tím se dostáváme ke geriatrické problematice transformace psychiatrický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chází k posunu směrem k terénní psychiatrii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 systému by v souladu s cílem 3. mělo dojít k zapojení terénních psychiatrických sester (sestra pro péči v psychiatrii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D5F3-8643-4295-9105-665D9341B680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Změny v síti psychiatrické péč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85600" y="2068200"/>
            <a:ext cx="1130292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Museo Sans Rounded 700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utní oddělení v rámci VN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sychiatrická nemocnice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CDZ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tní péče,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ce s rozšířenou péčí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duševně nemocné  - přesun péče do komunity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 pomocí a podporou psychiatrických sester, sociálních pracovníků a dalších specialistů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1C48-C92E-49DF-B16F-CE1A5EFC9871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85600" y="163656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 současné době probíhají jednání na úrovni krajských úřad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stupem by měl být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trategický plán psychiatrické péče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 kraji v návaznosti na SRPP (transformační plán psychiatrických nemocnic v návaznosti na rozvoj dalších složek psychiatrické péče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tualizace kapitol zdravotního a střednědobého plánu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DB5F-0D20-4A08-B851-41916CAC51B8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85600" y="773280"/>
            <a:ext cx="11302920" cy="122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Ukázka práce na udržitelném financování – </a:t>
            </a:r>
            <a:br>
              <a:rPr sz="3600"/>
            </a:b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odb. 914 – psychiatrická sestra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85600" y="2068200"/>
            <a:ext cx="11302920" cy="748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avedení/ukončení individuální psychiatrické rehabilitace, konzultace, administrativní činnost psychiatrické sestry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iatrická rehabilitace individuáln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erénní krizová intervence prováděná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oterapeutické činnosti poskytované sestrou (pod odborným vedením a indikací psychiatra či psychologa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Sociální šetření a objektivní anamnéza v pacientově prostřed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Re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Museo Sans Rounded 700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4AD6-917C-4B78-9E7B-67072D3267D2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Souhrn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13960" y="242856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RPP řeší problematiku duševních onemocnění komplexně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Jsme na počátku procesu, který by měl kvalitativně změnit péči poskytovanou duševně nemocným všech věkových skupin a diagnostického spektra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ůležitá je koordinovaná a provázaná změna ve všech oblastech péče o duševně nemocné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0852-0931-4617-97E4-1945D6C17BDF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Zvýšení </a:t>
            </a: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kvality</a:t>
            </a: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 života duševně nemocných – globální cíl našeho společného snažení</a:t>
            </a:r>
            <a:endParaRPr b="0" lang="en-US" sz="40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3C59-19AF-490D-AC3F-78C1CCE8278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389240" y="2459160"/>
            <a:ext cx="10383840" cy="727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Děkuji za Vaši pozornost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85600" y="192384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 Papežov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.papezov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 Horn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.horn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2DEF-D248-47FC-97F5-EB3B2E0198D2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Hlavní cíl SRPP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75880" y="2355840"/>
            <a:ext cx="11302920" cy="654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osun péče co nejblíže do vlastního sociálního prostředí pacienta (komunitní – terénní péče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ůra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na destigmatizaci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umanizaci péč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respektování potřeb pacienta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lepšení dostupnosti i kvality péče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záchyt a 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léč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vážně duševně nemocných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CD38-53E0-4FA9-B2FA-32F1208C3E11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3960" y="213984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říjen 2013 – Strategie schválena  ministrem zdravotnictví Martinem Holcátem, MBA.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nyní jsme v první fázi procesu implementace: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niciace a zajištění podmínek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. Realiz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I. Vyhodnocení a evalu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marL="254160" indent="-254160"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8721-8019-428D-89F9-D40929742A4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6880" y="1924200"/>
            <a:ext cx="1130292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schváleno institucionální ukotvení 8 pracovních skupi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inklusivní přístup zachován i v procesu implement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700"/>
              </a:rPr>
              <a:t>v roce 2015 byly k reformě jmenovány další 3 skupiny: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Museo Sans Rounded 300"/>
              </a:rPr>
              <a:t>PS pro neurodegenerativní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dětské a dorostové psychiatri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závislost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AC02-7DF3-42B2-9746-0FBEC9492CBF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75880" y="2212920"/>
            <a:ext cx="11302920" cy="669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0A39-69C8-4FAC-BBC7-46E4E23E206C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461960" y="1060560"/>
            <a:ext cx="10031400" cy="759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5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75880" y="2644560"/>
            <a:ext cx="11302920" cy="62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oučasně na MZ pracovala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 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loňské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roc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Mezirezortní a mezioborová skupina pro přípravu Národního akčního plánu pro Alzheimerovu nemoc a další obdobná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Účelem akčního plánu je zajistit odpovídající péči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 pacienty ve všech stadiích tohoto závažného onemocnění, podle potřeb, které průběh onemocnění přináš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E82A-E47A-4938-B562-1F9BF30C5977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3960" y="988920"/>
            <a:ext cx="11302920" cy="100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6666"/>
                </a:solidFill>
                <a:latin typeface="Museo Sans Rounded 300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6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72880" y="1924200"/>
            <a:ext cx="11302920" cy="707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ne 3.2.2016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láda svým usnesením přijala Národní akční plan pro Alzheimerovu nemoc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 další obdobná onemocněnéná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a léta 2016 -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2019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dkaz na Národní akční plán: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zcr.cz/Odbornik/dokumenty/narodni-akcni-plan-pro-alzheimerovu-nemoc-a-dalsi-obdobna-onemocneni-na-leta-201_11429_2785_3.html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4316-CB4C-4DD3-96CF-EED8E290B543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Usnesení č. 85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8F60-F47A-409C-9CBF-ED4AA41A6E0A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2" name="Zástupný symbol pro obsah 6" descr="Bez názvu.png"/>
          <p:cNvPicPr/>
          <p:nvPr/>
        </p:nvPicPr>
        <p:blipFill>
          <a:blip r:embed="rId1"/>
          <a:stretch/>
        </p:blipFill>
        <p:spPr>
          <a:xfrm>
            <a:off x="2901960" y="1827360"/>
            <a:ext cx="6232680" cy="707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4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Národní akční plán </a:t>
            </a:r>
            <a:r>
              <a:rPr b="1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byl </a:t>
            </a: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tvořen </a:t>
            </a:r>
            <a:r>
              <a:rPr b="0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ve spolupráci s</a:t>
            </a:r>
            <a:r>
              <a:rPr b="0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75880" y="1923840"/>
            <a:ext cx="11302920" cy="697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práce a sociálních vě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školství, mládeže a tělovýchovy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Sdružení měs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bcí, kraj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zdravotních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pojišťove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dborných společnost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(neurologická, psychiatrická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D05C-D8A4-4DC5-8F85-6B4F3B02DB72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20:36:45Z</dcterms:created>
  <dc:creator>Duškov Ivan PhDr.</dc:creator>
  <dc:description/>
  <dc:language>en-US</dc:language>
  <cp:lastModifiedBy>Horná Vanda</cp:lastModifiedBy>
  <dcterms:modified xsi:type="dcterms:W3CDTF">2016-06-13T10:57:06Z</dcterms:modified>
  <cp:revision>199</cp:revision>
  <dc:subject/>
  <dc:title>Sociální dopady Národního plánu péče o osoby s duševním onemocněním</dc:title>
</cp:coreProperties>
</file>