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EBB-613D-4EEF-B0F1-E356A207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0B0-C8EE-4E9E-B816-C5DB529B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CDC-41CB-46AC-97A2-8B2B40A2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893-8CB8-4AB5-8277-E545A039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E4F0-B6EB-45BD-95A4-F9CEA3A3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8574-C9FA-48BB-99A2-AAD2CFF1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15E2-5236-4535-82FF-A5EFC852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01EA-DF2A-40FE-B93F-F3E7076F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F494-3207-4E93-BA64-92ABF4BE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C2AC-45D4-421D-9117-7F6C4591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DC35-E0B1-44F7-A8D3-F3DBDA27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1B2-B4A2-4C05-A24F-9ACE1E82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B785-6BA7-4DD9-AD91-97BE39B1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89F2-3689-4072-828D-A4B2021F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2C78-51B5-4E84-965F-72974732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6E6D-0DE8-4608-8C49-5368CEE2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D9B5-FDE5-48B2-AA28-04708033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638-C7CB-4DCF-B22B-24F3F3EB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6C8-4F39-4B08-B894-394BE77A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28D-2C10-4E71-997B-FAF0D6D3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102-3623-44C9-9FAF-EF5BB03F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48E-BF52-488C-B39D-5D2A9FBE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8C3-DFC6-4B28-ADB0-6885387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C25-E552-414A-85CB-8D1EEE7D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strana </a:t>
            </a:r>
            <a:fld id="{478D3C1A-890B-4D79-BCBB-8EBFA775F7FB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4572000" cy="227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C:\Users\AVC\Desktop\powerpoint\logo_MENDELU_CMYK_neg1.jpg"/>
          <p:cNvPicPr/>
          <p:nvPr/>
        </p:nvPicPr>
        <p:blipFill>
          <a:blip r:embed="rId2"/>
          <a:stretch/>
        </p:blipFill>
        <p:spPr>
          <a:xfrm>
            <a:off x="285840" y="142920"/>
            <a:ext cx="2428920" cy="2025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82A3-11ED-4670-BC7C-48CD9A6470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2852640"/>
            <a:ext cx="759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8be14"/>
                </a:solidFill>
                <a:latin typeface="Arial"/>
              </a:rPr>
              <a:t>Analýza kvality života seniorů v ČR</a:t>
            </a:r>
            <a:endParaRPr b="1" lang="en-US" sz="40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716280"/>
            <a:ext cx="759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ezentace výsledků projektu TAČR č.TB05MPSV004 „Výzkum v oblasti kvality života seniorů v ČR“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859280" y="2602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11.4.2017,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il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oc. Ing. Lea Kubíčková, Ph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9912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Roční frekvence návštěvy obvodního lékaře ve vztahu ke zdravotnímu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5" name="Zástupný symbol pro obsah 4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704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9EAB6B2D-3858-4AF2-A931-DA97857C0D7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Finanční situace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8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129800" cy="403236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C9DDC588-8B3A-4E5E-9333-1C48D3897D0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zdravotnímu stavu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1" name="Zástupný symbol pro obsah 4" descr=""/>
          <p:cNvPicPr/>
          <p:nvPr/>
        </p:nvPicPr>
        <p:blipFill>
          <a:blip r:embed="rId1"/>
          <a:stretch/>
        </p:blipFill>
        <p:spPr>
          <a:xfrm>
            <a:off x="1332000" y="2292480"/>
            <a:ext cx="6851520" cy="40161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721D2967-0150-433E-B7C7-0D914017D73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velikosti obce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4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7067520" cy="4232160"/>
          </a:xfrm>
          <a:prstGeom prst="rect">
            <a:avLst/>
          </a:prstGeom>
          <a:ln w="0">
            <a:noFill/>
          </a:ln>
        </p:spPr>
      </p:pic>
      <p:sp>
        <p:nvSpPr>
          <p:cNvPr id="12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591C405A-E5F2-4A1F-A3CE-4A464B53F53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ocit bezpečí seniorů s ohledem na to, s kým senior žije, popř. zda žije sám/a</a:t>
            </a:r>
            <a:br>
              <a:rPr sz="2800"/>
            </a:b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7" name="Zástupný symbol pro obsah 4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985080" cy="38876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A7E670E2-FB6D-4FD2-84DF-77FB94BB77F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Důvody, proč se senioři necítí bezpečně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0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996240" cy="3960720"/>
          </a:xfrm>
          <a:prstGeom prst="rect">
            <a:avLst/>
          </a:prstGeom>
          <a:ln w="0">
            <a:noFill/>
          </a:ln>
        </p:spPr>
      </p:pic>
      <p:sp>
        <p:nvSpPr>
          <p:cNvPr id="13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D5DC068C-7D80-4A25-8053-4D3C02F3A81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bezpeč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6840720" cy="4160880"/>
          </a:xfrm>
          <a:prstGeom prst="rect">
            <a:avLst/>
          </a:prstGeom>
          <a:ln w="0">
            <a:noFill/>
          </a:ln>
        </p:spPr>
      </p:pic>
      <p:sp>
        <p:nvSpPr>
          <p:cNvPr id="13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C58A4458-2305-4E76-B256-43979FA9D95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dobrovolnictv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6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55344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0AA15C04-12DC-4ACD-8766-52CC3611B0B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2800"/>
            </a:b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ředčasný odchod do důchodu - motivy</a:t>
            </a: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9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996240" cy="3961080"/>
          </a:xfrm>
          <a:prstGeom prst="rect">
            <a:avLst/>
          </a:prstGeom>
          <a:ln w="0">
            <a:noFill/>
          </a:ln>
        </p:spPr>
      </p:pic>
      <p:sp>
        <p:nvSpPr>
          <p:cNvPr id="14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90D78E72-BA2F-486B-858D-9E5838FE245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356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 - motiv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B582BD04-D8EA-42D8-A0EC-DACFC6C9766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Zástupný symbol pro obsah 6" descr=""/>
          <p:cNvPicPr/>
          <p:nvPr/>
        </p:nvPicPr>
        <p:blipFill>
          <a:blip r:embed="rId1"/>
          <a:stretch/>
        </p:blipFill>
        <p:spPr>
          <a:xfrm>
            <a:off x="971640" y="2739960"/>
            <a:ext cx="72118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číslo snímku 5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FD115986-95EA-45EC-A8FD-882C6FE1EC0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Hlavní cíl projekt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ovést </a:t>
            </a:r>
            <a:r>
              <a:rPr b="1" lang="cs-CZ" sz="3200" spc="-1" strike="noStrike">
                <a:solidFill>
                  <a:srgbClr val="505050"/>
                </a:solidFill>
                <a:latin typeface="Arial"/>
              </a:rPr>
              <a:t>detailní a komplexní analýzu kvality života českých seniorů</a:t>
            </a: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, na jejímž základě bude možno formulovat návrhy, jež by vedly ke zkvalitnění jejich života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– další důvody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45" name="Zástupný symbol pro obsah 4" descr=""/>
          <p:cNvPicPr/>
          <p:nvPr/>
        </p:nvPicPr>
        <p:blipFill>
          <a:blip r:embed="rId1"/>
          <a:stretch/>
        </p:blipFill>
        <p:spPr>
          <a:xfrm>
            <a:off x="1403280" y="2654280"/>
            <a:ext cx="6481800" cy="3727440"/>
          </a:xfrm>
          <a:prstGeom prst="rect">
            <a:avLst/>
          </a:prstGeom>
          <a:ln w="0">
            <a:noFill/>
          </a:ln>
        </p:spPr>
      </p:pic>
      <p:sp>
        <p:nvSpPr>
          <p:cNvPr id="14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7B649BDD-27F8-4C03-9A94-B834F4E02E7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C72DC2D6-D07F-4D38-A168-7EE6E1EF65E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ěkuji Vám za pozornost.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truktura projektu a metod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Analýza dat z výsledků EU SILC,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imární výzkum: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ntitativní část – dotazníkové šetření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 celkem 3071 zpracovaných dotazníků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litativní část – hloubkové rozhovory            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3 cílové skupiny (senioři nad 75 let, kteří odešli v řádném čase do důchodu; senioři, kteří odešli do předčasného důchodu; senioři, kteří setrvávají na trhu práce),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600FC126-A251-4DC4-AE58-1B04432DA34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ýsledky kvantitativního šetřen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Životní situace seniorů a oblast bydlení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ůvody setrvání v zaměstnání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Zdravotní stav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Spojenost s finanční situací u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ocit bezpečí seniorů</a:t>
            </a:r>
            <a:r>
              <a:rPr b="1" i="1" lang="cs-CZ" sz="32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FFE702DF-6882-4BBA-BCB5-8C0A513D6DA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Životní situace seniorů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0" name="Zástupný symbol pro obsah 6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983640" cy="4435200"/>
          </a:xfrm>
          <a:prstGeom prst="rect">
            <a:avLst/>
          </a:prstGeom>
          <a:ln w="0">
            <a:noFill/>
          </a:ln>
        </p:spPr>
      </p:pic>
      <p:sp>
        <p:nvSpPr>
          <p:cNvPr id="10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5AFCCAED-F2DA-4B9D-A876-ADC45D10F78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Oblast bydlení seniorů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1903320"/>
            <a:ext cx="7201080" cy="44053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29C4635F-1031-4C7B-990B-8F2D97E8666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ercepce odchodu  do důchodu – vazba na vzdělání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6" name="Zástupný symbol pro obsah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8508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6B32360F-14F0-45D2-8D32-E4EDE8DB6AD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69962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8be14"/>
                </a:solidFill>
                <a:latin typeface="Arial"/>
              </a:rPr>
              <a:t>Typický respondent pro jednotlivé důvody setrvání/nesetrvání v zaměstnání</a:t>
            </a:r>
            <a:endParaRPr b="1" lang="en-US" sz="2400" spc="-1" strike="noStrike">
              <a:solidFill>
                <a:srgbClr val="78be14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7600" y="2122560"/>
          <a:ext cx="8331120" cy="4403520"/>
        </p:xfrm>
        <a:graphic>
          <a:graphicData uri="http://schemas.openxmlformats.org/drawingml/2006/table">
            <a:tbl>
              <a:tblPr/>
              <a:tblGrid>
                <a:gridCol w="3867120"/>
                <a:gridCol w="4464000"/>
              </a:tblGrid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, protože mi důchod nepostačuje na pokrytí životní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mít vyšší životní úrov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žije s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6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být mezi lid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práce mě ba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vysokoškolské vzdělání</a:t>
                      </a: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z jiných důvo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Žena ve věku 66-70 let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má střední vzdělání s maturitou a žije s 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6C1D7DE4-58F5-4252-8399-595AC41DB5D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nímání zdravotního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2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292480"/>
            <a:ext cx="6996240" cy="4016160"/>
          </a:xfrm>
          <a:prstGeom prst="rect">
            <a:avLst/>
          </a:prstGeom>
          <a:ln w="0">
            <a:noFill/>
          </a:ln>
        </p:spPr>
      </p:pic>
      <p:sp>
        <p:nvSpPr>
          <p:cNvPr id="113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8AFCEB50-B2A8-405D-9C96-D831965FE2B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František Dařena</dc:creator>
  <dc:description/>
  <dc:language>en-US</dc:language>
  <cp:lastModifiedBy>Lea</cp:lastModifiedBy>
  <dcterms:modified xsi:type="dcterms:W3CDTF">2017-04-10T05:54:11Z</dcterms:modified>
  <cp:revision>23</cp:revision>
  <dc:subject/>
  <dc:title>Snímek 1</dc:title>
</cp:coreProperties>
</file>