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9928225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369-C356-4EB3-972F-F379BCE4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6D2-2F1B-4BE2-8052-C44754DB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B19-4943-410B-AA37-BD41E4D5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0D4-A33E-4E51-A805-0532624F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732-5C9F-4B67-82F4-875D6A8B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01DD-A413-461C-97DB-C3BC39DC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E866-6462-4CCA-A21F-016DC188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5929-DD00-40BE-8012-8D6A3D37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D0A3-7B8A-4595-AEEB-35E6A1FA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1FD3-29FE-4B34-ADAB-78BA5522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10E-5162-4C35-B1FD-1D2B772A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41C9-1773-4C74-A119-1CEA9877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15B9-8EAA-4BEC-995C-584BABCA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4F53-88E9-4818-8BCE-D063B2A7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6A06-5FB6-4164-B5A3-81C764F5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47FC-FB7E-4419-B220-08272989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CDD6-0E0C-4053-83A9-488D3DE4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B6CD-3D0E-42A9-90C9-705282BF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171-C99E-4F4B-8282-F48B7DAE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5BE-0D10-46B0-9042-E0E0D1ED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6EE-AB6C-485B-AD65-B372B6B8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1555-31C5-4D3F-9044-4BEB9EB1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B18-9BD5-4120-99E1-99A8D5BF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B95-C1F8-4DED-99FB-0CB41E36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5A91-3170-40FF-9865-D6C906A0EC7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3143-1ECE-4B90-94B8-9060D635BC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642E-F4F5-4993-A364-30BC7992B055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6F4E-D139-4A2A-B84C-F508CBF7D40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Daňová problemat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457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Pořízení zboží v rámci E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042920" y="1773360"/>
            <a:ext cx="75614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řízení zboží z jiného členského st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ísto plnění (místo, kde končí přeprava zboží k pořizovateli) -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ísto přiz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ěřování DIČ pro účely DPH prostřednictvím systému 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aň z přidané hodno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042920" y="1773360"/>
            <a:ext cx="756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en z nejdůležitějších příjmů státního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vedení daně pouze z rozdílu ceny mezi vstupy a 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ní se vlastně hrubá marže, tj. ta „přidaná hodnot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Sazba D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042920" y="1773360"/>
            <a:ext cx="756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(EU – minimálně 1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ce 2011 v ČR: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á (EU – minimálně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ce 2011 v ČR: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ánované sazby v Č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1.2012 - 31.12.2012: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20%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 1.1.2013: jednotná sazba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17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Plátce DP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042920" y="1773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átcem daně z přidané hodnoty je každý subjekt se sídlem, provozovnou či místem podnikání registrovaný jako plátce D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Česku se plátcem musí povinně stát subjekt, jehož obrat přesáhl za 12 po sobě jdoucích kalendářních měsíců částku 1 000 000 K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Plátce DP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hlášku k registraci musí podat do 15 dnů po skončení termínu, v němž subjekt překročil stanovený limit a plátcem se stává prvního dne třetího měsíce následujícího po měsíci, ve kterém překročil stanovený obr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ta 10 % ze všech příjmů za období, v němž subjekt měl být plátcem daně a neby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ovolná registrace k 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PH - zdaňovací obdob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042920" y="1773360"/>
            <a:ext cx="756144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§ 99 zák. č. 235/2004 Sb. o dani z přidané hodno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tvrtletní (obrat za předcházející kalendářní rok nedosáhl 10 000 000 Kč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síční (obrat za předcházející kalendářní rok přesáhl 10 000 000 Kč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síční (obrat za předcházející kalendářní rok dosáhl aspoň 2 000 000 Kč a plátce si zvolí tuto zdan. období – oznámit správci nejpozději do 31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ěna zdan. období: oznámit správci do 31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PH - pokračov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042920" y="1773360"/>
            <a:ext cx="7561440" cy="24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: jako jeden subjekt. Zdaňovací období se stanoví ze součtu obratu dosaženého všemi účastníky v rámci sdružení a obratu plátce dosaženého mimo sdruž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příjmy nepodléhají DPH, například nájem nemovit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PH při dovozu a vývoz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042920" y="1773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aplatit ihned nebo až při podávání přiz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od DPH osvobo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a: že kupující nemá v tuzemsku sídlo, místo podnikání, místo pobytu ani provozov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Vrácení DPH při vývoz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042920" y="1773360"/>
            <a:ext cx="756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yzická osoba nemá v ČR trvalý pobyt ani přechodné bydlišt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mětný nákup je uskutečněn v jenom dni u jednoho prodej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zakoupeného zboží včetně DPH je vyšší než 1000 Kč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z zboží je uskutečněn do 30 dnů od doby nákup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ok na vrácení DPH lze uplatnit nejpozději do 3 měsíců od datumu nákupu zbož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4:36Z</dcterms:modified>
  <cp:revision>104</cp:revision>
  <dc:subject/>
  <dc:title>Snímek 1</dc:title>
</cp:coreProperties>
</file>