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77BC-43A1-4AE4-AAAE-DB9D87A5F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6050-D6F9-49AC-961F-0611FE66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F4C3-25D1-4407-BD3F-38302A4B5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C0B0-E5E1-4714-9FA0-FE0EFE6B9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B9C5-E4A8-4D49-ADD0-7902D781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FFC7-3341-430F-A58F-90B6C5DC6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2861-A612-4185-93CB-34A8C880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F702-3672-4408-BB1C-3FCB5445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E07A-56FB-438C-B283-43DD20EA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5DF4C-5318-49FE-B0EB-64EBF047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4E50-2BCC-4C89-A01B-692D2E54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831F-2400-49D7-838D-23DF712A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767E-8FC5-4D9C-A0B5-9C8A1FDE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84DA-B3FB-4454-8338-840882AC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760F-DE29-405E-82EC-C48A4D2E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C919-E0BA-4D6F-8696-2F99CCFD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B5F8-E4B4-4650-96C0-35DC5FDDF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97CE-DC09-40E8-A24E-8C17B27F3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D01A-1C7B-4147-B178-7E5A48F2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41B7-79D7-4CBB-8AFA-E06B2AC9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DC9C-666A-42DE-938E-4B3132A9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94F6-EB14-40A8-BD82-606C430D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05BC-8B32-45C6-9814-A39B490C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13F8-3779-428E-9938-23C58979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0FFE-29D1-479E-97BC-8E3EDF81E17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74F3-02EA-4610-828A-22A9FDF96B7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55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110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A689-C52F-4274-A38E-255BC54D97B6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EA4E-C253-4E3C-974B-44A66F65D2CC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166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856880" y="3890520"/>
            <a:ext cx="65725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éma: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 Zaměstná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Obrázek 2" descr="logo.gif"/>
          <p:cNvPicPr/>
          <p:nvPr/>
        </p:nvPicPr>
        <p:blipFill>
          <a:blip r:embed="rId1"/>
          <a:stretch/>
        </p:blipFill>
        <p:spPr>
          <a:xfrm>
            <a:off x="1619280" y="189000"/>
            <a:ext cx="29620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7. Práce přesč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042920" y="1773360"/>
            <a:ext cx="7561440" cy="51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řízená práce přesčas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nesm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u zaměstnance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činit více než 8 hodin v jednotlivých týdnech a 150 hodin v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kalendářním ro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(§ 93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lkový rozsah práce přesčas nesmí činit v průměru více než 8 hodin týdně v období, které může činit nejvýše 26 týdnů po sobě jdoucí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ční práce je konaná mezi 22. a 6. hodin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§ 78/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zaměstnanec pracující v noci – během noční doby pravidelně odpracuje nejméně 3 hodiny ze své pracovní dob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říplatek nejméně 10% (§ 1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1116000" y="1268280"/>
          <a:ext cx="7273800" cy="4999320"/>
        </p:xfrm>
        <a:graphic>
          <a:graphicData uri="http://schemas.openxmlformats.org/drawingml/2006/table">
            <a:tbl>
              <a:tblPr/>
              <a:tblGrid>
                <a:gridCol w="3889440"/>
                <a:gridCol w="33843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covní smlou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ợp đồ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stave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Điề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městnavat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ủ 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o độ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městnane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gười lao động, nhân viê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ě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 làm việ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covní do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ời gian làm việ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povědět smlouv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ậm dứt hợp đồ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ušební do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ời gian thử việ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5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8. Slovníče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1116000" y="1268280"/>
          <a:ext cx="7273800" cy="5426280"/>
        </p:xfrm>
        <a:graphic>
          <a:graphicData uri="http://schemas.openxmlformats.org/drawingml/2006/table">
            <a:tbl>
              <a:tblPr/>
              <a:tblGrid>
                <a:gridCol w="3889440"/>
                <a:gridCol w="33843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covní 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volen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i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ấy phép lao độ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řad prá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̀ng lao độ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volení k pobytu za účelem zaměstná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iấy phép cư trú với mục đích loa độ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entura prá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ông ty mối giới lao độ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prostředkující služ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̣ch vu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8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8. Slovníče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E-mail liên hệ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jirka.kocourek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@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jirkoc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ngoc@tuvan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1. Úv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1042920" y="1773360"/>
            <a:ext cx="75614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ladní porozumění pojmů zaměstnanec, pracovní smlou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vědomí o legislativ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byt za účelem zaměstn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blémy zaměstnaných cizinc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acovní příležitosti pro cizi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Arial"/>
              </a:rPr>
              <a:t>2. Právní úprava zaměstnávání cizinc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042920" y="1773360"/>
            <a:ext cx="7561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ákladní právní norm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Ústava Č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Listina základních práv a svob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ákoník prá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ákon o zaměstna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3. Zákoník práce a agenturní zaměstnává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1042920" y="1773360"/>
            <a:ext cx="7561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Závislá prá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Pracovně právní vztah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Povolení k obytu za účelem zaměstnávání/Pracovní povolení a Pracovní smlou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V případě zaměstnání u agentury práce nemají cizinci smlouvu s konkrétní továrnou, kde pracují, ale s agenturou prá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Zaměstnanec se nemůže vzdát svých prá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4. Pracovní pomě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042920" y="1773360"/>
            <a:ext cx="75614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Postup před vznikem pracovního poměr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§ 31 ZP – před uzavřením pracovní smlouvy je zaměstnavatel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ovinen seznámi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fyzickou osob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 právy a povinnostm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které by pro ni z pracovní smlouvy, popřípadě ze jmenování na pracovní místo vyplynuly, a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 pracovními podmínkami a podmínkami odměňování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a nichž má práci konat, a povinnostmi, které vyplývají ze zvláštních právních předpisů vztahujících se k práci, která má být předmětem pracovního poměr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4. Pracovní poměr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1042920" y="177336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§ 32 ZP – v případech stanovených zvláštním právním předpisem je zaměstnavatel povinen zajistit, aby se fyzická osoba před uzavřením pracovní smlouvy podrobila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stupní lékařsk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rohlíd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Zkušební doba max. 3 měsí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5. Ukončení pracovního poměr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1042920" y="1773360"/>
            <a:ext cx="756144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Skončení pracovního poměr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hodou (§ 4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povědí (§ 50 nebo § 5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kamžitým zrušením (§ 55, § 5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rušením ve zkušební době (§ 6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covní poměr na dobu určitou končí uplynutím sjednané doby (§ 6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covní poměr cizince končí naví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zrušením povolení k poby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vyhoště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uplynutím doby, na kterou je sjednáno pracovní povo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zrušením platnosti pracovního povo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14320" y="333360"/>
            <a:ext cx="652932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6. Typy dohod - písemn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042920" y="177336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HODA o pracích, konaných mimo pracovní pomě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HODA o provedení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HODA o pracovní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7. Pracovní dob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1042920" y="1773360"/>
            <a:ext cx="7561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élka stanovené týdenní pracovní doby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nesmí překročit 40 hodin týdně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§ 79/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ximální týdenní pracovní doba včetně prací přesčas je 48 ho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ícesměnné provozy – zkrácení až na 37,5 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ci přesčas je možno konat jen výjimečn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ce konaná zaměstnancem na příkaz zaměstnavatele nebo s jeho souhlasem nad stanovenou týdenní pracovní dobu (§ 78/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5:48Z</dcterms:modified>
  <cp:revision>114</cp:revision>
  <dc:subject/>
  <dc:title>Snímek 1</dc:title>
</cp:coreProperties>
</file>