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B2C-8FE2-4CD2-98FB-D49F7FB5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A41-AE0F-4E36-BBC2-4482AEB0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9AD-137D-46E7-8021-8585F8DF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AC1-D98E-47C5-A7E9-D8EFBB69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516-CBB9-4D25-AF25-5DE7FD6A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392-AD63-4940-B10E-8032A311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D415-C9EA-424E-8226-73B78535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45BA-8CE9-4AF9-8D93-F3DD72E2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43E-A1E4-4FA0-86C5-1492C0E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756-9B90-40D2-8E42-628FF3B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01B-D896-4BA2-A32B-484C54F0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594C-65EE-43CA-B22F-6A83A151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8C5-9C01-48FC-B980-392134B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5042-12B2-42B6-A17D-0FCAB56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8EC-A3E7-43EB-B415-D828DD5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CAB1-EEBA-46E1-B96F-93007FE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786-FFC8-4459-AD64-AF85DB9F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354D-AFF8-4694-BC1E-234B0D7F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A16-839C-477C-978F-75F4EC0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520-656D-4214-B678-A2093081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93B-A853-42F8-A3BE-C384D687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B23-E352-49C0-B6A4-20E46BC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D63-837C-41E1-A7FE-C71C5FEA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7DB-BE22-40A5-825B-2DC6F53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529-2FB8-46B1-B1DD-5F90F9012E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539-4185-4A98-8634-BCDA2131B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4A2B-9703-4A06-942E-65B31D60668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682E-DEE3-4558-BE8E-2BD25F0758A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Školstv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116000" y="1612800"/>
          <a:ext cx="7273800" cy="448020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ẫu giáo, mầm 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í dva stupně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ổ thô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c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 sơ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̉u nhi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ểu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í, druhý, třet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ấp I, II,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vzdělávání, třet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ở cấp ngh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116000" y="1773360"/>
          <a:ext cx="7273800" cy="568152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etí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šší odborná šk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o đẳ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g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o đẳ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á šk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ại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ại học tổng hợ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ương trì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ka –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iể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věd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ấy chứnh m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116000" y="1730520"/>
          <a:ext cx="7273800" cy="249876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věd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ằng cấ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ká k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̉ sinh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kovská kníž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ổ liên la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ý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cấp ngh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myšlenky vzdělávání ve VSR a v ČR – Konfucius a Kome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 o projektu vytvářejícím systém odborného vzdělávání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rovnání obou syst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vzdělávání cizinců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Filozofie a met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fucius : důraz na morálku, učení nazpaměť a vyjadřování pí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menský : aplikace a dialog o obsahu, morálka je o vzta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dnes se odráží ve vzdělávacích systémech obou zem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z prax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ystém ve V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vní až  třetí stupeň základního vzděl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dle toho tři stupně odborného vzdělá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šší odborn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 řízením Ministerstva vzdělávání a výchovy, Ministerstva práce, válečných invalidů a sociálních vě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ystém ve V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blémy s aplikací znal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eefektivní přijímání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ůraz na morá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hybí pedagogické dovednosti učitelů a komunikační dovednosti učitelů i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elký zmatek v nutných formalitách, přechodech mezi školami, způsobech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hybí systematická definice šk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Systém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ílá kn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ámcově vzdělávací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Školní vzdělávací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íprava uč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Národnostní menš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kud se ve sčítání lidu přihlásí určité procento k dané národnosti, vzniká právo na vytváření ntříd, škol v mateřském jazyce a založení výboru pro národnostní ot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etnam žádá o zařazení mezi národnostní menš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ou je sdružování a aktivní činnosti občanů ČR vietnamské náro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a dva státy – změny cizineckých zák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Vzdělávání cizinců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mě ojedinělých projektů, neexistuje žádný systematický nástroj výuky češtiny pro děti cizince. Dohání to neziskové organiz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ladších generací dětí to tolik nevadí, ale již od třetí třídy nastávají problémy s efektivní výuk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čitelé nemají potřebné materiá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Cizinci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oslední době mnoho cizinců na povolení ke studiu , i když studovat vůbec nechtěli. Ve chvíli nedodržení účelu pobytu hrozí vyhošt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ušenosti s asistenty na škol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z prax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6:09Z</dcterms:modified>
  <cp:revision>121</cp:revision>
  <dc:subject/>
  <dc:title>Snímek 1</dc:title>
</cp:coreProperties>
</file>