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7A7-E56D-4F8C-B15D-CACF5AF6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6AA-D3E0-4CFF-BE6D-487DDA6B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5FA-4B3A-4718-8E43-466AE825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6DB-A99C-44EE-9E36-778EE320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B34-BAC2-4481-B5C5-BF3138A4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E01-F5A0-4417-8AD0-7FFFBB0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FFD-7F8C-47E0-9505-9522A8F9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0F63-A1C9-4827-853E-A84E2E07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AD1-CDE5-48C0-B952-AA214730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98B5-FA10-4B74-BF3E-525BB70D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CCA7-6258-4051-92B9-DD71FF27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A151-2B3E-41DD-BA84-1DDDBF81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BBBF-FDBD-4703-8CAA-6E01C19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01B0-29E5-46D0-BE1A-9F3BBE3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0776-48FC-4F70-8AD7-50EEF28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D5EE-2077-45A9-812F-CAF37B9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6A79-4E0F-4227-B9DE-F64505CA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FFA9-3DCD-4C5D-B13E-D3734A58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42CE-E27E-4052-B428-034D5E17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BC3-5F3A-4EEE-B02C-16E9BC4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7E76-7EE0-4777-B9C1-7DE40527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775-BDD2-43A1-ABD6-68BFF1B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9A5-5137-4339-B3DD-C1E489F4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65E-282E-4B96-806A-D7BC145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E3C-58F7-43AD-BE19-6E0B095256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66D-2ADC-40C8-AB3F-77B0AC769D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B686-3CBB-44B0-B02C-A07DA699E48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3F3-0586-4DB5-A0CD-40E2E0E76D5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270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400" spc="-1" strike="noStrike">
                <a:solidFill>
                  <a:srgbClr val="990033"/>
                </a:solidFill>
                <a:latin typeface="Verdana"/>
              </a:rPr>
              <a:t>3</a:t>
            </a: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628640"/>
          <a:ext cx="7488360" cy="4464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é 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khai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chứng minh th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naro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ày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ův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ê quá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y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c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̉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žší administrativní jednotky 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ôn, xóm, đô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1628640"/>
          <a:ext cx="7488360" cy="457200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žší jedn. obce pro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ná 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ủy quyề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tné prohláš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c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đo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ítn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̀ chố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jm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ấp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hodn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ết đi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š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ị đi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ěř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ng chứ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400" spc="-1" strike="noStrike">
                <a:solidFill>
                  <a:srgbClr val="990033"/>
                </a:solidFill>
                <a:latin typeface="Verdana"/>
              </a:rPr>
              <a:t>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16000" y="177336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ữ liệu cá nh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síl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gử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poruče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đả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ír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 trả tiề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ưu phẩm\bưu kiệ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6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42920" y="171468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ăng ky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ưu đi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ů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ời ha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aná c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́ được n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ạn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in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ệu lư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́ tri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7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42920" y="171468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 na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ací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đăng ký kết hô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ý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khai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jstřík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h bạ tội phạ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ní rejstř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h bạ thương ma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ivnostenský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ấy phép kinh doa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ká republika, Če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̣ng hoà Sé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8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42920" y="1700280"/>
          <a:ext cx="7488360" cy="388944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ový výbor 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Ủy ban nhân dân xa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o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ịch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seda lidového výbo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ịch Ủy ban nhân d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upitel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i đồng, đại di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tị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á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ng chứng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Ministerstva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42920" y="1628640"/>
          <a:ext cx="7488360" cy="4321440"/>
        </p:xfrm>
        <a:graphic>
          <a:graphicData uri="http://schemas.openxmlformats.org/drawingml/2006/table">
            <a:tbl>
              <a:tblPr/>
              <a:tblGrid>
                <a:gridCol w="3600360"/>
                <a:gridCol w="3888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ộ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ê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Nội vu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Tư phá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S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ao động và xã hô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Công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ươ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Tài chí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Ministerstva 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42920" y="1628640"/>
          <a:ext cx="7488360" cy="3816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Văn hoa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Ngoại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Š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Giáo du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ộ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ông nghiệ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ươ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Công nghiệ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AŽDODENNÍ ŽIVOT A ADMINISTR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2340000" y="556704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né číslo, řidičský průkaz, matriční úřady, sjednání pojištění, banky, finanční transakce, půjčky,úmrtí, sňatek, vyplnění formuláře, orgány státní správy a samospráv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č a jazy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nterkulturní rozdíly v jazy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dentifikace osoby a interkulturní rozdí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h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méno a příjmení – způsoby překl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tum naro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dr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lší úd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byt z hlediska občanské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 cizineckého zák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ÚVOD – pokrač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42560" y="1773360"/>
            <a:ext cx="7743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ystém státní správy ve VSR a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kladní územní a organizační jednot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vincie - Statutární město – Město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ěstečko/městys – Obec – Vesnice/děd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zvy vybraných institu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47640" y="1557360"/>
          <a:ext cx="6767640" cy="457200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é čís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khai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idičský průk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ằng lái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ční úř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òng 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tị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 xã hô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otní 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 y tê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ân hàng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hà b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̀i chí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tb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cướ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mř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ết, mấ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Platby a pošta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16000" y="1773360"/>
          <a:ext cx="7273800" cy="365760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à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ho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ả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žen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ếu trả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ací líst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́u gửi bảo đả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̉ tiền mặ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vod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yển 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itel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ài 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tài 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ba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̃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à b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6264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2. Platby a pošt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ilní 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ã tham chiế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l plat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̣c đích trả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ůlkové pí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ữ in 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vě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́n dụng, vay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r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ền lã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s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ế ch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ấ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ợp đồ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̀n tr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168720"/>
                <a:gridCol w="431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čanský prů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ứng minh th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t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ka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̉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̉o hiểm sức khỏ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ytová kníž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khẩ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chiế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z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̣ thư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ộc\đợt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ểm 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 Č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ảnh sát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 Sé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í polic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ảnh sát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̃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địa phươ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0000" y="1773360"/>
          <a:ext cx="7704360" cy="4144680"/>
        </p:xfrm>
        <a:graphic>
          <a:graphicData uri="http://schemas.openxmlformats.org/drawingml/2006/table">
            <a:tbl>
              <a:tblPr/>
              <a:tblGrid>
                <a:gridCol w="3333960"/>
                <a:gridCol w="4370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ní sprá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̉i q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ivnostenský úř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̀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kinh doa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ệ sinh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ịch t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mulá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ờ khai/tờ mẫ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ávací protok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ên bản bàn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stave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ả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dní tlumoč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ên dịch quốc 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ách\đối tượng\thân ch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49Z</dcterms:modified>
  <cp:revision>117</cp:revision>
  <dc:subject/>
  <dc:title>Snímek 1</dc:title>
</cp:coreProperties>
</file>