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3CAD-CE9C-419D-A6E7-501412DE5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94EB-1CB9-4C12-9ADD-C7718337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0EFD-AD7D-4AFB-81FE-73063E28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AA8E-89AE-4E7F-B21A-9FD997CD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9C2B-2AB7-449E-A095-C3DC1268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E877-08A0-48C3-9171-BCDC94AB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F723-4359-4AFE-B01E-C71B51D8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068D-12A9-427D-9B5D-585090B4D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4528-C347-4BC3-8853-28392A5A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257C-5FFC-4A01-B43D-B595006E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64D3-FDCF-40AE-983F-F0DE5C56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6373-94F6-424A-80E1-64125CE8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FB42-F716-4899-AB3F-29AB0D91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0721-13AB-4AFD-BAC7-E4526F5D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461B-C04A-4200-AD58-50988D60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F0B7-1D02-4A25-B267-52A20D2D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1B4D-810E-4C0B-894C-CC48945A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4840-3EA5-420D-AD6F-E212272F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168E-7BE4-4376-AF7B-D5835FBD0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8F89-3E42-4FF8-955A-B2460FB0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961F-A9B6-40EA-867C-BE055BB7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1C2C-9860-4F96-9770-C5F6B227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5692-B3BA-4EDF-8A55-308A310A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2C36-9369-4098-99F4-68076BB2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5442-34A8-47B6-908E-A748FC056BE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F428-39DA-47CC-B9F9-6F1B210B0D3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895D-FC08-4BC4-9D0D-C691EF804E83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F807-F582-4D9D-B44A-E5CB1A1B8E89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270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ociální tlumočení ve styku s cizin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Obrázek 2" descr="logo.gif"/>
          <p:cNvPicPr/>
          <p:nvPr/>
        </p:nvPicPr>
        <p:blipFill>
          <a:blip r:embed="rId1"/>
          <a:stretch/>
        </p:blipFill>
        <p:spPr>
          <a:xfrm>
            <a:off x="1619280" y="189000"/>
            <a:ext cx="29620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6. Výda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116000" y="1773360"/>
          <a:ext cx="7488360" cy="414468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ăng lượ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ktř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điệ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y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hí đố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tápě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ưở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hiệt sưở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é a stočn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ước dùng và thả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5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7. Okol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1116000" y="1773360"/>
          <a:ext cx="7488360" cy="405432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movní řá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ội quy nhà 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novy družst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điều lệ hợp tác x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àng xó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lečenství vlastníků jednotek (SV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ệp hội các chủ h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lečný pros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hông gian chu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l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ho chứ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áv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ười quản l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9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8. Odp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116000" y="1773360"/>
          <a:ext cx="7488360" cy="5995800"/>
        </p:xfrm>
        <a:graphic>
          <a:graphicData uri="http://schemas.openxmlformats.org/drawingml/2006/table">
            <a:tbl>
              <a:tblPr/>
              <a:tblGrid>
                <a:gridCol w="3960720"/>
                <a:gridCol w="3527640"/>
              </a:tblGrid>
              <a:tr h="572760"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munální odpad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ác thải sinh hoạt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vební odpad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ác thải xây dựng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45080"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mný odpad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ác thải kích thước lớn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elnice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ùng rác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45080"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lkoobjemový kontejner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ông chứa rác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říděný odpad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ác thải phân loại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45080"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doby na tříděný odpad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ùng chứa rác thải phân loại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3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9. Tříděný odp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116000" y="1773360"/>
          <a:ext cx="7488360" cy="362736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pí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ấ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ủy ti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ất dẻ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odp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ác thải sinh họ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pojové karto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ộp giấy đựng đồ uố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7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856880" y="3890520"/>
            <a:ext cx="65725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dej a koupě nemovitos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Obrázek 3" descr="logo.gif"/>
          <p:cNvPicPr/>
          <p:nvPr/>
        </p:nvPicPr>
        <p:blipFill>
          <a:blip r:embed="rId1"/>
          <a:stretch/>
        </p:blipFill>
        <p:spPr>
          <a:xfrm>
            <a:off x="1619280" y="189000"/>
            <a:ext cx="29620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10. Základní poj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116000" y="1557360"/>
          <a:ext cx="7488360" cy="5059440"/>
        </p:xfrm>
        <a:graphic>
          <a:graphicData uri="http://schemas.openxmlformats.org/drawingml/2006/table">
            <a:tbl>
              <a:tblPr/>
              <a:tblGrid>
                <a:gridCol w="3600360"/>
                <a:gridCol w="3888000"/>
              </a:tblGrid>
              <a:tr h="573480"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pní smlouva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ợp đồng mua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ávající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ên bán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pující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ên mua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tastr nemovitosti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h bạ bất động sản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nalecký posudek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đánh giá chuyên viên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vrh na vklad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đề nghị ghi tên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45800"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pis do katastru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hi danh bạ bất động sản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chova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ửi tiền giữ hộ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3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E-mail liên hệ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jirka.kocourek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@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jirkoc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ngoc@tuvan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Obrázek 3" descr="logo.gif"/>
          <p:cNvPicPr/>
          <p:nvPr/>
        </p:nvPicPr>
        <p:blipFill>
          <a:blip r:embed="rId1"/>
          <a:stretch/>
        </p:blipFill>
        <p:spPr>
          <a:xfrm>
            <a:off x="1619280" y="189000"/>
            <a:ext cx="29620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856880" y="3890520"/>
            <a:ext cx="65725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000" spc="-1" strike="noStrike">
                <a:solidFill>
                  <a:srgbClr val="000000"/>
                </a:solidFill>
                <a:latin typeface="Verdana"/>
              </a:rPr>
              <a:t>BYDLEN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Obrázek 2" descr="logo.gif"/>
          <p:cNvPicPr/>
          <p:nvPr/>
        </p:nvPicPr>
        <p:blipFill>
          <a:blip r:embed="rId1"/>
          <a:stretch/>
        </p:blipFill>
        <p:spPr>
          <a:xfrm>
            <a:off x="1619280" y="189000"/>
            <a:ext cx="2962080" cy="148428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3"/>
          <p:cNvSpPr/>
          <p:nvPr/>
        </p:nvSpPr>
        <p:spPr>
          <a:xfrm>
            <a:off x="2340000" y="5951160"/>
            <a:ext cx="56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Calibri"/>
              </a:rPr>
              <a:t>nájemní smlouva, výpovědní lhůta, jednotlivé poplatky, úklid, domovní řá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ÚV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áležitosti nájemní a kupní smlouv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dentifikace subjektů ve smlouvě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působ platby a komunik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dresa a právní důsledky registrace adresy trvalého bydliště či místa podnikání či provozovn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eklad adres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blémy se smlouvami a hlášením trvalého bydliště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1. Základní poj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476360" y="1773360"/>
          <a:ext cx="6767640" cy="4144680"/>
        </p:xfrm>
        <a:graphic>
          <a:graphicData uri="http://schemas.openxmlformats.org/drawingml/2006/table">
            <a:tbl>
              <a:tblPr/>
              <a:tblGrid>
                <a:gridCol w="3384720"/>
                <a:gridCol w="33829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yd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hà 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bytová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ng cấp chỗ 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ytový pros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hông gian để 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ytová jednot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đơn vị nhà 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dinný dů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hà riê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elový dů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hà lắp ghé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inžovní dů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hu căn h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ídlišt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hu chung c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1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2. Subjek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116000" y="1773360"/>
          <a:ext cx="7273800" cy="4144680"/>
        </p:xfrm>
        <a:graphic>
          <a:graphicData uri="http://schemas.openxmlformats.org/drawingml/2006/table">
            <a:tbl>
              <a:tblPr/>
              <a:tblGrid>
                <a:gridCol w="3889440"/>
                <a:gridCol w="33843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y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ăn h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jem by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ê nh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jitel, vlastní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ủ nh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luvlastní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đồng chủ nh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jemní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ười thuê nh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ytové družst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ợp tác xã nhà 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žstevní by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ăn hộ hợp tác x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yt v osobním vlastnictv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ăn hộ sở hữu cá th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5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3. Vzta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116000" y="1773360"/>
          <a:ext cx="7488360" cy="414468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j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o thu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náj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ê lạ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jemní smlou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ợp đồng thuê nh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nájemní smlou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ợp đồng thuê lạ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ávo používá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yền sử dụ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ej a nák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a và bá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9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602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4. Náležitosti smlouv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1116000" y="1773360"/>
          <a:ext cx="7488360" cy="466380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najímat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ười cho thu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ười thu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dmět nájm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đối tượng cho thu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ba nájm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ời gian thu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še nájemnéh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ức tiền thu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stina, kau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ền đặt cọ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a úhr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ình thức thanh toá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kvence úhr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ần số thanh toá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3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602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4. Náležitosti (pokr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116000" y="1773360"/>
          <a:ext cx="7488360" cy="414468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áva a povinnos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yền và nghĩa v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k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ế tà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pově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áo hủy hợp đồ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povědní lhů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ời hạn hủy hợp đồ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dávací protok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ên bản bàn gia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7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5. Platb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116000" y="1773360"/>
          <a:ext cx="7488360" cy="414468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jemn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ền thuê nh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ka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ền dịch v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st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ền đặt cọ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latk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ác lệ ph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latek za odp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ệ phí đổ rá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kl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ét dọ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1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4:06Z</dcterms:modified>
  <cp:revision>98</cp:revision>
  <dc:subject/>
  <dc:title>Snímek 1</dc:title>
</cp:coreProperties>
</file>