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ED0-8485-4042-874B-191E9A3F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BD7-DFF6-4773-9B7F-C563EF3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47E-CB94-4182-B5CA-347748B9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4E5-3321-47A3-986A-46DEC556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2AB-5410-4527-A586-1A77F4A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2903-C659-4A70-A82B-F75CB1AB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67A-C768-43E2-B562-C666A47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A33-148D-4D48-98B7-7C16A03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66A-09FF-49D4-87DA-44D778D9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B3D9-FBBD-419A-A62A-BB9B456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4B8-0EE8-43C7-A74D-8F2A5EF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5B7-C90F-4181-BB7E-2F77CE9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72B-B337-4F89-995F-7A7A881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415-12BA-41C2-93CD-9C3E9DE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2075-807F-47C9-A85A-7F090E0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D48-6E68-483B-BCA3-9B8349B3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542-898C-426C-A4CF-A70E65EB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67C-8D47-4C2B-BB8F-0381680B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596-A454-4BE7-9411-B28C8012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784-A734-4536-A14A-D3E190F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D8F-7A10-48B3-A9CB-94203ED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4BC-D2BD-4AF2-AB29-FC62DC2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D8A-897B-41E0-B322-87B03D3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2FB-2EA1-43FF-ACD0-1DD5A98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D3B-0A03-4812-B8AE-2D50AA8A00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8E0-3BE5-45DE-AAA5-E241F52037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B06-07FF-467E-81E4-ED4AF14CE71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9C0-8CFE-419B-B4A9-92F57EF3EF1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Sociální zabezpe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ČSS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zemní přísluš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 zaměstnance hradí část zaměstnavatel a část zaměstnavatel za zaměst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atel hradí dle svého pří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hlašování a odhlašování při změně trvalého bydliště nebo sídla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innost platit do určitého konkrétního dne v měsíci – nestačí zaplatit jednorázově po termí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ílání výpisu a zpráv – kontaktní ad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zabezpečení a sociá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áce ve VSR a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sociální práce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ostřed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práce s cílovou skup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moderních právních poj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pojmů: pomoc, podpora,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 sociální práce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ojektový jazyk v oblasti sociálnínch vě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měr, cíl, aktivita, výstup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klad projektové závěrečné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ní zaměstnanců a podnikate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nostenský podnikatel provozuje živnost samostatně, vlastním jménem a na vlastní odpovědnost. V rámci své činnosti je odpovědný za plnění svých povinnosti vůči úřadů, zejmé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Živnostenské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České správě soci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ihlášku k důchodovému pojištění a následně odvádět pojistné na důchodové pojištění a státní politiku zaměstna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ZV. minimální zá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čítá se 29,2% z vyměřovacího základu (50% z daňového základu, t.j. příjem – výd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známit ukončení  samostatné výdělečné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lnění uváděných povinností může mít vliv i na prodloužení povolení k dlouhodobému pobytu za účelem podnik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dravot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 veřejného zdravotního pojištění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uvní zdravotní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ze pojišťovny oprávněné provozovat t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dle seznam České národní ba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inec-zaměstnanec je účasten systému veřejného zdravotního pojištění, ale jeho rodinní příslušníci včetně děti narozených na území ČR si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us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jistit komerční poji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Sociál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chodov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ocensk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v nezaměst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vky sociální péče pro osoby se zdravotním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trvalý pobyt, občan EU, dle konkrétních předpisů – pracující, rodinný příslušník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v hmotné nou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říspěvek na životby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doplatek na byd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imořádná okamžitá pod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c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 let pobytu, nebo 15 let pobytu a alespoň 6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sociál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davek na dítě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rodičovský příspěv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ociální příplat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spěvek na bydlení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rod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hřeb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dávky pěstounské pé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25Z</dcterms:modified>
  <cp:revision>123</cp:revision>
  <dc:subject/>
  <dc:title>Snímek 1</dc:title>
</cp:coreProperties>
</file>