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EE9-3EAA-4EC3-BA22-F34FBEE1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11A-89E9-4896-BB4C-1B980AF8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42D-9A3F-45EC-AA1C-CA148690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B8D-33FD-4055-ACFA-EFF37168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1DB-03FE-48F2-92B9-C1DA719E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7372-2BBE-4394-9D92-3A4A579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7555-340E-472C-9460-A0C1C570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686B-5C24-4BA8-8573-9BA15EB8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C19F-7242-4C4C-936F-54F12B7D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A51A-9C52-41FE-A8DA-137467F2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B80-560C-4FC9-9EA2-E0CF93D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7C41-405A-4BF0-B53F-7AA447C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B0FE-0695-43FF-938B-75062D6F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B1E-A31F-49F8-809E-212CEF5F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F42-C9B9-4ABE-817D-7B10068B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C1FB-3144-4A7D-BF95-E7BA613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370-A9B4-42BC-9424-2662A8F8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7790-BC8A-4F65-824A-E99DFB65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061-F047-416A-BF3C-FE571D97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CCA-038B-4590-BE65-7214A7AF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B4A-9955-4103-9BC4-10C19880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19A-F6D0-4191-AB31-443C221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4F8-5C92-490F-8B88-E89411D2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4AF-CA26-4C0D-88E0-DC30214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9FC-D9CB-4C8D-A7A7-C369747194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5273-E39D-49BD-B7CE-6A8F0FA36D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067-5085-491E-B15C-F587952202A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158A-DFF9-4709-877A-500B76A1D34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5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ahoma"/>
              </a:rPr>
              <a:t>PODNIKÁ</a:t>
            </a:r>
            <a:r>
              <a:rPr b="1" lang="vi-VN" sz="3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cs-CZ" sz="3000" spc="-1" strike="noStrike">
                <a:solidFill>
                  <a:srgbClr val="000000"/>
                </a:solidFill>
                <a:latin typeface="Tahoma"/>
              </a:rPr>
              <a:t>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9. Formy společností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71640" y="1773360"/>
          <a:ext cx="7345440" cy="3322440"/>
        </p:xfrm>
        <a:graphic>
          <a:graphicData uri="http://schemas.openxmlformats.org/drawingml/2006/table">
            <a:tbl>
              <a:tblPr/>
              <a:tblGrid>
                <a:gridCol w="4464000"/>
                <a:gridCol w="28814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řská (holdingová)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m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eřin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int-ven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ên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l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ập đoà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zastoup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národní korpor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đa quốc g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ropské hospodářské zájmové sdruž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óm lợi ích kinh tế Châu Â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0. OSV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384720"/>
                <a:gridCol w="410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ování živnos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é oprávně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ấy phép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kační číslo (IČ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ã đăng ký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ísto podniká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ịa điểm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ov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ịa điểm 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vědn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chịu trách nhiệ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ní d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ời gian hoạt độ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evírací d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ời gian mở c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rejstř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h bạ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73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1. Úřady a instit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16000" y="1773360"/>
          <a:ext cx="7488360" cy="4174920"/>
        </p:xfrm>
        <a:graphic>
          <a:graphicData uri="http://schemas.openxmlformats.org/drawingml/2006/table">
            <a:tbl>
              <a:tblPr/>
              <a:tblGrid>
                <a:gridCol w="4032360"/>
                <a:gridCol w="345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str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ăng k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é identifikační čís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ã số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ce dan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ơ quan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a sociálního zabezpeč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òng bảo hiểm xã hội (an sinh xã hội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ální pojiště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o hiểm xã hộ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dravotní pojišťov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ãng bảo hiểm y t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é přizná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ờ khai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tební výmě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ấn định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hled o příjmech a výdají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ờ tổng quát thu c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2.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4032360"/>
                <a:gridCol w="345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kl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ứng từ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ktu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óa đ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tenka / parag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iếu bán hà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znam trž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hi chép doanh th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etnictv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ế t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vojné účetnictv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ế toán ké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á evid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hi chép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etní uzávěr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óa sổ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zva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ng cân đố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ka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ng quyết t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42920" y="2708280"/>
          <a:ext cx="7632720" cy="3413160"/>
        </p:xfrm>
        <a:graphic>
          <a:graphicData uri="http://schemas.openxmlformats.org/drawingml/2006/table">
            <a:tbl>
              <a:tblPr/>
              <a:tblGrid>
                <a:gridCol w="3097440"/>
                <a:gridCol w="45352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úř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ò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zák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ộ luật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ohlašovac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hông bá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vol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ự 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řemesl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hủ c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váza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phụ thuộ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koncesova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có chứng ch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92"/>
          <p:cNvSpPr/>
          <p:nvPr/>
        </p:nvSpPr>
        <p:spPr>
          <a:xfrm>
            <a:off x="971640" y="1700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nost: Soustavná činnost provozovaná samostatně, vlastním jménem, na vlastní odpovědnost, za účelem dosažení zisku a podmínek stanovených živnostenským záko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Subj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16000" y="1773360"/>
          <a:ext cx="7273800" cy="3840120"/>
        </p:xfrm>
        <a:graphic>
          <a:graphicData uri="http://schemas.openxmlformats.org/drawingml/2006/table">
            <a:tbl>
              <a:tblPr/>
              <a:tblGrid>
                <a:gridCol w="3311640"/>
                <a:gridCol w="3962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yzic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á nhâ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ávnic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áp nhâ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, hã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fir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ương hiệu, tê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anh nhân, doanh nghiệ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V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kinh doanh cá th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es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ượng Sé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raniční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ượng nước ngoà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vědný zástup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trách nhiệ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16000" y="1773360"/>
          <a:ext cx="7273800" cy="3840120"/>
        </p:xfrm>
        <a:graphic>
          <a:graphicData uri="http://schemas.openxmlformats.org/drawingml/2006/table">
            <a:tbl>
              <a:tblPr/>
              <a:tblGrid>
                <a:gridCol w="3311640"/>
                <a:gridCol w="3962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ávajíc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b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třebi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tiêu dù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rob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ản phẩ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už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ịch v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rob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sản xuấ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voz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nhập khẩ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dav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cung ứ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ratný ob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o bì trả lại đượ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Vzta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smlou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đồng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odle občanského zák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heo Bộ luật dân s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odle obchodního zák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heo Bộ luật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á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azn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ách hà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hledáv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phải đò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vaz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phải tr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lu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n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ru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o hà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5. Obchodní společ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ložení a vzni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lập và xuất hiệ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klad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thành lậ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enská smlou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đồng thành lập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kladatelská listi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ăn bản thành lập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ářský záp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ăn bản công chứ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společnos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ên công ty / hã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tární org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ơ quan đại diệ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d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ụ s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í kapitál (jmění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ốn pháp đị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rejstř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h bạ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6. Formy společností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71640" y="1773360"/>
          <a:ext cx="7777080" cy="3749400"/>
        </p:xfrm>
        <a:graphic>
          <a:graphicData uri="http://schemas.openxmlformats.org/drawingml/2006/table">
            <a:tbl>
              <a:tblPr/>
              <a:tblGrid>
                <a:gridCol w="3963960"/>
                <a:gridCol w="38131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ost s ručením omezený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trách nhiệm hữu h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ná hrom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thành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podí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ần vốn gó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kl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góp vố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73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Formy společností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ov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ổ phầ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phiế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oná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đ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ná hrom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cổ đ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staven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quản tr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zorčí r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giám sá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iden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tứ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àn chứng kh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e akci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át hành cổ phiế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Formy společností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anditní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hợp d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andis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góp vố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plementá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hợp d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řejná obchodní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y thương mại công cộ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íc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ác thành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ropsk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hâu Â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ž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tác x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lenská schů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ọp xã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staven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 quản tr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trolní komi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kiểm t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13Z</dcterms:modified>
  <cp:revision>103</cp:revision>
  <dc:subject/>
  <dc:title>Snímek 1</dc:title>
</cp:coreProperties>
</file>