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88D7-EC77-4A93-8D93-D8C996773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45CF-1916-451A-A2C2-72EE535AF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C16B-20C7-4E96-813F-A536BFAB9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6F37-109E-4770-B4B0-40202642F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2A17-ABB4-4BE3-9825-58D744BD9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60DBA-0866-4B08-A675-E1663B10C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92396-5DE1-4F85-94E1-D963E6D18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B73FD-3A00-4B21-9DD7-C5186604F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B1033-4D36-490D-B2E2-2AAB08F95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4AE26-8008-4FE6-B609-99F094342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3683-93C0-44E7-843D-3D269098C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FF13A-103E-4EA7-A916-B84547875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7A913-CEB5-4EAB-8EAB-71A8D78BE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D8A39-55CD-4301-A3BC-399C87145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39D9D-E846-4744-BB9F-AC80C1975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896FF-3CB0-4F92-8175-D78F350C9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096EE-93F3-45DF-B4DE-BDB00F14E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43208-CFC9-4535-8DEB-8E1DD3997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731A-1EC3-49E2-911A-0E39FF0B5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EC0E-D355-4B85-A036-7DF4F54DF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AAF0-EF74-4D29-8AF7-60AA27A21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4760-7050-4A53-B6FA-FF68E85CE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90C2-FD22-49FB-B781-1372B81B6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C801-4023-4542-8566-BE13210D7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4.jpeg"/><Relationship Id="rId5" Type="http://schemas.openxmlformats.org/officeDocument/2006/relationships/image" Target="../media/image1.wmf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5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8429B-629D-41CD-902F-E7F099CCEB64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FC784-18B7-4FC5-A4E1-5BF3AC56CD6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aoblený obdélník 21"/>
          <p:cNvSpPr/>
          <p:nvPr/>
        </p:nvSpPr>
        <p:spPr>
          <a:xfrm>
            <a:off x="1857240" y="3886200"/>
            <a:ext cx="6572520" cy="17859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Obdélník 10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Obdélník 11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bdélník 12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bdélník 13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bdélník 14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bdélník 15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bdélník 17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bdélník 18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kitka_meta"/>
          <p:cNvPicPr/>
          <p:nvPr/>
        </p:nvPicPr>
        <p:blipFill>
          <a:blip r:embed="rId2"/>
          <a:stretch/>
        </p:blipFill>
        <p:spPr>
          <a:xfrm>
            <a:off x="8013600" y="3492360"/>
            <a:ext cx="881280" cy="847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2" descr="logo_meta_1_tmavší_FIN"/>
          <p:cNvPicPr/>
          <p:nvPr/>
        </p:nvPicPr>
        <p:blipFill>
          <a:blip r:embed="rId3"/>
          <a:stretch/>
        </p:blipFill>
        <p:spPr>
          <a:xfrm>
            <a:off x="1857240" y="1940040"/>
            <a:ext cx="4794480" cy="17031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kitka_meta"/>
          <p:cNvPicPr/>
          <p:nvPr/>
        </p:nvPicPr>
        <p:blipFill>
          <a:blip r:embed="rId4"/>
          <a:stretch/>
        </p:blipFill>
        <p:spPr>
          <a:xfrm>
            <a:off x="1390680" y="5700600"/>
            <a:ext cx="457200" cy="439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kitka_meta"/>
          <p:cNvPicPr/>
          <p:nvPr/>
        </p:nvPicPr>
        <p:blipFill>
          <a:blip r:embed="rId5"/>
          <a:stretch/>
        </p:blipFill>
        <p:spPr>
          <a:xfrm>
            <a:off x="1720800" y="5373720"/>
            <a:ext cx="347760" cy="3348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kitka_meta"/>
          <p:cNvPicPr/>
          <p:nvPr/>
        </p:nvPicPr>
        <p:blipFill>
          <a:blip r:embed="rId6"/>
          <a:stretch/>
        </p:blipFill>
        <p:spPr>
          <a:xfrm>
            <a:off x="928800" y="4857840"/>
            <a:ext cx="792000" cy="760320"/>
          </a:xfrm>
          <a:prstGeom prst="rect">
            <a:avLst/>
          </a:prstGeom>
          <a:ln w="0">
            <a:noFill/>
          </a:ln>
        </p:spPr>
      </p:pic>
      <p:pic>
        <p:nvPicPr>
          <p:cNvPr id="55" name="Obrázek 20" descr="logoMPSV-c-sm.jpg"/>
          <p:cNvPicPr/>
          <p:nvPr/>
        </p:nvPicPr>
        <p:blipFill>
          <a:blip r:embed="rId7"/>
          <a:stretch/>
        </p:blipFill>
        <p:spPr>
          <a:xfrm>
            <a:off x="7308720" y="260280"/>
            <a:ext cx="1425600" cy="14702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Zaoblený obdélník 26"/>
          <p:cNvSpPr/>
          <p:nvPr/>
        </p:nvSpPr>
        <p:spPr>
          <a:xfrm>
            <a:off x="857160" y="1576440"/>
            <a:ext cx="7929720" cy="4535280"/>
          </a:xfrm>
          <a:prstGeom prst="roundRect">
            <a:avLst>
              <a:gd name="adj" fmla="val 7116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bdélník 7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bdélník 8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bdélník 8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bdélník 9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bdélník 10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11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římá spojovací čára 14"/>
          <p:cNvSpPr/>
          <p:nvPr/>
        </p:nvSpPr>
        <p:spPr>
          <a:xfrm flipH="1">
            <a:off x="8784720" y="1440"/>
            <a:ext cx="18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bdélník 15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římá spojovací čára 16"/>
          <p:cNvSpPr/>
          <p:nvPr/>
        </p:nvSpPr>
        <p:spPr>
          <a:xfrm flipH="1">
            <a:off x="474840" y="144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17"/>
          <p:cNvSpPr/>
          <p:nvPr/>
        </p:nvSpPr>
        <p:spPr>
          <a:xfrm>
            <a:off x="571680" y="-1440"/>
            <a:ext cx="4572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římá spojovací čára 18"/>
          <p:cNvSpPr/>
          <p:nvPr/>
        </p:nvSpPr>
        <p:spPr>
          <a:xfrm flipH="1">
            <a:off x="855720" y="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kitka_meta"/>
          <p:cNvPicPr/>
          <p:nvPr/>
        </p:nvPicPr>
        <p:blipFill>
          <a:blip r:embed="rId2"/>
          <a:stretch/>
        </p:blipFill>
        <p:spPr>
          <a:xfrm>
            <a:off x="357120" y="233280"/>
            <a:ext cx="1285920" cy="12366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kitka_meta"/>
          <p:cNvPicPr/>
          <p:nvPr/>
        </p:nvPicPr>
        <p:blipFill>
          <a:blip r:embed="rId3"/>
          <a:stretch/>
        </p:blipFill>
        <p:spPr>
          <a:xfrm>
            <a:off x="8459640" y="5829480"/>
            <a:ext cx="498600" cy="4791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3" descr="logo_meta_1_tmavší_FIN"/>
          <p:cNvPicPr/>
          <p:nvPr/>
        </p:nvPicPr>
        <p:blipFill>
          <a:blip r:embed="rId4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kitka_meta"/>
          <p:cNvPicPr/>
          <p:nvPr/>
        </p:nvPicPr>
        <p:blipFill>
          <a:blip r:embed="rId5"/>
          <a:stretch/>
        </p:blipFill>
        <p:spPr>
          <a:xfrm>
            <a:off x="8359920" y="163440"/>
            <a:ext cx="498240" cy="479520"/>
          </a:xfrm>
          <a:prstGeom prst="rect">
            <a:avLst/>
          </a:prstGeom>
          <a:ln w="0">
            <a:noFill/>
          </a:ln>
        </p:spPr>
      </p:pic>
      <p:pic>
        <p:nvPicPr>
          <p:cNvPr id="110" name="Obrázek 22" descr="logoMPSV-c-sm.jpg"/>
          <p:cNvPicPr/>
          <p:nvPr/>
        </p:nvPicPr>
        <p:blipFill>
          <a:blip r:embed="rId6"/>
          <a:stretch/>
        </p:blipFill>
        <p:spPr>
          <a:xfrm>
            <a:off x="0" y="5745240"/>
            <a:ext cx="1079640" cy="111276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48DDE-916E-44ED-B7D8-7ED0628EAEC7}" type="datetime">
              <a:rPr b="0" lang="cs-CZ" sz="1200" spc="-1" strike="noStrike">
                <a:solidFill>
                  <a:srgbClr val="990033"/>
                </a:solidFill>
                <a:latin typeface="Verdana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6528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F7F33-3007-4019-BD9C-7494732AD972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Zaoblený obdélník 21"/>
          <p:cNvSpPr/>
          <p:nvPr/>
        </p:nvSpPr>
        <p:spPr>
          <a:xfrm>
            <a:off x="2928960" y="3214800"/>
            <a:ext cx="5857920" cy="24573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Nadpis 1"/>
          <p:cNvSpPr/>
          <p:nvPr/>
        </p:nvSpPr>
        <p:spPr>
          <a:xfrm>
            <a:off x="1643040" y="1500120"/>
            <a:ext cx="728676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990033"/>
                </a:solidFill>
                <a:latin typeface="Verdana"/>
              </a:rPr>
              <a:t>Děkuji za pozornost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bdélník 10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bdélník 11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bdélník 12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bdélník 13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bdélník 14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bdélník 15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bdélník 17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bdélník 18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5" descr="kitka_meta"/>
          <p:cNvPicPr/>
          <p:nvPr/>
        </p:nvPicPr>
        <p:blipFill>
          <a:blip r:embed="rId2"/>
          <a:stretch/>
        </p:blipFill>
        <p:spPr>
          <a:xfrm>
            <a:off x="1143000" y="4786200"/>
            <a:ext cx="1030320" cy="9907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5" descr="kitka_meta"/>
          <p:cNvPicPr/>
          <p:nvPr/>
        </p:nvPicPr>
        <p:blipFill>
          <a:blip r:embed="rId3"/>
          <a:stretch/>
        </p:blipFill>
        <p:spPr>
          <a:xfrm>
            <a:off x="2146320" y="4386240"/>
            <a:ext cx="639720" cy="6145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5" descr="kitka_meta"/>
          <p:cNvPicPr/>
          <p:nvPr/>
        </p:nvPicPr>
        <p:blipFill>
          <a:blip r:embed="rId4"/>
          <a:stretch/>
        </p:blipFill>
        <p:spPr>
          <a:xfrm>
            <a:off x="642960" y="2500200"/>
            <a:ext cx="1996920" cy="19195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22" descr="logo_meta_1_tmavší_FIN"/>
          <p:cNvPicPr/>
          <p:nvPr/>
        </p:nvPicPr>
        <p:blipFill>
          <a:blip r:embed="rId5"/>
          <a:stretch/>
        </p:blipFill>
        <p:spPr>
          <a:xfrm>
            <a:off x="6635880" y="5877000"/>
            <a:ext cx="2160360" cy="766800"/>
          </a:xfrm>
          <a:prstGeom prst="rect">
            <a:avLst/>
          </a:prstGeom>
          <a:ln w="0">
            <a:noFill/>
          </a:ln>
        </p:spPr>
      </p:pic>
      <p:pic>
        <p:nvPicPr>
          <p:cNvPr id="166" name="Obrázek 20" descr="logoMPSV-c-sm.jpg"/>
          <p:cNvPicPr/>
          <p:nvPr/>
        </p:nvPicPr>
        <p:blipFill>
          <a:blip r:embed="rId6"/>
          <a:stretch/>
        </p:blipFill>
        <p:spPr>
          <a:xfrm>
            <a:off x="7596360" y="115920"/>
            <a:ext cx="1427040" cy="146988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1856880" y="3890520"/>
            <a:ext cx="657252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Téma:</a:t>
            </a: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 Daňová problematik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2935440" y="3213000"/>
            <a:ext cx="5822640" cy="242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E-mail liên hệ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ngoc@tuvan.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Arial"/>
              </a:rPr>
              <a:t>Daňový řá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6"/>
          <p:cNvSpPr/>
          <p:nvPr/>
        </p:nvSpPr>
        <p:spPr>
          <a:xfrm>
            <a:off x="1042920" y="1773360"/>
            <a:ext cx="7561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ákon č.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280/2009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Sb., daňový řá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právce daně – finanční úřa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ístní přísluš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aňový subjek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Finanční úřad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– zákon č. 531/1990 Sb., o územních finančních orgáne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íloha 1 -  Názvy, sídla a územní působnost finančních úřad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Arial"/>
              </a:rPr>
              <a:t>Činnost finančních úřadů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4"/>
          <p:cNvSpPr/>
          <p:nvPr/>
        </p:nvSpPr>
        <p:spPr>
          <a:xfrm>
            <a:off x="1042920" y="1773360"/>
            <a:ext cx="75614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ykonávají správu daní, odvodů a záloh na tyto příjm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provádějí řízení o přestupcích v oblasti své působnos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ybírají poplatky, odvody, úhrady, pokuty a pená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spravují dota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ukládají poku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rozhodují o výši pohledávky na daních, a jimi spravovaných příjme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na základě pověření Ministerstvem financí finanční úřady poskytují mezinárodní pomoc při správě daní a provádějí vymáhání peněžitých pohledáve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Arial"/>
              </a:rPr>
              <a:t>Úřední dny FÚ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1042920" y="1773360"/>
            <a:ext cx="7561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6"/>
          <p:cNvSpPr/>
          <p:nvPr/>
        </p:nvSpPr>
        <p:spPr>
          <a:xfrm>
            <a:off x="1042920" y="1773360"/>
            <a:ext cx="7561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7"/>
          <p:cNvSpPr/>
          <p:nvPr/>
        </p:nvSpPr>
        <p:spPr>
          <a:xfrm>
            <a:off x="1042920" y="1773360"/>
            <a:ext cx="7561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le Usnesení vlády České republiky ke zjednodušení a zlepšení výkonu státní správy ve vztahu k občanům pro všechny finanční úřady i finanční ředitelství platí jednotné úřední dny: Vždy v pondělí a ve středu s úředními hodinami od 8 do 17 hodin, pokud není den pracovního klid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Arial"/>
              </a:rPr>
              <a:t>Daň je platbo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1042920" y="1773360"/>
            <a:ext cx="7561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6"/>
          <p:cNvSpPr/>
          <p:nvPr/>
        </p:nvSpPr>
        <p:spPr>
          <a:xfrm>
            <a:off x="1042920" y="1773360"/>
            <a:ext cx="7561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dobrovolnou, povinnou, vynutitelnou – placení daní je nařízeno zákonem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návratnou – zaplacenou daň nelze požadovat zpě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ekvivalentní – neexistuje nárok na adekvátní plnění za daň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účelovou – plátce daně nemůže ovlivnit, na co budou daně použity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e prospěch veřejného rozpočtu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bvykle opakovano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Arial"/>
              </a:rPr>
              <a:t>Druhy daní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4"/>
          <p:cNvSpPr/>
          <p:nvPr/>
        </p:nvSpPr>
        <p:spPr>
          <a:xfrm>
            <a:off x="1042920" y="1773360"/>
            <a:ext cx="7561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6"/>
          <p:cNvSpPr/>
          <p:nvPr/>
        </p:nvSpPr>
        <p:spPr>
          <a:xfrm>
            <a:off x="1042920" y="1773360"/>
            <a:ext cx="7561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aň přím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latí poplatník sám na vlastní úč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aň nepřím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platí plátce daně na účet poplatní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Arial"/>
              </a:rPr>
              <a:t>Druhy daní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4"/>
          <p:cNvSpPr/>
          <p:nvPr/>
        </p:nvSpPr>
        <p:spPr>
          <a:xfrm>
            <a:off x="1042920" y="1773360"/>
            <a:ext cx="7561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5"/>
          <p:cNvSpPr/>
          <p:nvPr/>
        </p:nvSpPr>
        <p:spPr>
          <a:xfrm>
            <a:off x="1042920" y="1773360"/>
            <a:ext cx="7561440" cy="39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aň přím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aň z příjmů FO - Thuế thu nhập cá nhâ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aň z příjmů PO - Thuế thu nhập pháp nhâ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aň z nemovitosti - Thuế bất động sả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aň z převodu nemovitosti - Thuế chuyển nhượng bất động sả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aň darovací - Thuế quà tặ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aň dědická - Thuế thừa k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aň nepřím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aň z přidané hodnoty - thuế giá trị gia tă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aň spotřební - thuế tiêu dùng (tiêu thụ đặc biệ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Arial"/>
              </a:rPr>
              <a:t>Daňové přiznání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4"/>
          <p:cNvSpPr/>
          <p:nvPr/>
        </p:nvSpPr>
        <p:spPr>
          <a:xfrm>
            <a:off x="1042920" y="1773360"/>
            <a:ext cx="7561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5"/>
          <p:cNvSpPr/>
          <p:nvPr/>
        </p:nvSpPr>
        <p:spPr>
          <a:xfrm>
            <a:off x="1042920" y="1773360"/>
            <a:ext cx="7561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Lhůta pro daňové přiznán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aň z příjmů: do 1.4. (prodloužená lhůta do 1.7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aň z přidané hodnoty: do 25. dne po skončení zdanitelného obdob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aň z nemovitosti: do 31.5. nebo ve dvou splátkách, do 31.5. a 30.1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egistrace k daní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Č – daňové identifikační číslo: jednoznačná identifikace plátce daně (daňového poplatník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Arial"/>
              </a:rPr>
              <a:t>Daň spotřební v Č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4"/>
          <p:cNvSpPr/>
          <p:nvPr/>
        </p:nvSpPr>
        <p:spPr>
          <a:xfrm>
            <a:off x="1042920" y="1773360"/>
            <a:ext cx="7561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5"/>
          <p:cNvSpPr/>
          <p:nvPr/>
        </p:nvSpPr>
        <p:spPr>
          <a:xfrm>
            <a:off x="1042920" y="1773360"/>
            <a:ext cx="7561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ákon č. 353/2003 Sb., o spotřebních daní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abák, alkohol (líh), pohonné hmo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 roku 2004 její správu vykonává Celní úřad, do konce roku 2003 Finanční úř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vojí zdanění: DPH se vypočítává z ceny včetně spotřební dan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5T13:11:24Z</dcterms:created>
  <dc:creator>User</dc:creator>
  <dc:description/>
  <dc:language>en-US</dc:language>
  <cp:lastModifiedBy>Fridrichová Jitka Mgr. (MPSV)</cp:lastModifiedBy>
  <dcterms:modified xsi:type="dcterms:W3CDTF">2015-08-19T15:54:19Z</dcterms:modified>
  <cp:revision>101</cp:revision>
  <dc:subject/>
  <dc:title>Snímek 1</dc:title>
</cp:coreProperties>
</file>