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1CC-3465-4F1B-975E-CE33CC8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5CC-9EE5-480C-9F17-2BA29219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968-5039-444D-B950-8DEC29A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346-78D8-4472-98B4-35A023E7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19E-2AFD-4F0F-ACD0-4F3B2EF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C0CB-00E2-412D-95D6-93E3D13E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7D11-7075-4956-ABF2-4F29F3B6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BE0-2AE9-4ECB-BE1B-F0CD0AE7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00CA-0BC4-4BCB-A816-8F4206D4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C62-D10B-4A1E-B920-6885557C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1A5-E5DC-4F01-8F07-01BEA7B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67C-312D-4594-B8A2-D2664AE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F318-5F33-4793-913F-3F1EF44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BF0-404D-47F4-AE5C-280AFB8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A152-16FC-4A0C-9698-72AE13A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36F-F7F5-4822-B9F8-BDC59DB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24C-2123-4EE3-B9F6-1F55C69F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CFB-0DF3-4DC0-AE5F-2C16E08C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A16-BE00-414A-90EC-AC16549B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EFD-5510-4765-B9B1-0462800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12A-3B6F-42F3-A894-05A5B65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C75-51F4-4467-9484-97DED5F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B1A-C3D4-47E8-A0B1-5ED7E8E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31D-D829-4868-AE00-BFB32CD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320E-78BE-46D6-A803-CE31A6988A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752-3563-4344-9622-1E0FE7351F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F680-D335-4D39-9F5F-74BA08C081F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77DD-F7A1-4C22-99C5-29779D73DF8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dravotnic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71640" y="155088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phụ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moděložní 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 ngoài dạ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lav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phận si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gí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Âm đ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lo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jcov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Ống dẫn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ječní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ồng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71640" y="162864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ěložní čí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ổ 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sty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 hệ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chor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plodnost/Steril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ô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stovaná reprodu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sinh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mělé oplod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inh nhân t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br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ôi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ào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trat/Interrup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ẩy thai/phá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con/đẻ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edčasný 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 koncem pánevní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ngược chân ra trướ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ísařský ře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m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trak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th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í boles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au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c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u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peční šňů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ây rố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estine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Ở c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ecká žlouten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àng da 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 con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ěžitá pomoc v mateřstv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tiền mặt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dičovský příspěv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sinh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ídavek na dít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uôi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9. Zdravotní pojiš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1640" y="1628640"/>
          <a:ext cx="7746840" cy="35640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é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công c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erční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thương m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ekac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ời gian chờ đ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čátek pojistného pl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ắt đầu trả bảo hi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ituty a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lékařské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ubní léka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di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ktický léka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ynek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Instituty a za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4248000"/>
                <a:gridCol w="34560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stvo zdravo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Y t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đa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ní 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Khoa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otov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ực cấp cứ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eb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ện 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ối nước kho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záchranná služ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ứu thư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/chor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ăn b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ptom/přízn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ệu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d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ội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ó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ẩn đo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tní 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iz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ằm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ili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ồi s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71640" y="1628640"/>
          <a:ext cx="7704000" cy="404496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ař/stomat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a s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 moudr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khô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/hà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s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á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l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ựa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sâ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1628640"/>
          <a:ext cx="7704000" cy="31086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á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òng chỉnh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om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à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implan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gi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vrtač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khoa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mů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u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71640" y="1628640"/>
          <a:ext cx="7704000" cy="41450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roz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đang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nh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ý léka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n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iv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định k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ací kalend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ịch 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ne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 - dětské nemo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71640" y="1628640"/>
          <a:ext cx="7704000" cy="45356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šk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ch hầ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a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ốn v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vivý kaš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 g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ob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i liệt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lnič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loutenka typu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êm gan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B (Haemophilus influenzae typu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úm H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ušn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i b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dě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 Đức (Rubel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raktický lék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971640" y="1550880"/>
          <a:ext cx="7746840" cy="462132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in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kh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oté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ủ hồ sơ bệnh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 phí điều ch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ost (001, 002, 00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ên ng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s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ch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ơn thuố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chope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nghỉ ố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58Z</dcterms:modified>
  <cp:revision>110</cp:revision>
  <dc:subject/>
  <dc:title>Snímek 1</dc:title>
</cp:coreProperties>
</file>