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212-E3F8-4567-B3D0-FD872EBE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AF7-51FC-4B0C-9010-DEED4C17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40B-DFEF-4F42-87D5-E7FC834C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79C-D340-4FED-AD9C-E396312A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6C4-5A78-46DD-B823-C974F040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90EF-9E1A-4027-B7C2-6E1C1529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6B91-E949-4976-9F18-BCBF1B12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D1F9-C0EF-4C6E-B609-D0D64D84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82A4-E489-4D36-BBC8-4FC716F7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3F6C-82AF-4AE7-91B8-AC235522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328-37EB-49C5-AB59-E8475F6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E231-4416-47CE-AC26-37395468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885B-9B92-4335-81AE-5B8C1B17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8452-45AB-410B-98DC-25E10BEB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70CE-11C3-40A4-8260-4959C082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5FEC-BE50-409A-928D-86CC1BCF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2B87-D5FC-4B27-ADF9-A1F3C629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FED8-084E-4BE4-AE8A-FFA5D61D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C59-574D-4AEE-8ECD-4C2347B1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3E0-9198-428D-9274-3A7B9DD9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C50-C8E3-4011-974F-CC8EA1AD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904-D813-40B4-AE73-31F6F939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6AC-AD58-434C-8214-0690C28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F49-C4E4-4991-8515-67C4D57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B465-D16D-4864-866B-01D1541BF0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9BC4-0743-4884-B492-277019CD1D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8AC1-CA76-4BB7-8BF6-64726D9AE90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95E4-B312-42F7-881E-832B379DF59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éma: TRESTNÁ ČIN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říz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76360" y="1773360"/>
          <a:ext cx="7128000" cy="301788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pravné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ẩn bị xét x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běžné projednání obžalo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em xét bản cáo tr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líč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ở phiên tò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volací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ét xử phúc thẩ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onávací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ét xử thi hà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řízení - subjek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476360" y="1773360"/>
          <a:ext cx="7128000" cy="310824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ezřel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hi 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rže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tạm gi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tče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bắ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vině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buộc t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lova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truy t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ěz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ù nhâ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Věz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42920" y="1773360"/>
          <a:ext cx="7632720" cy="3456000"/>
        </p:xfrm>
        <a:graphic>
          <a:graphicData uri="http://schemas.openxmlformats.org/drawingml/2006/table">
            <a:tbl>
              <a:tblPr/>
              <a:tblGrid>
                <a:gridCol w="3814920"/>
                <a:gridCol w="381780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zební věz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ại tạm gi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ěz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à t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dohled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quản l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dozo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theo dõ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ostrah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canh gá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zvýšenou ostrah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canh gác nghiêm ngặ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Rozhodnu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332000" y="3357720"/>
          <a:ext cx="7127640" cy="2590560"/>
        </p:xfrm>
        <a:graphic>
          <a:graphicData uri="http://schemas.openxmlformats.org/drawingml/2006/table">
            <a:tbl>
              <a:tblPr/>
              <a:tblGrid>
                <a:gridCol w="3816360"/>
                <a:gridCol w="331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ud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ản 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nesení sou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hị quyế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pří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ệnh ph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ební pří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ệnh trả tiề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ní m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ệu lực pháp l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 Box 30"/>
          <p:cNvSpPr/>
          <p:nvPr/>
        </p:nvSpPr>
        <p:spPr>
          <a:xfrm>
            <a:off x="1042920" y="170028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hodnutí je externí individuální právní akt, kterým se zakládají, mění nebo ruší určitá konkrétní práva a povinnosti adresáta tohoto aktu, případně se závazně stanoví, zda již taková práva a povinnost existují či niko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Opravný prostřed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87280" y="1773360"/>
          <a:ext cx="7417080" cy="3108240"/>
        </p:xfrm>
        <a:graphic>
          <a:graphicData uri="http://schemas.openxmlformats.org/drawingml/2006/table">
            <a:tbl>
              <a:tblPr/>
              <a:tblGrid>
                <a:gridCol w="3962520"/>
                <a:gridCol w="345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íž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iếu nạ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mi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ản đố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p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ng lệ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vol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ng cá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vol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m đốc thẩ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ní stíž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iếu nại hiến phá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Rejstřík tres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87280" y="1773360"/>
          <a:ext cx="7417080" cy="259056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pis z Rejstříku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ích lục danh bạ tội ph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znam v Rejstříku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 tích trong danh bạ tội ph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maz záznamu</a:t>
                      </a:r>
                      <a:br>
                        <a:rPr sz="2800"/>
                      </a:b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Rejstříku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óa án tích trong danh bạ tội ph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Text Box 30"/>
          <p:cNvSpPr/>
          <p:nvPr/>
        </p:nvSpPr>
        <p:spPr>
          <a:xfrm>
            <a:off x="971640" y="486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července 2008 komunikují již všechny orgány veřejné moci na území České republiky s Rejstříkem trestů výhradně elektroni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tiprávní jedn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187280" y="1773360"/>
          <a:ext cx="7417080" cy="310824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ní org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ơ quan 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ovaná os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ời bị 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kol o kontr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ên bản 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tup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 phạm hành chí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ávní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ử lý hành chí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tiprávní jedn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87280" y="1773360"/>
          <a:ext cx="741708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ácí násil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ũ lực gia đì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il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g th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ě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ạn nhâ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ázání z domu (byt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uổi khỏi nh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chodování s lid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ôn ngườ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ená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àm việc bắt buộ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vádě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ưa ngườ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Trestní prá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í prá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odvětvím veřejného práva, které určuje jaké společensky škodlivé jednání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ými č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jaké jsou sankce za jejich spáchání a jakým způsobem stát prostřednictvím svých příslušných orgánů spáchání trestných činů a jejich pachatele zjišťuje a trest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í právo hmot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tanoví, co je trestným činem, podmínky trestní odpovědnosti, jaké sankce lze za trestný čin ulo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í právo proces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tanoví postup příslušných orgánů státu (v ČR tzv. orgány činné v trestním řízení) při zjišťování trestných činů, prokazování jejich spáchání konkrétním osobám, ukládání a výkon trestů a ochranných opatření, upravuje zároveň i práva a povinnosti osoby, proti které se trestní řízení vede, jakož i dalších osob, jichž se toto řízení dotýk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zák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76360" y="1773360"/>
          <a:ext cx="6767640" cy="405432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zák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luật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řá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luật tố tụng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ý č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ội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č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ội hình sự nh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tková podstata trestného čin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ếu tố cấu thành tội phạm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kutková podst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476360" y="1773360"/>
          <a:ext cx="6767640" cy="362736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ch th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ktivní strán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nh khách qu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je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ối tượ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jektivní strán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nh chủ qu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ipráv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nh phạm phá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odpověd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476360" y="1773360"/>
          <a:ext cx="6335640" cy="4054320"/>
        </p:xfrm>
        <a:graphic>
          <a:graphicData uri="http://schemas.openxmlformats.org/drawingml/2006/table">
            <a:tbl>
              <a:tblPr/>
              <a:tblGrid>
                <a:gridCol w="3384720"/>
                <a:gridCol w="29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i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ạm t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ẻ vị thành niê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ečenská nebezpeč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ức độ nguy hiểm xã h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ní nou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ình trạng khẩn cấ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ná obr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ự vệ chính đ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ình ph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Zavině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87280" y="1584360"/>
          <a:ext cx="7614000" cy="3573360"/>
        </p:xfrm>
        <a:graphic>
          <a:graphicData uri="http://schemas.openxmlformats.org/drawingml/2006/table">
            <a:tbl>
              <a:tblPr/>
              <a:tblGrid>
                <a:gridCol w="3807000"/>
                <a:gridCol w="38070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mysl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ố 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mysl přím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mysl nepřím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ủ ý trực tiế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ủ ý gián tiế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balost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ất cẩ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balost vědom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balost nevědom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ất cẩn cố 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ất cẩn sơ 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ou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258920" y="1773360"/>
          <a:ext cx="7273800" cy="3627360"/>
        </p:xfrm>
        <a:graphic>
          <a:graphicData uri="http://schemas.openxmlformats.org/drawingml/2006/table">
            <a:tbl>
              <a:tblPr/>
              <a:tblGrid>
                <a:gridCol w="3457440"/>
                <a:gridCol w="38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resn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huyệ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ský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tỉ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šš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cấp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jvyšš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tối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jvyšší správn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hành chính tối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n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Lập phá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476360" y="1773360"/>
          <a:ext cx="7128000" cy="405432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nětí svo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ù gi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ýjimečný tres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ình phạt đặc biệ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ácí vě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ản chế tại nh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ě prospěšné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 công í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dnutí majetk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ịch thu tài sả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ěžitý t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ạt tiề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dnutí věci nebo jiné majetkové hodno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ịch thu đồ vật hoặc các giá trị tài sản khá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y - pokračo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76360" y="1773360"/>
          <a:ext cx="7128000" cy="396216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čin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ấm hoạt độ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poby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ấm cư t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vstupu na sportovní, kulturní a jiné společenské ak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ấm vào nơi có các  hoạt động thể thao, văn hóa, xã h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tráta čestných titul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ớc danh hiệ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tráta vojenské hod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ớc quân hà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oštění z území Č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ục xuất khỏi Sé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38Z</dcterms:modified>
  <cp:revision>100</cp:revision>
  <dc:subject/>
  <dc:title>Snímek 1</dc:title>
</cp:coreProperties>
</file>