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9501C-D93E-4CB5-BF49-8E9024BD3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5255-EA24-4F6D-9526-E02998C0E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F0F51-1493-4F9A-8748-FFFA8200B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6A396-AF03-4BD2-86D9-2A2241AC3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CA3B3-5854-4C27-9FCB-6AF7C02F2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15B8C-C63F-4852-BB9E-CE041986E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0F453-FA82-4437-83A2-1C5CEA84A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805CE-EB57-4868-8818-D2B9FE66B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DC826-6FB4-4A49-BD4C-022056A29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D1E6F-11B6-45E5-AF06-25AEB34BD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1D576-0A02-44CC-86E6-14E8827AD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42E27-1DFF-44E7-8297-B5998DB5E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53787-B703-47FC-9687-4B1BE46C5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30AE1-6B57-45BC-9798-97F8F8F77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10097-DD42-47A5-96B7-75B2DE427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DE850-4037-4439-8AE2-3A81B0EBF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1A5BB-A7B5-4A60-828D-3E25405FE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400A7-F805-4B43-A75B-2FE9D05F2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8F063-31D5-4848-9B56-6DD89160F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69494-E9A3-45FA-96A1-4FF5A67B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8711B-DBF6-4DC2-B9C6-B75163733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2AF6D-A76A-407B-9B0A-01A40FB0A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275EE-8C55-436E-B95D-EACD377E6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464DE-7455-40F7-AE2A-7FD3C53D4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3EB5-1D0C-483C-9541-D091EE0E963F}"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CFEC-A888-4374-83DC-6F457FEA3E2A}"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8013600" y="3492360"/>
            <a:ext cx="881280" cy="847800"/>
          </a:xfrm>
          <a:prstGeom prst="rect">
            <a:avLst/>
          </a:prstGeom>
          <a:ln w="0">
            <a:noFill/>
          </a:ln>
        </p:spPr>
      </p:pic>
      <p:pic>
        <p:nvPicPr>
          <p:cNvPr id="51" name="Picture 22" descr="logo_meta_1_tmavší_FIN"/>
          <p:cNvPicPr/>
          <p:nvPr/>
        </p:nvPicPr>
        <p:blipFill>
          <a:blip r:embed="rId3"/>
          <a:stretch/>
        </p:blipFill>
        <p:spPr>
          <a:xfrm>
            <a:off x="1857240" y="1940040"/>
            <a:ext cx="4794480" cy="1703160"/>
          </a:xfrm>
          <a:prstGeom prst="rect">
            <a:avLst/>
          </a:prstGeom>
          <a:ln w="0">
            <a:noFill/>
          </a:ln>
        </p:spPr>
      </p:pic>
      <p:pic>
        <p:nvPicPr>
          <p:cNvPr id="52" name="Picture 5" descr="kitka_meta"/>
          <p:cNvPicPr/>
          <p:nvPr/>
        </p:nvPicPr>
        <p:blipFill>
          <a:blip r:embed="rId4"/>
          <a:stretch/>
        </p:blipFill>
        <p:spPr>
          <a:xfrm>
            <a:off x="1390680" y="5700600"/>
            <a:ext cx="457200" cy="439920"/>
          </a:xfrm>
          <a:prstGeom prst="rect">
            <a:avLst/>
          </a:prstGeom>
          <a:ln w="0">
            <a:noFill/>
          </a:ln>
        </p:spPr>
      </p:pic>
      <p:pic>
        <p:nvPicPr>
          <p:cNvPr id="53" name="Picture 5" descr="kitka_meta"/>
          <p:cNvPicPr/>
          <p:nvPr/>
        </p:nvPicPr>
        <p:blipFill>
          <a:blip r:embed="rId5"/>
          <a:stretch/>
        </p:blipFill>
        <p:spPr>
          <a:xfrm>
            <a:off x="1720800" y="5373720"/>
            <a:ext cx="347760" cy="334800"/>
          </a:xfrm>
          <a:prstGeom prst="rect">
            <a:avLst/>
          </a:prstGeom>
          <a:ln w="0">
            <a:noFill/>
          </a:ln>
        </p:spPr>
      </p:pic>
      <p:pic>
        <p:nvPicPr>
          <p:cNvPr id="54" name="Picture 5" descr="kitka_meta"/>
          <p:cNvPicPr/>
          <p:nvPr/>
        </p:nvPicPr>
        <p:blipFill>
          <a:blip r:embed="rId6"/>
          <a:stretch/>
        </p:blipFill>
        <p:spPr>
          <a:xfrm>
            <a:off x="928800" y="4857840"/>
            <a:ext cx="792000" cy="760320"/>
          </a:xfrm>
          <a:prstGeom prst="rect">
            <a:avLst/>
          </a:prstGeom>
          <a:ln w="0">
            <a:noFill/>
          </a:ln>
        </p:spPr>
      </p:pic>
      <p:pic>
        <p:nvPicPr>
          <p:cNvPr id="55" name="Obrázek 20" descr="logoMPSV-c-sm.jpg"/>
          <p:cNvPicPr/>
          <p:nvPr/>
        </p:nvPicPr>
        <p:blipFill>
          <a:blip r:embed="rId7"/>
          <a:stretch/>
        </p:blipFill>
        <p:spPr>
          <a:xfrm>
            <a:off x="7308720" y="260280"/>
            <a:ext cx="1425600" cy="147024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 name="Picture 4" descr="kitka_meta"/>
          <p:cNvPicPr/>
          <p:nvPr/>
        </p:nvPicPr>
        <p:blipFill>
          <a:blip r:embed="rId2"/>
          <a:stretch/>
        </p:blipFill>
        <p:spPr>
          <a:xfrm>
            <a:off x="357120" y="233280"/>
            <a:ext cx="1285920" cy="1236600"/>
          </a:xfrm>
          <a:prstGeom prst="rect">
            <a:avLst/>
          </a:prstGeom>
          <a:ln w="0">
            <a:noFill/>
          </a:ln>
        </p:spPr>
      </p:pic>
      <p:pic>
        <p:nvPicPr>
          <p:cNvPr id="107" name="Picture 4" descr="kitka_meta"/>
          <p:cNvPicPr/>
          <p:nvPr/>
        </p:nvPicPr>
        <p:blipFill>
          <a:blip r:embed="rId3"/>
          <a:stretch/>
        </p:blipFill>
        <p:spPr>
          <a:xfrm>
            <a:off x="8459640" y="5829480"/>
            <a:ext cx="498600" cy="479160"/>
          </a:xfrm>
          <a:prstGeom prst="rect">
            <a:avLst/>
          </a:prstGeom>
          <a:ln w="0">
            <a:noFill/>
          </a:ln>
        </p:spPr>
      </p:pic>
      <p:pic>
        <p:nvPicPr>
          <p:cNvPr id="108" name="Picture 23" descr="logo_meta_1_tmavší_FIN"/>
          <p:cNvPicPr/>
          <p:nvPr/>
        </p:nvPicPr>
        <p:blipFill>
          <a:blip r:embed="rId4"/>
          <a:stretch/>
        </p:blipFill>
        <p:spPr>
          <a:xfrm>
            <a:off x="6443640" y="6165720"/>
            <a:ext cx="1873440" cy="665280"/>
          </a:xfrm>
          <a:prstGeom prst="rect">
            <a:avLst/>
          </a:prstGeom>
          <a:ln w="0">
            <a:noFill/>
          </a:ln>
        </p:spPr>
      </p:pic>
      <p:pic>
        <p:nvPicPr>
          <p:cNvPr id="109" name="Picture 4" descr="kitka_meta"/>
          <p:cNvPicPr/>
          <p:nvPr/>
        </p:nvPicPr>
        <p:blipFill>
          <a:blip r:embed="rId5"/>
          <a:stretch/>
        </p:blipFill>
        <p:spPr>
          <a:xfrm>
            <a:off x="8359920" y="163440"/>
            <a:ext cx="498240" cy="479520"/>
          </a:xfrm>
          <a:prstGeom prst="rect">
            <a:avLst/>
          </a:prstGeom>
          <a:ln w="0">
            <a:noFill/>
          </a:ln>
        </p:spPr>
      </p:pic>
      <p:pic>
        <p:nvPicPr>
          <p:cNvPr id="110" name="Obrázek 22" descr="logoMPSV-c-sm.jpg"/>
          <p:cNvPicPr/>
          <p:nvPr/>
        </p:nvPicPr>
        <p:blipFill>
          <a:blip r:embed="rId6"/>
          <a:stretch/>
        </p:blipFill>
        <p:spPr>
          <a:xfrm>
            <a:off x="0" y="5745240"/>
            <a:ext cx="1079640" cy="111276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3B82-2CCB-45C3-8148-3BC1FAD0F977}" type="datetime">
              <a:rPr b="0" lang="cs-CZ" sz="1200" spc="-1" strike="noStrike">
                <a:solidFill>
                  <a:srgbClr val="990033"/>
                </a:solidFill>
                <a:latin typeface="Verdana"/>
              </a:rPr>
              <a:t>29.07.2026</a:t>
            </a:fld>
            <a:endParaRPr b="0" lang="en-US" sz="1200" spc="-1" strike="noStrike">
              <a:solidFill>
                <a:srgbClr val="000000"/>
              </a:solidFill>
              <a:latin typeface="Times New Roman"/>
            </a:endParaRPr>
          </a:p>
        </p:txBody>
      </p:sp>
      <p:sp>
        <p:nvSpPr>
          <p:cNvPr id="11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115"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FC8A-19BC-4AD4-BC25-3DB73319BDA8}"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15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5" descr="kitka_meta"/>
          <p:cNvPicPr/>
          <p:nvPr/>
        </p:nvPicPr>
        <p:blipFill>
          <a:blip r:embed="rId2"/>
          <a:stretch/>
        </p:blipFill>
        <p:spPr>
          <a:xfrm>
            <a:off x="1143000" y="4786200"/>
            <a:ext cx="1030320" cy="990720"/>
          </a:xfrm>
          <a:prstGeom prst="rect">
            <a:avLst/>
          </a:prstGeom>
          <a:ln w="0">
            <a:noFill/>
          </a:ln>
        </p:spPr>
      </p:pic>
      <p:pic>
        <p:nvPicPr>
          <p:cNvPr id="163" name="Picture 5" descr="kitka_meta"/>
          <p:cNvPicPr/>
          <p:nvPr/>
        </p:nvPicPr>
        <p:blipFill>
          <a:blip r:embed="rId3"/>
          <a:stretch/>
        </p:blipFill>
        <p:spPr>
          <a:xfrm>
            <a:off x="2146320" y="4386240"/>
            <a:ext cx="639720" cy="614520"/>
          </a:xfrm>
          <a:prstGeom prst="rect">
            <a:avLst/>
          </a:prstGeom>
          <a:ln w="0">
            <a:noFill/>
          </a:ln>
        </p:spPr>
      </p:pic>
      <p:pic>
        <p:nvPicPr>
          <p:cNvPr id="164" name="Picture 5" descr="kitka_meta"/>
          <p:cNvPicPr/>
          <p:nvPr/>
        </p:nvPicPr>
        <p:blipFill>
          <a:blip r:embed="rId4"/>
          <a:stretch/>
        </p:blipFill>
        <p:spPr>
          <a:xfrm>
            <a:off x="642960" y="2500200"/>
            <a:ext cx="1996920" cy="1919520"/>
          </a:xfrm>
          <a:prstGeom prst="rect">
            <a:avLst/>
          </a:prstGeom>
          <a:ln w="0">
            <a:noFill/>
          </a:ln>
        </p:spPr>
      </p:pic>
      <p:pic>
        <p:nvPicPr>
          <p:cNvPr id="165" name="Picture 22" descr="logo_meta_1_tmavší_FIN"/>
          <p:cNvPicPr/>
          <p:nvPr/>
        </p:nvPicPr>
        <p:blipFill>
          <a:blip r:embed="rId5"/>
          <a:stretch/>
        </p:blipFill>
        <p:spPr>
          <a:xfrm>
            <a:off x="6635880" y="5877000"/>
            <a:ext cx="2160360" cy="766800"/>
          </a:xfrm>
          <a:prstGeom prst="rect">
            <a:avLst/>
          </a:prstGeom>
          <a:ln w="0">
            <a:noFill/>
          </a:ln>
        </p:spPr>
      </p:pic>
      <p:pic>
        <p:nvPicPr>
          <p:cNvPr id="166" name="Obrázek 20" descr="logoMPSV-c-sm.jpg"/>
          <p:cNvPicPr/>
          <p:nvPr/>
        </p:nvPicPr>
        <p:blipFill>
          <a:blip r:embed="rId6"/>
          <a:stretch/>
        </p:blipFill>
        <p:spPr>
          <a:xfrm>
            <a:off x="7596360" y="115920"/>
            <a:ext cx="1427040" cy="146988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856880" y="3890520"/>
            <a:ext cx="6572520" cy="1752840"/>
          </a:xfrm>
          <a:prstGeom prst="rect">
            <a:avLst/>
          </a:prstGeom>
          <a:noFill/>
          <a:ln w="0">
            <a:noFill/>
          </a:ln>
        </p:spPr>
        <p:txBody>
          <a:bodyPr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éma:</a:t>
            </a:r>
            <a:r>
              <a:rPr b="1" lang="cs-CZ" sz="3000" spc="-1" strike="noStrike">
                <a:solidFill>
                  <a:srgbClr val="000000"/>
                </a:solidFill>
                <a:latin typeface="Arial"/>
              </a:rPr>
              <a:t> Pobytový zákon</a:t>
            </a:r>
            <a:endParaRPr b="0" lang="en-US" sz="30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ákon č. 326/1999 Sb. o pobytu cizinců na území České republiky</a:t>
            </a:r>
            <a:endParaRPr b="0" lang="en-US" sz="16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Luật Ngoại kiều)</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8. Účel pobytu</a:t>
            </a:r>
            <a:endParaRPr b="0" lang="en-US" sz="4000" spc="-1" strike="noStrike">
              <a:solidFill>
                <a:srgbClr val="000000"/>
              </a:solidFill>
              <a:latin typeface="Calibri"/>
            </a:endParaRPr>
          </a:p>
        </p:txBody>
      </p:sp>
      <p:sp>
        <p:nvSpPr>
          <p:cNvPr id="234"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35"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 name=""/>
          <p:cNvGraphicFramePr/>
          <p:nvPr/>
        </p:nvGraphicFramePr>
        <p:xfrm>
          <a:off x="971640" y="1628640"/>
          <a:ext cx="7704000" cy="4527720"/>
        </p:xfrm>
        <a:graphic>
          <a:graphicData uri="http://schemas.openxmlformats.org/drawingml/2006/table">
            <a:tbl>
              <a:tblPr/>
              <a:tblGrid>
                <a:gridCol w="4248000"/>
                <a:gridCol w="3456000"/>
              </a:tblGrid>
              <a:tr h="491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polečné soužití rodiny</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oàn tụ gia đì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88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zident jiného členského státu EU</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ông dân của nước thành viên EU khá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udi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i họ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chrana</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ảo vệ</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decký výzk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ghiên cứu khoa họ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městná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o động</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7592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pě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ịu đựng</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8564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dniká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inh doa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205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9. Trvalý pobyt (1)</a:t>
            </a:r>
            <a:endParaRPr b="0" lang="en-US" sz="4000" spc="-1" strike="noStrike">
              <a:solidFill>
                <a:srgbClr val="000000"/>
              </a:solidFill>
              <a:latin typeface="Calibri"/>
            </a:endParaRPr>
          </a:p>
        </p:txBody>
      </p:sp>
      <p:sp>
        <p:nvSpPr>
          <p:cNvPr id="238"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39" name="Text Box 4"/>
          <p:cNvSpPr/>
          <p:nvPr/>
        </p:nvSpPr>
        <p:spPr>
          <a:xfrm>
            <a:off x="1042920" y="1628640"/>
            <a:ext cx="7561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volení k trvalému pobytu se na žádost vydá cizinci po 5 letech nepřetržitého pobytu na územ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Định cư được cho phép trên cơ sở đơn xin của NNN cư trú 5 năm liên tục trên lãnh thổ Séc</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 doby pobytu se započítává doba pobytu n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Thời gian cư trú được tính với cư trú dạng:</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louhodobé vízum</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hị thực dài hạ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olení k dlouhodobému pobytu</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iấy phép cư trú dài hạ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kladě dokladu vydaného k pobytu na území podle zvláštního právního předpisu (mezinárodní a dočasná ochrana)</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hứng từ được cấp cho mục đích cư trú theo quy định đặc biệt (bảo vệ quốc tế và bảo vệ tạm thờ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0. Trvalý pobyt (2)</a:t>
            </a:r>
            <a:endParaRPr b="0" lang="en-US" sz="4000" spc="-1" strike="noStrike">
              <a:solidFill>
                <a:srgbClr val="000000"/>
              </a:solidFill>
              <a:latin typeface="Calibri"/>
            </a:endParaRPr>
          </a:p>
        </p:txBody>
      </p:sp>
      <p:sp>
        <p:nvSpPr>
          <p:cNvPr id="241"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42"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 name=""/>
          <p:cNvGraphicFramePr/>
          <p:nvPr/>
        </p:nvGraphicFramePr>
        <p:xfrm>
          <a:off x="971640" y="2276640"/>
          <a:ext cx="7704000" cy="3474720"/>
        </p:xfrm>
        <a:graphic>
          <a:graphicData uri="http://schemas.openxmlformats.org/drawingml/2006/table">
            <a:tbl>
              <a:tblPr/>
              <a:tblGrid>
                <a:gridCol w="3887640"/>
                <a:gridCol w="381636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otografi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Ảnh</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estovní dokla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Giấy tờ đi lại</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čel pobytu</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ục đích cư trú</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jištění prostředků</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ảm bảo tài chính</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restní zachovalost</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hông có án tích</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jištění ubytová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ảm bảo nhà ở</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uhlas rodič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ồng ý của bố mẹ</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nalost českého jazyka na požadované úrovni</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iến thức tiếng Séc ở mức độ được yêu cầ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244" name="Text Box 42"/>
          <p:cNvSpPr/>
          <p:nvPr/>
        </p:nvSpPr>
        <p:spPr>
          <a:xfrm>
            <a:off x="1042920" y="1628640"/>
            <a:ext cx="75614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áležitosti žádosti o trvalý pobyt (§ 70/2 ZP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1. Zastupitelský úřad</a:t>
            </a:r>
            <a:endParaRPr b="0" lang="en-US" sz="4000" spc="-1" strike="noStrike">
              <a:solidFill>
                <a:srgbClr val="000000"/>
              </a:solidFill>
              <a:latin typeface="Calibri"/>
            </a:endParaRPr>
          </a:p>
        </p:txBody>
      </p:sp>
      <p:sp>
        <p:nvSpPr>
          <p:cNvPr id="246"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47"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8" name=""/>
          <p:cNvGraphicFramePr/>
          <p:nvPr/>
        </p:nvGraphicFramePr>
        <p:xfrm>
          <a:off x="971640" y="1700280"/>
          <a:ext cx="7704000" cy="417672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stupitelský úřa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ơ quan đại diệ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lvyslanectví (ambasád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ại sứ qu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iplomatická mis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ứ đoàn ngoại giao</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zulát (konzulární odděle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ãnh sự qu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yslanectv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ứ qu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lvyslane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ại sứ</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ad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am t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ajemník</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í thư</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ašé</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ùy viê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2. Cizinecká policie</a:t>
            </a:r>
            <a:endParaRPr b="0" lang="en-US" sz="4000" spc="-1" strike="noStrike">
              <a:solidFill>
                <a:srgbClr val="000000"/>
              </a:solidFill>
              <a:latin typeface="Calibri"/>
            </a:endParaRPr>
          </a:p>
        </p:txBody>
      </p:sp>
      <p:sp>
        <p:nvSpPr>
          <p:cNvPr id="250"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51"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 name=""/>
          <p:cNvGraphicFramePr/>
          <p:nvPr/>
        </p:nvGraphicFramePr>
        <p:xfrm>
          <a:off x="971640" y="1700280"/>
          <a:ext cx="7704000" cy="322740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izinecká polici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ảnh sát ngoại kiề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dělení pobytových agend </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hòng phụ trách cư trú</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vání k návštěvě</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Giấy mời thăm thâ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Hlášení pobytu cizinců</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ông báo cư trú của NN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bytovatel</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hủ nhà</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movní knih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ổ ghi chép cư trú</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3. Ministerstvo vnitra</a:t>
            </a:r>
            <a:endParaRPr b="0" lang="en-US" sz="4000" spc="-1" strike="noStrike">
              <a:solidFill>
                <a:srgbClr val="000000"/>
              </a:solidFill>
              <a:latin typeface="Calibri"/>
            </a:endParaRPr>
          </a:p>
        </p:txBody>
      </p:sp>
      <p:sp>
        <p:nvSpPr>
          <p:cNvPr id="254"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55"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 name=""/>
          <p:cNvGraphicFramePr/>
          <p:nvPr/>
        </p:nvGraphicFramePr>
        <p:xfrm>
          <a:off x="971640" y="1700280"/>
          <a:ext cx="7704000" cy="441648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inisterstvo vnitr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ộ Nội vụ</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bor azylové a migrační politiky</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ục tị nạn và chính sách di dâ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acoviště</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ăn phòng cơ quan (đơn vị)</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iometrické údaj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ữ liệu sinh trắc</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aktyloskopické údaj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ân tay</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nformační systé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Hệ thống thông ti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klenovací štítek</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ị thực chờ</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4. Zajištění prostředků</a:t>
            </a:r>
            <a:endParaRPr b="0" lang="en-US" sz="4000" spc="-1" strike="noStrike">
              <a:solidFill>
                <a:srgbClr val="000000"/>
              </a:solidFill>
              <a:latin typeface="Calibri"/>
            </a:endParaRPr>
          </a:p>
        </p:txBody>
      </p:sp>
      <p:sp>
        <p:nvSpPr>
          <p:cNvPr id="258"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59"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 name=""/>
          <p:cNvGraphicFramePr/>
          <p:nvPr/>
        </p:nvGraphicFramePr>
        <p:xfrm>
          <a:off x="971640" y="1700280"/>
          <a:ext cx="7704000" cy="417672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aňové přizná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ờ khai thuế</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avidelný příje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u nhập đều đặ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Životní minimu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ức sống tối thiể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soba společně pozusovaná</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gười cùng nhà</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ormativní náklady na bydle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hi phí nhà ở định mức</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xistenční minimu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ức tồn tại tối thiể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pis z daňového spisu</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rích lục hồ sơ thuế</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latební výměr</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Ấn định thuế</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935440" y="3213000"/>
            <a:ext cx="5822640" cy="2425680"/>
          </a:xfrm>
          <a:prstGeom prst="rect">
            <a:avLst/>
          </a:prstGeom>
          <a:noFill/>
          <a:ln w="0">
            <a:noFill/>
          </a:ln>
        </p:spPr>
        <p:txBody>
          <a:bodyPr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E-mail liên hệ:</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jirka.kocourek</a:t>
            </a:r>
            <a:r>
              <a:rPr b="0" lang="en-US" sz="3200" spc="-1" strike="noStrike">
                <a:solidFill>
                  <a:srgbClr val="000000"/>
                </a:solidFill>
                <a:latin typeface="Verdana"/>
              </a:rPr>
              <a:t>@</a:t>
            </a:r>
            <a:r>
              <a:rPr b="0" lang="cs-CZ" sz="3200" spc="-1" strike="noStrike">
                <a:solidFill>
                  <a:srgbClr val="000000"/>
                </a:solidFill>
                <a:latin typeface="Verdana"/>
              </a:rPr>
              <a:t>jirkoc.cz</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ngoc@tuvan.c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 Základní pojmy</a:t>
            </a:r>
            <a:endParaRPr b="0" lang="en-US" sz="4000" spc="-1" strike="noStrike">
              <a:solidFill>
                <a:srgbClr val="000000"/>
              </a:solidFill>
              <a:latin typeface="Calibri"/>
            </a:endParaRPr>
          </a:p>
        </p:txBody>
      </p:sp>
      <p:sp>
        <p:nvSpPr>
          <p:cNvPr id="207"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08"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6"/>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 name=""/>
          <p:cNvGraphicFramePr/>
          <p:nvPr/>
        </p:nvGraphicFramePr>
        <p:xfrm>
          <a:off x="971640" y="1628640"/>
          <a:ext cx="7704000" cy="4121280"/>
        </p:xfrm>
        <a:graphic>
          <a:graphicData uri="http://schemas.openxmlformats.org/drawingml/2006/table">
            <a:tbl>
              <a:tblPr/>
              <a:tblGrid>
                <a:gridCol w="3887640"/>
                <a:gridCol w="3816360"/>
              </a:tblGrid>
              <a:tr h="49860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ranice</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iên giớ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nitřní hranice</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iên giới bên trong</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nější hranice</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iên giới bên ngoà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chengenský prostor</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hối Schenge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stup na územ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hập cả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raniční kontrola</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iểm tra biên giớ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82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ư trú</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924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bytové oprávně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ược phép cư trú</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estovní doklad</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Giấy tờ đi lạ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2. Pobytové oprávnění</a:t>
            </a:r>
            <a:endParaRPr b="0" lang="en-US" sz="4000" spc="-1" strike="noStrike">
              <a:solidFill>
                <a:srgbClr val="000000"/>
              </a:solidFill>
              <a:latin typeface="Calibri"/>
            </a:endParaRPr>
          </a:p>
        </p:txBody>
      </p:sp>
      <p:sp>
        <p:nvSpPr>
          <p:cNvPr id="212"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13"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 name=""/>
          <p:cNvGraphicFramePr/>
          <p:nvPr/>
        </p:nvGraphicFramePr>
        <p:xfrm>
          <a:off x="971640" y="1628640"/>
          <a:ext cx="7704000" cy="4178520"/>
        </p:xfrm>
        <a:graphic>
          <a:graphicData uri="http://schemas.openxmlformats.org/drawingml/2006/table">
            <a:tbl>
              <a:tblPr/>
              <a:tblGrid>
                <a:gridCol w="4248000"/>
                <a:gridCol w="3456000"/>
              </a:tblGrid>
              <a:tr h="49104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íz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rátkodobé víz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 ngắn h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louhodobé víz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 dài h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chodný 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ạm trú</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louhodobý 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ư trú dài h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rvalý 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ịnh cư</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755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jezdní příka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ệnh xuất cả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8492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zyl</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ị n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205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3. Dlouhodobé vízum (1)</a:t>
            </a:r>
            <a:endParaRPr b="0" lang="en-US" sz="4000" spc="-1" strike="noStrike">
              <a:solidFill>
                <a:srgbClr val="000000"/>
              </a:solidFill>
              <a:latin typeface="Calibri"/>
            </a:endParaRPr>
          </a:p>
        </p:txBody>
      </p:sp>
      <p:sp>
        <p:nvSpPr>
          <p:cNvPr id="216"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17" name="Text Box 6"/>
          <p:cNvSpPr/>
          <p:nvPr/>
        </p:nvSpPr>
        <p:spPr>
          <a:xfrm>
            <a:off x="1042920" y="1628640"/>
            <a:ext cx="756144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ízum k pobytu nad 90 dn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 cư trú trên 90 ngà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Opravňuje po dobu platnosti ke vstupu, pobytu a vycestování z územ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o phép vào, cư trú và ra khỏi lãnh thổ trong thời hạ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Uděluje ho Ministerstvo vnitra na žádost cizince, který hodlá na území pobývat dobu delší než 3 měsí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 Bộ Nội vụ cấp trên cơ sở đơn đề nghị của NNN muốn cư trú tại Séc lâu hơn 3 thá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Na jeho udělení </a:t>
            </a:r>
            <a:r>
              <a:rPr b="0" lang="cs-CZ" sz="2400" spc="-1" strike="noStrike" u="sng">
                <a:solidFill>
                  <a:srgbClr val="000000"/>
                </a:solidFill>
                <a:uFillTx/>
                <a:latin typeface="Arial"/>
              </a:rPr>
              <a:t>není právní náro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Không có quyền đòi hỏi pháp lý</a:t>
            </a:r>
            <a:r>
              <a:rPr b="0" lang="cs-CZ" sz="2400" spc="-1" strike="noStrike">
                <a:solidFill>
                  <a:srgbClr val="000000"/>
                </a:solidFill>
                <a:latin typeface="Arial"/>
              </a:rPr>
              <a:t> với việc cấp thị thự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14320" y="333360"/>
            <a:ext cx="624204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4. Dlouhodobé vízum (2)</a:t>
            </a:r>
            <a:endParaRPr b="0" lang="en-US" sz="4000" spc="-1" strike="noStrike">
              <a:solidFill>
                <a:srgbClr val="000000"/>
              </a:solidFill>
              <a:latin typeface="Calibri"/>
            </a:endParaRPr>
          </a:p>
        </p:txBody>
      </p:sp>
      <p:sp>
        <p:nvSpPr>
          <p:cNvPr id="219"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0" name="Text Box 4"/>
          <p:cNvSpPr/>
          <p:nvPr/>
        </p:nvSpPr>
        <p:spPr>
          <a:xfrm>
            <a:off x="1042920" y="1773360"/>
            <a:ext cx="756144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zum se zpravidla uděluje na dobu 6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hị thực thường được cấp với thời hạn 6 thá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ádost o jeho udělení se zpravidla podává na zastupitelském úřadě ČR ve státě, jehož je žadatel občanem, a to </a:t>
            </a:r>
            <a:r>
              <a:rPr b="0" lang="cs-CZ" sz="1800" spc="-1" strike="noStrike" u="sng">
                <a:solidFill>
                  <a:srgbClr val="000000"/>
                </a:solidFill>
                <a:uFillTx/>
                <a:latin typeface="Arial"/>
              </a:rPr>
              <a:t>OSOBNĚ</a:t>
            </a:r>
            <a:r>
              <a:rPr b="0" lang="cs-CZ" sz="1800" spc="-1" strike="noStrike">
                <a:solidFill>
                  <a:srgbClr val="000000"/>
                </a:solidFill>
                <a:latin typeface="Arial"/>
              </a:rPr>
              <a:t> (§ 170 Z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Đơn xin cấp thị thực thường nộp tại cơ quan đại diện của CH Séc tại nước sở tại của người đệ đơn, và phải TỰ MÌNH ĐẾN NỘP (điều 170 Bộ luật Ngoại kiề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áležitosti (cestovní doklad, účel pobytu, prostředky k pobytu, zajištění ubytování, fotografie) k žádosti o udělení dlouhodobého víza nesmí být starší </a:t>
            </a:r>
            <a:r>
              <a:rPr b="1" lang="cs-CZ" sz="1800" spc="-1" strike="noStrike">
                <a:solidFill>
                  <a:srgbClr val="000000"/>
                </a:solidFill>
                <a:latin typeface="Arial"/>
              </a:rPr>
              <a:t>180 dnů</a:t>
            </a:r>
            <a:r>
              <a:rPr b="0" lang="cs-CZ" sz="1800" spc="-1" strike="noStrike">
                <a:solidFill>
                  <a:srgbClr val="000000"/>
                </a:solidFill>
                <a:latin typeface="Arial"/>
              </a:rPr>
              <a:t> (s výjimkou cestovního dokladu, matričních dokladů a fotografie cizince, pokud odpovídá jeho současn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Các giấy tờ cần thiết (giấy tờ tùy thân, mục đích cư trú, phương tiện tài chính, ảnh) nộp kèm đơn xin cấp thị thực dài hạn phải không được cũ quá </a:t>
            </a:r>
            <a:r>
              <a:rPr b="1" lang="vi-VN" sz="1800" spc="-1" strike="noStrike">
                <a:solidFill>
                  <a:srgbClr val="000000"/>
                </a:solidFill>
                <a:latin typeface="Arial"/>
              </a:rPr>
              <a:t>180 ngày</a:t>
            </a:r>
            <a:r>
              <a:rPr b="0" lang="vi-VN" sz="1800" spc="-1" strike="noStrike">
                <a:solidFill>
                  <a:srgbClr val="000000"/>
                </a:solidFill>
                <a:latin typeface="Arial"/>
              </a:rPr>
              <a:t> (trừ giấy tờ tùy thân, các giấy chứng nhận hộ tịch và ảnh của NNN nếu vẫn giống người hiện tạ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5. Dlouhodobé vízum (3)</a:t>
            </a:r>
            <a:endParaRPr b="0" lang="en-US" sz="4000" spc="-1" strike="noStrike">
              <a:solidFill>
                <a:srgbClr val="000000"/>
              </a:solidFill>
              <a:latin typeface="Calibri"/>
            </a:endParaRPr>
          </a:p>
        </p:txBody>
      </p:sp>
      <p:sp>
        <p:nvSpPr>
          <p:cNvPr id="222"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3" name="Text Box 4"/>
          <p:cNvSpPr/>
          <p:nvPr/>
        </p:nvSpPr>
        <p:spPr>
          <a:xfrm>
            <a:off x="1042920" y="1773360"/>
            <a:ext cx="756144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Dobu pobytu na území, která je </a:t>
            </a:r>
            <a:r>
              <a:rPr b="0" lang="cs-CZ" sz="2000" spc="-1" strike="noStrike" u="sng">
                <a:solidFill>
                  <a:srgbClr val="000000"/>
                </a:solidFill>
                <a:uFillTx/>
                <a:latin typeface="Arial"/>
              </a:rPr>
              <a:t>KRATŠÍ</a:t>
            </a:r>
            <a:r>
              <a:rPr b="0" lang="cs-CZ" sz="2000" spc="-1" strike="noStrike">
                <a:solidFill>
                  <a:srgbClr val="000000"/>
                </a:solidFill>
                <a:latin typeface="Arial"/>
              </a:rPr>
              <a:t> než doba platnosti víza lze opakovaně prodloužit, pokud trvá stejný účel pobyt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Thời gian cư trú NGẮN HƠN thời hạn có giá trị của thị thực có thể gia hạn liên tục nếu vẫn cùng một mục đích cư tr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Žádost o prodloužení dlouhodobého víza podává cizinec na území Ministerstvu vnitra, a to nejdříve </a:t>
            </a:r>
            <a:r>
              <a:rPr b="1" lang="cs-CZ" sz="2000" spc="-1" strike="noStrike">
                <a:solidFill>
                  <a:srgbClr val="000000"/>
                </a:solidFill>
                <a:latin typeface="Arial"/>
              </a:rPr>
              <a:t>90 dnů</a:t>
            </a:r>
            <a:r>
              <a:rPr b="0" lang="cs-CZ" sz="2000" spc="-1" strike="noStrike">
                <a:solidFill>
                  <a:srgbClr val="000000"/>
                </a:solidFill>
                <a:latin typeface="Arial"/>
              </a:rPr>
              <a:t> a nejpozději </a:t>
            </a:r>
            <a:r>
              <a:rPr b="1" lang="cs-CZ" sz="2000" spc="-1" strike="noStrike">
                <a:solidFill>
                  <a:srgbClr val="000000"/>
                </a:solidFill>
                <a:latin typeface="Arial"/>
              </a:rPr>
              <a:t>14 dnů</a:t>
            </a:r>
            <a:r>
              <a:rPr b="0" lang="cs-CZ" sz="2000" spc="-1" strike="noStrike">
                <a:solidFill>
                  <a:srgbClr val="000000"/>
                </a:solidFill>
                <a:latin typeface="Arial"/>
              </a:rPr>
              <a:t> před uplynutím doby povoleného pobytu nebo platnosti víz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Đơn xin gia hạn thị thực dài hạn được NNN tại Séc nộp cho Bộ Nội vụ, sớm nhất là </a:t>
            </a:r>
            <a:r>
              <a:rPr b="1" lang="vi-VN" sz="2000" spc="-1" strike="noStrike">
                <a:solidFill>
                  <a:srgbClr val="000000"/>
                </a:solidFill>
                <a:latin typeface="Arial"/>
              </a:rPr>
              <a:t>90 ngày</a:t>
            </a:r>
            <a:r>
              <a:rPr b="0" lang="vi-VN" sz="2000" spc="-1" strike="noStrike">
                <a:solidFill>
                  <a:srgbClr val="000000"/>
                </a:solidFill>
                <a:latin typeface="Arial"/>
              </a:rPr>
              <a:t> và muộn nhất là </a:t>
            </a:r>
            <a:r>
              <a:rPr b="1" lang="vi-VN" sz="2000" spc="-1" strike="noStrike">
                <a:solidFill>
                  <a:srgbClr val="000000"/>
                </a:solidFill>
                <a:latin typeface="Arial"/>
              </a:rPr>
              <a:t>14 ngày </a:t>
            </a:r>
            <a:r>
              <a:rPr b="0" lang="vi-VN" sz="2000" spc="-1" strike="noStrike">
                <a:solidFill>
                  <a:srgbClr val="000000"/>
                </a:solidFill>
                <a:latin typeface="Arial"/>
              </a:rPr>
              <a:t>trước khi cư trú hết hạn hoặc thị thực hết giá tr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6. Dlouhodobé vízum (4)</a:t>
            </a:r>
            <a:endParaRPr b="0" lang="en-US" sz="4000" spc="-1" strike="noStrike">
              <a:solidFill>
                <a:srgbClr val="000000"/>
              </a:solidFill>
              <a:latin typeface="Calibri"/>
            </a:endParaRPr>
          </a:p>
        </p:txBody>
      </p:sp>
      <p:sp>
        <p:nvSpPr>
          <p:cNvPr id="225"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6" name="Text Box 4"/>
          <p:cNvSpPr/>
          <p:nvPr/>
        </p:nvSpPr>
        <p:spPr>
          <a:xfrm>
            <a:off x="1042920" y="1628640"/>
            <a:ext cx="7561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vod ke zrušení dlouhodobého ví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Lý do hủy </a:t>
            </a:r>
            <a:r>
              <a:rPr b="0" lang="vi-VN" sz="1800" spc="-1" strike="noStrike">
                <a:solidFill>
                  <a:srgbClr val="000000"/>
                </a:solidFill>
                <a:latin typeface="Arial"/>
              </a:rPr>
              <a:t>thị thực dài hạ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avomocné odsouzení za úmyslný trestný čin k trestu odnětí svobody převyšující 3 rok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án tù hơn 3 năm đã có hiệu lực pháp lý vì tội hình sự cố ý gây r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plnění účelu, pro který bylo vízum udělen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không thực hiện đúng mục đích cư trú để cấp thị thự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edení nepravdivých údajů v žádost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khai dữ liệu không xác thực trong đơ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izinec přestane splňovat některou z podmínek pro udělení víz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NNN không còn đáp ứng được một điều kiện nào đó để cấp thị thự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dělaný, pozměněný nebo neplatný cestovní dokla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giấy tờ tùy thân làm giả, bị sửa đổi hay đã hết hạ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předložení dokladu o cestovním zdravotním pojištění</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không nộp giấy tờ về bảo hiểm y tế</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 další (§ 37 ZPC) - </a:t>
            </a:r>
            <a:r>
              <a:rPr b="0" lang="vi-VN" sz="1800" spc="-1" strike="noStrike">
                <a:solidFill>
                  <a:srgbClr val="000000"/>
                </a:solidFill>
                <a:latin typeface="Arial"/>
              </a:rPr>
              <a:t>và một số lý do khác (điều 37 Bộ luật Ngoại kiề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7. Dlouhodobý pobyt (1)</a:t>
            </a:r>
            <a:endParaRPr b="0" lang="en-US" sz="4000" spc="-1" strike="noStrike">
              <a:solidFill>
                <a:srgbClr val="000000"/>
              </a:solidFill>
              <a:latin typeface="Calibri"/>
            </a:endParaRPr>
          </a:p>
        </p:txBody>
      </p:sp>
      <p:sp>
        <p:nvSpPr>
          <p:cNvPr id="228"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9" name="Text Box 4"/>
          <p:cNvSpPr/>
          <p:nvPr/>
        </p:nvSpPr>
        <p:spPr>
          <a:xfrm>
            <a:off x="1042920" y="1628640"/>
            <a:ext cx="7561440" cy="40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Žádost o povolení k dlouhodobému pobytu je oprávněn podat cizinec, který na území pobývá na dlouhodobé vízum, hodlá na území přechodně pobývat po dobu delší než 6 měsíců a trvá-li stejný účel pobytu</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N</a:t>
            </a:r>
            <a:r>
              <a:rPr b="0" lang="vi-VN" sz="2000" spc="-1" strike="noStrike">
                <a:solidFill>
                  <a:srgbClr val="000000"/>
                </a:solidFill>
                <a:latin typeface="Arial"/>
              </a:rPr>
              <a:t>gười có quyền nộp đơn xin cư trú dài hạn là NNN đang sống trên lãnh thổ Séc với thị thực dài hạn, có ý định ở lại Séc lâu hơn 6 tháng và vẫn có cùng mục đích cư tr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Žádost se podává buď Ministerstvu vnitra (§ 42/1,2,4 ZPC) nebo na zastupitelském úřadě (§ 42/3 ZPC)</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vi-VN" sz="2000" spc="-1" strike="noStrike">
                <a:solidFill>
                  <a:srgbClr val="000000"/>
                </a:solidFill>
                <a:latin typeface="Arial"/>
              </a:rPr>
              <a:t>Đơn xin cư trú được nộp cho Bộ Nội vụ (điều 42/1,2,4 Bộ luật Ngoại kiều) hoặc cho Cơ quan đại diện (điều 42/3 Bộ luật Ngoại kiề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7. Dlouhodobý pobyt (2)</a:t>
            </a:r>
            <a:endParaRPr b="0" lang="en-US" sz="4000" spc="-1" strike="noStrike">
              <a:solidFill>
                <a:srgbClr val="000000"/>
              </a:solidFill>
              <a:latin typeface="Calibri"/>
            </a:endParaRPr>
          </a:p>
        </p:txBody>
      </p:sp>
      <p:sp>
        <p:nvSpPr>
          <p:cNvPr id="231"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32" name="Text Box 4"/>
          <p:cNvSpPr/>
          <p:nvPr/>
        </p:nvSpPr>
        <p:spPr>
          <a:xfrm>
            <a:off x="1042920" y="1628640"/>
            <a:ext cx="7561440" cy="40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áležitosti pro podání žádosti (a režim dlouhodobého pobytu obecně) jsou obdobné jako u podání žádosti o dlouhodobé vízum (§ 31 ZPC)</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ác thủ tục khi nộp đơn (và chế độ cư trú dài hạn nói chung) cũng tương tự như khi nộp đơn xin thị thực dài hạn (điều 31 Bộ luật Ngoại kiều)</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ba platnosti: potřebná k dosažení účelu pobytu, nejčastěji však na 2 roky (§ 44/4 ZPC); dobu platnosti lze opakovaně prodloužit za podmínek stanovených zákonem (§ 44a ZPC)</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ời hạn: thời gian cần thiết để đạt được mục đích cư trú, nhưng thường là 2 năm (điều 44/4 Bộ luật Ngoại kiều); thời hạn có thể được gia hạn liên tục theo những điều kiện luật pháp quy định  (điều 44a Bộ luật Ngoại kiề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5:00Z</dcterms:modified>
  <cp:revision>123</cp:revision>
  <dc:subject/>
  <dc:title>Snímek 1</dc:title>
</cp:coreProperties>
</file>