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dt" idx="1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sldNum" idx="17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D1F62-70EE-4F37-A433-3191FB52F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1313F-00BF-43A3-8C35-03D0858E21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7516F-93BC-4B33-9576-F13722C59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32EAD-C436-4EC2-A45A-36F84A72A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255FB-22D4-4616-BEE6-B005A32BF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63448-0B32-44E0-8146-C6C15E6A5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45DF4-219F-44C6-8BEF-170F03B0A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8ACF6-2141-4A15-BB6D-37A11DD6C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70286-E3D0-4825-954A-197067723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82489-EA35-4BFC-B628-98C863EBAD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2858F-EDDB-4B42-AD8D-2347D2B7E6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390BA-545F-4C9A-939E-7B391E829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99773-6033-4D5C-A55C-EA7775038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5E32-50B4-4DB7-8F2D-880F5BC7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2763-AAFB-43F3-98D7-160919BF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DF1B-14F2-4DAE-8A3D-763FC7AE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79F8-5A0E-4DDE-BDA5-D58C4136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B1F8-A8D0-4761-BF30-7E220CDE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F8D1-7664-4435-BABC-222EB00E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555B-F7B7-49AD-AB4F-1592726B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8330-5A66-4FEA-8401-E901863D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8995-5E98-414E-A72B-AAE7C592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0EB6-E6F8-4842-8C64-E7B573FB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2A1F-F966-4F9B-B960-CD4366B8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7CDC-14BF-48CB-995A-418828A7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B319-11A9-4510-8AF2-2CC23D84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906A-2932-4CAF-9C8B-99872C87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F405-003A-44D8-A857-D0BE06EB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18D8-41AC-48F0-8B30-0F4A9CCA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7029-4C45-40ED-B14A-DE6B4387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18FF-D445-4CB1-AE1E-C7C30305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74BD-B181-4D28-9124-8CFF8BED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6E3C-8278-40A3-96E2-213C6568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B498-3727-4EB1-B07D-44F76550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B835A-52B5-4CF2-B311-852E42AA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73E8D-25AA-4BED-B4F0-CD31109E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7D87A-5DE4-420E-B961-80ECA5EE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76659-C4CF-4D9D-ACF3-7E07955A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98DCD-8EA0-4FD5-8B69-3598CCDE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E39E0-0A0E-4E5F-BF34-C0AF9298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3136D-442E-4E31-BE04-0FE0319D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7A410-A104-4CE1-AD8A-06321784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852E2-7AF0-48AD-BE31-00F3684D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8ACA-6816-4297-9EA2-674FE550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1A7CD-3B1F-44DA-8A8C-DAA01012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DEB35-F5C9-464E-92D2-03E8D9BF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FCAB4-7540-433C-A875-E6CE77BB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AAE6B-CBC8-4C26-A593-94E31EF2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355C9-015D-4B07-9239-FC6BB539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DA06F-8E1F-4AE2-8216-41395FD3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0B542-34E7-4915-99FB-EBCCB928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69D33-248F-42BC-B733-C5D29AED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D612C-1BBC-4434-8ABC-CE4D4444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B48B9-60E6-4221-B3D3-27959D24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57B0-6C36-455B-BD3D-EDA5189A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B50FA-077C-483A-9914-29CAFE67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B9D94-94B6-4BC3-B2A7-CFD063CE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AD616-2568-42A2-B940-5261932B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76556-F913-4C3B-A475-33FCBD4D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241E9-38FA-4EE1-AE20-5F479359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5A809-1F7E-4548-8B5B-3A4BAE87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E4124-E821-449C-A24A-823ABE76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C416F-E87E-4BE8-83EF-8D0F78A9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B2EEC-65BD-478D-AEE0-164ED90E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0701E-919C-44D2-943A-0B1C74DB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73E5-C180-4766-AB6F-513A5600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08DEF-FED5-4F47-9841-1FEC0C99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B050F-37F6-42DE-9424-3426AAB9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DE80D-7937-402E-92B3-17B4E6EF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937C8-4C72-4FF2-AE38-0992C9FC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0DE29-66AB-46EF-85BA-CEBC4379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38200-7409-4EB0-B312-90F02C6A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6001C-37B2-456C-9984-01B85D32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.10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079680"/>
            <a:ext cx="289404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to projekt je realizován v rámci veřejné zakázky MP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36A494-DDA9-4396-8182-DA4CA2395DA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 flipH="1">
            <a:off x="853920" y="0"/>
            <a:ext cx="5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7.10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F9BB0C6-4BE1-4BAE-ADF2-061C5C2F5C29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 flipH="1">
            <a:off x="853920" y="0"/>
            <a:ext cx="5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7.10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5758A18-1FD0-4FA8-B22A-2A0191DD733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7.10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91C1123-387F-48B8-98EC-95389C5818E5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7.10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DF892C3-9876-49F0-899F-E5FA8B8DB93C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1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2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5" descr="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"/>
          <p:cNvSpPr/>
          <p:nvPr/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живание иностранцев на территории Чех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Словарик (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8" name="Group 2"/>
          <p:cNvGrpSpPr/>
          <p:nvPr/>
        </p:nvGrpSpPr>
        <p:grpSpPr>
          <a:xfrm>
            <a:off x="900000" y="1557360"/>
            <a:ext cx="0" cy="4551480"/>
            <a:chOff x="900000" y="1557360"/>
            <a:chExt cx="0" cy="4551480"/>
          </a:xfrm>
        </p:grpSpPr>
        <p:sp>
          <p:nvSpPr>
            <p:cNvPr id="519" name="Line 5"/>
            <p:cNvSpPr/>
            <p:nvPr/>
          </p:nvSpPr>
          <p:spPr>
            <a:xfrm>
              <a:off x="900000" y="1557360"/>
              <a:ext cx="0" cy="4551480"/>
            </a:xfrm>
            <a:prstGeom prst="line">
              <a:avLst/>
            </a:prstGeom>
            <a:ln w="5760">
              <a:solidFill>
                <a:srgbClr val="c4dc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0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32632C-B95F-4B62-A586-F0E6F5673FE9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Словарик (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" name="Group 2"/>
          <p:cNvGrpSpPr/>
          <p:nvPr/>
        </p:nvGrpSpPr>
        <p:grpSpPr>
          <a:xfrm>
            <a:off x="900000" y="1584360"/>
            <a:ext cx="0" cy="4508640"/>
            <a:chOff x="900000" y="1584360"/>
            <a:chExt cx="0" cy="4508640"/>
          </a:xfrm>
        </p:grpSpPr>
        <p:sp>
          <p:nvSpPr>
            <p:cNvPr id="524" name="Line 5"/>
            <p:cNvSpPr/>
            <p:nvPr/>
          </p:nvSpPr>
          <p:spPr>
            <a:xfrm>
              <a:off x="900000" y="1584360"/>
              <a:ext cx="0" cy="4508640"/>
            </a:xfrm>
            <a:prstGeom prst="line">
              <a:avLst/>
            </a:prstGeom>
            <a:ln w="5760">
              <a:solidFill>
                <a:srgbClr val="c4dc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5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47BDEC-A961-4B0F-BB96-FA1AABC9DA7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1"/>
          <p:cNvSpPr/>
          <p:nvPr/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живание иностранцев на территории Чех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Иммиграция – виды и прич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2"/>
          <p:cNvSpPr/>
          <p:nvPr/>
        </p:nvSpPr>
        <p:spPr>
          <a:xfrm>
            <a:off x="1042920" y="1714680"/>
            <a:ext cx="774396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бровольная миграция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работа, воссоединение семьи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ынужденная миграц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беженцы, политическое убежищ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чины миграции в Чехию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бота, предпринимательство 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ýdělečná činnost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оссоединение семь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чеб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еженцы (самая малочисленная категория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4361CC-8C65-4B5E-8427-0067D4CD5A3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1714680" y="281160"/>
            <a:ext cx="588168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Законы и институции, регулирующие проживание иностранцев на территории Чех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3"/>
          <p:cNvSpPr/>
          <p:nvPr/>
        </p:nvSpPr>
        <p:spPr>
          <a:xfrm>
            <a:off x="900000" y="1628640"/>
            <a:ext cx="788688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2200" indent="-3222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92080"/>
                <a:tab algn="l" pos="180648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892080"/>
                <a:tab algn="l" pos="180648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Закон № 326/1999 Сб. зак. «О проживании иностранцев в Чешской Республике»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действующей редакции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(Zákon o pobytu cizinců na území České republiky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892080"/>
                <a:tab algn="l" pos="180648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конодательство  Европейского Союза, в первую очередь,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иректива Совета (Европейского Союза) № 539/2001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которая определяет перечень государств, граждане которых должны иметь визу при пересечении внешней границы ЕС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892080"/>
                <a:tab algn="l" pos="180648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Шенгенский кодек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92080"/>
                <a:tab algn="l" pos="180648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92080"/>
                <a:tab algn="l" pos="180648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ституци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892080"/>
                <a:tab algn="l" pos="180648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инистерство внутренних дел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nisterstvo vnitra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892080"/>
                <a:tab algn="l" pos="180648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епартамент беженцев и миграционной политики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dbor azylo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é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igra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litiky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892080"/>
                <a:tab algn="l" pos="180648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лиция по делам иностранцев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Cizinecká policie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892080"/>
                <a:tab algn="l" pos="180648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6C68B7-CE90-417E-9080-CCC1D00114C7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Категории иностранцев в Чех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1042920" y="1714680"/>
            <a:ext cx="7489800" cy="40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кон об иностранцах делит иностранцев н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аждан ЕС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аналогичный режим применяется в отношении граждан Норвегии, Исландии, Лихтенштейна и граждан Швейцарии) и членов их сем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аждан так наз. «третьих стран»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гражданине государств, не входящих в состав ЕС и одновременно не являющийся гражданами Исландии, Лихтенштейна, Норвегии и Швейцар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4955B7-6CE9-4579-809E-382A823A9B92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Виды проживания иностранцев на территории Чех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"/>
          <p:cNvSpPr/>
          <p:nvPr/>
        </p:nvSpPr>
        <p:spPr>
          <a:xfrm>
            <a:off x="900000" y="1700280"/>
            <a:ext cx="78868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algn="just">
              <a:lnSpc>
                <a:spcPct val="150000"/>
              </a:lnSpc>
              <a:tabLst>
                <a:tab algn="l" pos="0"/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Verdana"/>
              </a:rPr>
              <a:t>1.Временное проживани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řechodný poby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раткосрочное проживание (сроком до 90 дней)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kodob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ý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by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 – Шенгенская     виза или виза с ограниченным территориальным действие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tabLst>
                <a:tab algn="l" pos="0"/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эродромная (транзитная) виза (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tištní (průjezdní) vízum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tabLst>
                <a:tab algn="l" pos="0"/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транзитная виза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průjezdní vízum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tabLst>
                <a:tab algn="l" pos="0"/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виза на проживание сроком до 90 дней (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ízum k pobytu do 90 dnů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олгосрочное прожива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louhodobý poby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tabLst>
                <a:tab algn="l" pos="0"/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иза на срок более 90 дней (vízum k pobytu nad 90 dnů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tabLst>
                <a:tab algn="l" pos="0"/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разрешение на долгосрочное проживание (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olen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 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louhodob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 pobytu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tabLst>
                <a:tab algn="l" pos="0"/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«Зеленая карта» (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en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kart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 и «Синяя карта» (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drá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rta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 — разрешение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на долгосрочное проживание с целью трудоустройства в особых случая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ыездная виз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ýjezdní příkaz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дается на срок не более 60 дней в случае, если легальное проживание иностранца в ЧР было прекращен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Verdana"/>
              </a:rPr>
              <a:t>2. Постоянное проживани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Trvalý pobyt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Verdana"/>
              </a:rPr>
              <a:t>3. Гражданство ЧР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átní občanství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D9BB4E-9E3F-4597-AB57-33AA0C20AD2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0033"/>
                </a:solidFill>
                <a:latin typeface="Verdana"/>
              </a:rPr>
              <a:t>Цель проживания (</a:t>
            </a:r>
            <a:r>
              <a:rPr b="0" lang="en-US" sz="2600" spc="-1" strike="noStrike">
                <a:solidFill>
                  <a:srgbClr val="990033"/>
                </a:solidFill>
                <a:latin typeface="Verdana"/>
              </a:rPr>
              <a:t>účel pobytu</a:t>
            </a:r>
            <a:r>
              <a:rPr b="0" lang="ru-RU" sz="2600" spc="-1" strike="noStrike">
                <a:solidFill>
                  <a:srgbClr val="990033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2"/>
          <p:cNvSpPr/>
          <p:nvPr/>
        </p:nvSpPr>
        <p:spPr>
          <a:xfrm>
            <a:off x="1042920" y="1714680"/>
            <a:ext cx="7743960" cy="40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случае, если иностранец проживает в Чехии не на основании ПМЖ или политического убежища, он должен сообщать цель своего проживания и обосновывать его соответствующими документ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Закон об иностранцах» различает следующие цели проживан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чеб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udiu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сследовательская деятельность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ědecký výzku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рудоустройство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aměstnání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едпринимательская деятельность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dnikání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вместное проживание или воссоединение семьи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polečné soužití rodiny/sloučení rodiny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559A10-2216-47FE-9938-ACD3832A60AA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0033"/>
                </a:solidFill>
                <a:latin typeface="Verdana"/>
              </a:rPr>
              <a:t>ПМЖ - остоянное место жительства (Trvalý pobyt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2"/>
          <p:cNvSpPr/>
          <p:nvPr/>
        </p:nvSpPr>
        <p:spPr>
          <a:xfrm>
            <a:off x="900000" y="1714680"/>
            <a:ext cx="7886880" cy="55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9340920"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 соблюдении определенных условий подать заявление на получение ПМЖ    может каждый иностранец по 5 годах пребывания в Чех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9340920"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аво и возможность жить в Чехии без обязательного переоформления разрешения на пребывани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9340920"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ладатели ПМЖ имеют практически те же социальные льготы и гарантии, что и граждане Чехии. Организация бизнеса, получения кредитов, медицинское обслуживание, условия покупки недвижимости и т.п. для граждан и жителей, имеющих статус ПМЖ одинаков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9340920"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атус ПМЖ накладывает на его обладателя те же обязательства, какие имеет и гражданин этой стран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ем отличается постоянный житель страны от гражданин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МЖ не дает возможности участвовать в выборах или быть избранным в какие бы то ни было органы власти, служить в армии или в полици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93997F-A27E-4CC5-A725-15367EECD93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Политическое убежище (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Azyl</a:t>
            </a: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) и бежен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2"/>
          <p:cNvSpPr/>
          <p:nvPr/>
        </p:nvSpPr>
        <p:spPr>
          <a:xfrm>
            <a:off x="971640" y="1628640"/>
            <a:ext cx="7743600" cy="45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Чехии вопросы, связанные с предоставлением политического убежища и статус беженцев регулирует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«Закон о политическом убежище»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№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25/1999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собр. законов. 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Zákon o azylu”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Политическое убежищ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— особый правовой статус, предоставляемый государством лицам, ищущим убежище и защиту от преследования или реальной угрозы стать жертвой преследования в соей стран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ица, подавшие документы на статус "политического беженца»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обходимо доказать индивидуальное преследов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литические беженц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ица, находящиеся под так наз. «дополнительной охраной»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soby požívající doplňkovou ochranu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не доказано индивидуальное преследование; лица, находящиеся под угрозой (военные действие, голода и т.п.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ременная охран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časná ochrana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— используется при чрезвычайных обстоятельствах при большом количество беженцев — войны, стихийные действия, голод. В отличие от политических беженцев, в данном случае необязательно доказывать индивидуальное преследовани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E729A1-FE72-4A3F-BD57-2158C5BEB25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Нелегальное пребывание иностранцев на территории ЧР и депорт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2"/>
          <p:cNvSpPr/>
          <p:nvPr/>
        </p:nvSpPr>
        <p:spPr>
          <a:xfrm>
            <a:off x="1042920" y="1628640"/>
            <a:ext cx="7743960" cy="66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чины и процедура депортации регулируется Главой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кона об иностранц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епортация 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právní vyhoštění)  -  завершение пребывания иностранца не территории ЧР, установление сроков выезда из страны и периода, во время которого иностранцу будет отказано во въезде на территорию Е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зависимости от причин депортации длительность периода отказа во въезде на территорию ЕС может быть 3, 5 или 10 ле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рок выезда с территории ЧР – от 7 до 60 дней в зависимости от ситу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сновные причины депортаци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законное пересечение границ Ч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сильственные действия со стороны иностранца и нарушение общественного поряд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дделка документов и использование недействительных документов во время нахождения в ЧР или пересечения грани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легальное трудоустрой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доставление органам власти ложной информ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роза общественному здоровью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36E8C7-EE41-4B5D-A253-56D8A70FBC1B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1:34Z</dcterms:modified>
  <cp:revision>132</cp:revision>
  <dc:subject/>
  <dc:title>Snímek 1</dc:title>
</cp:coreProperties>
</file>