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D2803-124B-484A-8E26-3FC6A3D26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41540-59A1-4C1A-9417-348C10327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FE3B9-381D-4D8B-8927-91A08D83F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51ABB-5E44-42DD-A776-9DA503B3E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ACF33-2F41-4C2C-A574-FC543973C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971B0-BAD2-4CED-9DD2-4528911FA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BEBD9-4074-4F25-BFA7-4D9045C20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54AB7-9DA4-4255-B08E-AE00890AD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8F00-E371-4D13-B30B-1AFFF928B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12FA5-1382-4BF7-8088-6E8DA1F92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9A4C2-558A-4F8C-A0DD-1DFFE14A8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A1E-0401-4CE9-8A49-B498135A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5B1-8734-4FFF-8716-22789095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B08-6130-468C-B700-EEBA158A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DF3-CF0E-4F92-A51E-070CCD77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A25-1DED-467E-931C-0352F460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18A-16B4-49E9-B546-3363FC7E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08C-BE17-430B-87B8-C90A65F2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8110-92C2-4B95-9634-F56BC5F8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9E1-257F-4AEC-A360-A86C55FF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EBF9-7BE2-4477-9623-B6201968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67FE-4A85-4040-864F-A449087B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5561-7C6A-41D7-9E11-D04D15F1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5436-77BC-47AF-845A-6DE98CB3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AEFE-8B28-4334-87E7-AAE21A2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2122-1DD0-4634-9907-616E80D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BA40-FA60-4D1A-88E4-BDD09E71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72EE-85E1-4AB8-8D62-4B8070C9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995F-DA39-48C2-B61F-B4FDEC98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5A59-87B4-4B6F-B175-63A4DC48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11C-9116-4DC9-9C64-84636B36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C3F3-2BCC-4B29-9334-C44F5589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5569-5F17-4B65-92E0-29958E6B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85A3-E4C1-436B-A124-CA0A866E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CC07-CF69-41E8-86F5-3EBC7A5D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E78A-7500-4F54-93FA-FAC525D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7D16-2CCF-4E3E-87B8-AA4FF66B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1847-D4D9-4420-A7E1-133FEA0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21E3-56D8-46A4-838E-FACB5273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A7E81-8316-40CF-B8F3-D49EDC4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FB40-BF63-478F-8E88-F8F6E8A4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CC6-B65E-4574-8837-D7031DA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E1BD-A65F-4523-A34A-E5EB9281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F5AF-AD01-440E-9C93-38C3CF46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C7F0-EEBF-4680-8877-07C72945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B9EE-A710-49E0-A7CA-F9524560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F3D74-4143-4B35-A665-415989D1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F6CA-B55F-49DC-9C8B-72FC53F4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7EAD-8820-42B5-9355-DE75F271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C061-B960-44CD-B454-25400B98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205A-FDC9-4CC1-B1CE-76DC059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8E2E-476C-41DB-A3DD-4E7E048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B76-6852-439E-9E8B-5C0B9B79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669BF-D1CA-4BD2-97A4-FE7AE680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70D8-28E6-452F-8A4A-B4A532ED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0135-E0F1-41CD-A3ED-E3366D68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FE9D-2A39-4023-B2C2-5FEC3655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9371-E633-4E7F-9D89-48D2B188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E2EE6-EDCE-4629-80D3-503BC211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03FF-8B03-40FC-A200-20FCCDF2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C918-8521-40AD-9FFD-62932F74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2D886-94F6-4111-92F3-3E8DAD07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5575-7A2D-4E1B-99E9-21B4C3DD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DB7-1DA7-420A-B000-B78C929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5B91-5EA4-4174-BD44-BF988B5E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B15C-376C-4571-AE5B-3825EC66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839E-3311-4BAE-A601-7C2DEB3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8F965-8CF7-4E51-9DBA-84E472E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8CC6F-1E66-4DB6-9DB5-B968048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DA8F5-8A94-4642-85B1-5915D088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3F616-72D6-4C53-8F98-832CE174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E3F42-2470-499B-9FDB-358BDDE9A0B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7CDED7-3A90-4D02-A3A1-41B956B622D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42CE2D-79BC-4CD9-9A1C-A308978F24C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84591D-6D36-4D76-82BE-1F86F7F199E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EBFF12-67E6-4274-9D7C-13E43D99548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uzk.cz/" TargetMode="External"/><Relationship Id="rId2" Type="http://schemas.openxmlformats.org/officeDocument/2006/relationships/hyperlink" Target="http://www.bezrealitky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2879640" y="3959280"/>
            <a:ext cx="594036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yd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539640" y="360360"/>
            <a:ext cx="8604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Приобретение собственной квартиры или д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овия приобретения иностранцами недвижимости в Чешской Республике регулируются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алютным законом № 219/1995 Сб. законов, в действующей редак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окупка дома или квартиры оформляется заключением договора купли-продажи между продавцом и покупателем, который должен удовлетворять требованиям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Гражданского кодекса / občanský zákoní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закон № 40/1964 Сб. законов). Договор должен быть заключен в письменной форме, в противоположном случае он является недействительным. Покупатель становится собственником квартиры или дома в момент регистрации права собственности в кадастре недвижимости (а не в момент подписи договора купли-продажи!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460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dle devizového zákona bylo do května 201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bývání bytů a domů cizinci omezeno 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my a byty mohli nabývat pouze tuzemci – tj. fyzické osoby s trvalým pobytem na území České republiky nebo právnické osoby se sídlem na území České republiky a cizozemci uvedení v § 17 devizového zákona. Novelou devizového zákona, která byla zveřejněna dne 19. 7. 2011 ve Sbírce zákonů pod číslem 206/2011 (částka 73), bylo cizincům umožněno nabývat nemovitosti, včetně bytů, bez omezení. V praxi zapisovaly katastrální úřady nemovitosti nabyté cizinci již od 1. května 2011, neboť toho dne skončilo pro ČR 2. přechodné období, které toto právo předtím omezov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to změna se netýká nabývání zemědělské půdy a lesů ze státního vlastnictví České republiky, které upravuje zákon č. 95/1999 Sb., o podmínkách převodu zemědělských a lesních pozemků z vlastnictví státu na jiné osoby a o změně zákona č. 569/1991 Sb., o Pozemkovém fondu České republiky, ve znění pozdějších předpisů, a zákona č. 357/1992 Sb., o dani dědické, dani darovací a dani z převodu nemovitostí, ve zněnípozd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ších 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dpi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539640" y="0"/>
            <a:ext cx="846000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трывок статьи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Сотни иностранцев, которые приобрели недвижимость в Чешской Республике с мая по июль 2011 года, возможно, заключили договор незаконно.Так называемый девизионный закон, который упростил иностранцам процесс покупки недвижимости в ЧР, действует пока только месяц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ля приобретения квартиры или дома больше не нужно открывать ООО или заключать брак с гражданином ЧР – теперь достаточно просто иметь деньги.Чехия пользовалась отсрочкой на принятие этого закона до мая 2011 года, закон же вступил в силу в августе 2011. Но иностранцам начали продавать недвижимость сразу после окончания отсрочки: май, июнь и июль, таким образом, оказались «вне закона». «Если бы кому-нибудь пришло в голову оспорить эти сделки в суде, то с большой вероятностью суд признал бы их незаконными, а договоры купли-продажи недействительными », - прокомментировал ситуацию юрист Ярослав Марши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360360" y="0"/>
            <a:ext cx="8783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Аренда жилья / Bydlení v náj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В отличие от покупки жилья в частную собственность, аренда / nájem доступна более широкому кругу лиц. Правовое оформление аренды жилья содержится в гражданском кодексе. Гражданский кодекс позволяет передать арендованную квартиру или ее часть в субаренду / podnájе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Nájem bytu vzniká na základě nájemní smlouvy mezi pronajímatelem bytu a nájemcem nebo na základě jiných právních skutečností, které upravuje občanský zákoník,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např. přechodem nájmu.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Nájemní smlouva musí být písemná a musí obsahovat krom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ě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základních náležitostí (nap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ř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. ozna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ení smluvních stran), ješt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ě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náležitosti vyjmenované ve zvláštní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ásti ob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anském zákoníku upravující nájem bytu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(označení bytu, jeho příslušenství, rozsah jejich užívání a způsob výpočtu nájemného a úhrady za plnění spojená s užíváním bytu nebo jejich výši),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jinak je neplatná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. Pokud není doba nájmu ve smlouvě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dohodnuta, má se za to, že je smlouva uzavřená na dobu neurčit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181080"/>
            <a:ext cx="7920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аво аренды возникает на основании договора аренды, заключенного между арендодателем и арендаторо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на основании иных юридических фактов, которые регулируются в Гражданском кодексе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Договор аренды должен заключаться в письменной форме и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мимо основной информации (напр. наименование сторон договора)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содержа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е, указанные в особой части Гражданского кодекса, регулирующей аренду недвижимости (информация о квартире, обстановке и нежилых помещениях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 пользования, способ расчета арендной платы и платежей за услуги, связанных с пользованием квартирой или размер платежей)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без указания ко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ых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договор является недействительн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случае, если срок аренды в договоре не указан, договор считается заключенным на неопределенный ср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539640" y="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Прекращение аренд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 bytu 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 zaniknout 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ika z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b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ísemnou dohodou uzavřenou mezi pronajímatelem a nájemce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uplynutím doby, na kterou byl nájemní vztah sjedná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ísemnou výpovědí nájemce (bez uvedení důvodu), nebo pronajímatele (vždy z důvodů uvedených v občanském zákoníku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harakteru výpovědního důvodu může pronajímatel nájem vypovědět bez přivolení soudu nebo s přivolením soudu. Výpovědní lhůta nesmí být kratší než 3 měsíce a musí skončit ke konci kalendářního měsí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pronajímatel vypoví nájem bez přivolení soudu, může nájemce do šedesáti dní podat žalobu na určení neplatnosti výpovědi k soudu. Nájemce není povinen byt vyklidit, pokud řízení o neplatnosti výpovědi není ukončeno pravomocným rozhodnutím soudu. Téměř ve všech případech výpovědi z nájmu bytu přísluší nájemci bytová náhrada popř. Přístřeš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tastr nemovitostí  </a:t>
            </a:r>
            <a:r>
              <a:rPr b="1" lang="ru-RU" sz="2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://www.cuzk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ové stránky Ministerstva pro místní rozvoj – 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http://www.mmr.cz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tová polit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http://www.bezrealitky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720720" y="900000"/>
            <a:ext cx="79200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osobní vlastnictví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— личная / частная собственнос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devizový zákon -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евизионный / валютный зако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novel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дополнение / поправ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kupní smlouv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оговор купли-продаж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nájem — арен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podnájеm — субарен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přivolení soudu –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 c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огласие су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bytová náhrada – возмещение / компенсация жиль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bytové družstvo 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жилищно-строительный кооперати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stanovy družstv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устав кооперат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01Z</dcterms:modified>
  <cp:revision>88</cp:revision>
  <dc:subject/>
  <dc:title>Snímek 1</dc:title>
</cp:coreProperties>
</file>