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2A8-B150-4A56-934D-5C7DD7CE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9A1-6649-4797-B49C-90853130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31F-2662-41B9-83BA-0DC11954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361-61CB-4B40-8E64-63F6B61B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0B4-966E-423E-AD05-0CBF91EA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21C-24E8-4204-91C7-48E6C7D9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6C2-CAF8-46CC-A25A-801BFF3C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F39B-8AAB-4659-B61E-2480F0C6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3B2-969E-4235-9436-7D907987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641-C676-40A4-A691-002F66A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FAF7-9956-48B8-8DFD-D76966E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750A-64D9-49B3-9CAF-62EAD77B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E647-9F8A-476A-9835-E68E56B7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C82D-433B-4824-98FE-8769AA6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E2DC-482B-4824-91AF-A65A263A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0C73-B6DF-4506-BFA0-AD2CCE8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672F-6751-4B39-B051-F9975040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DB83-F97E-48C9-ACBE-363D837C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02B0-5EF5-481A-9914-FA04362E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D2A-C031-4C57-81FF-6F45CE37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1AC2-5474-4E96-9F8A-6D93EB6B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BF37-7531-4153-917F-510AD20D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0A21-AE4A-4161-9C81-EB40DD84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B9F1-3CC8-4198-B3F8-704AE607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742A-FAA5-4097-8B81-DFBF1853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E36C-1ADE-4FCD-95AD-6422635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EF13-9469-4371-B5A1-F1D0623E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C288-F692-4014-BAD5-BCC0EEE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1082-6456-4066-9196-C5CCE608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4244-106B-4F9F-A41C-5BD357E7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DE5-A05A-4FB8-A163-83BB958C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72A1-0FF7-4047-B1FF-0E2FC9EC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030F-4F33-4E74-917D-890D99AF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48EE9-F665-44CB-95B6-C25F1739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9EF8F-D046-439C-B518-76A2A523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46F5-6859-4DA6-9A79-693790F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012EA-3ABE-4452-8FEE-EA172214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E6E42-BCEA-42C9-8708-F5592C12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6B77-28AA-4941-AF81-8333022C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ABB92-D959-4443-9C22-B34EE75A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AFCC-36F9-4B2A-99EC-F03802E5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BA0-64AC-4A46-AE69-CAD8DFCD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3A3F-6D85-48F6-AB9D-65172C6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804E4-AE6A-4733-BEEA-8F92F67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9355-2F1E-4164-B1E5-63F3670A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50D1-98DA-401C-A372-5F3F5613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736E-AD34-4A41-B12F-69C2721D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5BA9-4339-4B3C-A56F-B6594F15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F4FD-E081-4037-9C93-DCBBB4BA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3D770-9795-4133-87A2-CC65085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67606-A912-4548-8875-AE39D4A0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B16F7-53C9-45E2-AC60-13587987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54F-0E22-4F43-9234-5D7EFF55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AEFF-018A-4334-A05F-5CDCFBD2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20C3-7F86-41B4-9CC1-9215377B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52AD-1343-4E2A-A185-57117D6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FE44-72F8-40AB-B808-A1D96DE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C5EA-B6CC-4CB3-9A36-F3AF8282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258A-8080-4E84-9C58-71DCB3BF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AAD5B-6FEC-4985-B82C-4160EEAA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E8F0-74D5-4EB3-9495-5105EF7338E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B86-B357-4352-8522-506F50857F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54AA-D825-4729-8E1D-D98355FFF6B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D614-91B8-4E96-B89A-2C2D9E38477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8551-C7E8-49FA-AF8F-6B8E9C7F3F4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F9BB-68C0-4392-8EE3-CAB1E3ED867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8157-B4D1-4B89-80A3-4637B4FF185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C7F0-14CB-44BD-8B98-18471874107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AB59-A023-4BA4-8F40-7968364F31E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3005-F3C1-4979-9C30-9A843507A55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дравоохран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Медицинское страх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язательное медицинское страхование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řejné zdravotní pojištění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говорное медицинское страхова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smluvní zdravotní pojiště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стическое ( краткосрочное и долгосрочное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estovní zdravotní pojištění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мплексное медицинское страхование для иностранцев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komplex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í zdravotní pojiště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dstandardní  výk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mluvní nemocn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ř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553D-E8FD-4842-9ED5-5F87F1AC9B4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Виды медицинской помощ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mbulan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амбулаторная медицинск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v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emocniční léčba)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тационарная медицинск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Lůžková péče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тационарн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eventivní péče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ispenzární péč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диспансерн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Lázeňská péč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санаторно-курортн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éče v odborných dětských léčebnách a ozdravovnách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лечение в специализированных детских лечебницах и санатори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Závodní  preventivní péč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заводское профилактическ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u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neodklad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неотложн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imární péč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первич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oúrazová a pooperační rehabilitac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п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осттравматическая и послеоперационная реабилит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onziliární vyšetře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обследование врачебным консилиум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Repatriac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554E-323F-46C3-84D4-2AACA895B7C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Неотложная и скорая помощь</a:t>
            </a:r>
            <a:br>
              <a:rPr sz="2400"/>
            </a:b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(P</a:t>
            </a: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ohotovostní a záchrann</a:t>
            </a: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á</a:t>
            </a: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 služb</a:t>
            </a: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 prv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SP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ran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S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ych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L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ych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Z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te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ran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Z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prav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Z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nitk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ra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ř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i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č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ra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538C-C166-4124-B7C0-7AD4F1B0FF8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дравоохра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27Z</dcterms:modified>
  <cp:revision>94</cp:revision>
  <dc:subject/>
  <dc:title>Snímek 1</dc:title>
</cp:coreProperties>
</file>