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DB62D-BA93-4FB5-BD68-DD905AA35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AFCB4-1AB6-4DE4-8796-61F956B0E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709E6-6561-4480-99CD-E28101C94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C53B6-62FC-4D81-B3C5-B7FC4BF4C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80D57-5BB3-4288-B7C2-0C061638B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17D15-A2EA-4474-AD5F-AFA8F73A0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0407B-F414-464F-B0B6-3E7489F1A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7DCBC-E255-4447-A927-4B6A94B55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7960C-2DFE-4C62-B75F-626B03383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BCD49-B136-4B8C-84A7-64F83F53E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C30-6491-4B25-B8EA-2A78CE8C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0E7-C6C8-482D-BD94-61A5DF6B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40F-9ECD-46D3-911F-0E9C2ABD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097-FBB7-4F69-A794-76F31F7E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264-B568-48B4-82D9-EBB5DC7B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471-39DB-4572-A343-EB9DB432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7A8-A56F-4CD9-95E9-D321B61B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A8F1-40D9-403F-8384-9C9EDAA8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323-21B3-4305-9D1B-6DFB1EE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94FD-FA77-45AF-AA27-00CA7889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4B6F-5B8C-4418-B2AD-65BE00A8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E636-7179-4674-9FB8-30A51F11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D2D7-02D3-461D-8B66-E380B054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D1AB-895D-455B-8FAA-63E6D240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96F9-DDE5-45A2-AA82-6F40A52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16F0-8C99-4074-B3B6-8D252E2E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0827-7230-4986-949E-1DD7D53F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FF04-D806-4E7E-BBD0-888C237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DC38-B469-4D7A-BB89-99FCE5BD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984-F689-48C6-B32B-C9E011FB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9813-0A53-4CD3-BB45-A490392F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119D-543A-462F-B19C-EE27FA26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B287-226C-4F9C-98F2-6C17428A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7CE4-BC43-444E-95DE-3EB3EFAB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6FCB-0544-4441-AD64-93E05DAA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B718-9C5F-4395-8ABA-32B74DE3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976C-7FCF-41E6-B567-49083C26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A1C3-DC97-4E5D-9B6F-1CBFA1D1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975B-E957-47AE-9E0F-AA21974E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16F9-60F7-40B2-834E-2CCF841C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746-D411-4C57-B5A6-68B41050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12888-64FD-4ECA-8B6C-0C6AFD70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A883-1642-4E48-B2D8-02CBBC63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96C38-5469-4749-9F14-A7CEB27C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0F58-1C39-4414-A374-0CF808DD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B22AD-8F0A-4208-BACD-529B5E16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FAB01-79D5-4CE3-961C-C03CB7A2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D502-65FC-4DA2-AFA3-F816F0F4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15854-1260-44B3-88E0-C6390B10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71F69-C52D-43F8-BCF8-10AC0291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093F-0D70-4367-B915-8E62F5CD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93F-3A9C-4DA5-9F05-5B85CFE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C7A6-DEAA-4C1E-B360-A90DFF9B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8FB0-071F-4838-A6CC-E5278EB9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5418-F455-4E9B-BE94-6306985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04D3-0864-485F-9F4A-7ED660ED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B292-1D36-413D-8A8E-78886B3A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5954-1D5E-4B8B-8266-C6520369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0ED15-A72E-47D8-B454-F3BBA9F8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7B343-64BB-438F-92E0-3F5225E8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8F14F-5CF3-4220-AFA2-D8242CF8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346E8-3D21-41AE-B8F5-BA56D359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4D5-47F8-45EF-804B-582BB510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3583-FA2C-47B6-A000-EB2D556D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EA054-C91D-49DC-B255-C8544AC7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098E0-1D61-4229-96CF-65E3EBB6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B73F-BA8F-4F15-88B9-3E8D611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3588D-7A0D-4FC2-AB03-8E30F368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027F5-6891-4386-834B-A0D7EE58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B7435-9BE5-4C13-B061-CBCAFEDF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E2B326-D980-46AD-98DD-55C4285A60E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27E844-6C83-4EAD-86AC-4C158718B93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031274-9DC5-4BE9-8324-2F571FF4F47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CBE5D3-EFFC-4CBA-A224-F310F92747D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9758D1-61E8-4CE2-BBB0-3365EFC04E9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vcr.cz/" TargetMode="Externa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Každodenní ž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седневная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1857240" y="3890880"/>
            <a:ext cx="6572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1979640" y="4037040"/>
            <a:ext cx="630072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dné čísl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Персональный номер иностранца в Чех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079640" y="360360"/>
            <a:ext cx="73944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Общая информац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Иностранцу с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разрешением на постоянное проживание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в Чешской Республике персональный номер выдает Министерство внутренних дел (соответствующий областной отдел Департамента беженцев и миграционной полити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остранцу с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разрешением на временное проживани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в ЧР на срок более 90 дней персональный номер выдает соответствующее подразделение Полиции Ч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формацию об условиях предоставления персонального номера (необходимые документы, сроки рассмотрения и т.д.) можно получить в соответствующем отделе Департамента беженцев и миграционной политики МВД или в отделении полиции по делам иностранцев, которое выдало физическому лицу разрешение на прожи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720720" y="233280"/>
            <a:ext cx="7199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Для чего потребуется персональный номе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20720" y="2340000"/>
            <a:ext cx="77407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олучение лицензиии на ведение предпринимательской деятель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Оформление обязательной медицинской и социальной страховк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Регистрация автомобил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Оформление различных документов, ВУЗы, общежития и тп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1260360" y="179280"/>
            <a:ext cx="702000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явление о предоставлении персонального номера можно подать лично или по почт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явление о предоставлении персонального номера должно быть письменным, обоснованным и содержать следующие данны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ное имя/имена и фамилию, их вариан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вичью фамил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нь, месяц, год рожд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сто и страну рожден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539640" y="179280"/>
            <a:ext cx="809964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тальная информац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явление должно быть составлено на чешском языке или дополнено заверенным перевод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пись заявителя должна быть заверенна у нотариуса, исключая случаи, когда заявитель подает заявление лично и подписывает его в присутствии сотрудника МВД Ч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министративный сбор за предоставление персонального номера составляет 1000 Кч. Его оплата осуществляется путем приобретения гербовой марки или денежным переводом на счет МВД Ч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ок рассмотрения  - 30 дней со дня получения заявления Министерством внутренних де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720720" y="900000"/>
            <a:ext cx="816120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vcr.c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lužby pro veřejnost – Rady a služby - Dokumen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539640" y="179280"/>
            <a:ext cx="82803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овар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dné číslo : персональный но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valý pobyt :  разрешение на постоянное прожи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ské pracoviště :  областной от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azylové a migrační politiky (OAMP MV) :  Департамент беженцев и миграционн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dělení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hůta na vyřízení / vyřízovací lhůta :  срок/и рассмотр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tvar Policie ČR :  подразделение Поли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právní poplatek : административный сб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lek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бовая мар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25Z</dcterms:modified>
  <cp:revision>88</cp:revision>
  <dc:subject/>
  <dc:title>Snímek 1</dc:title>
</cp:coreProperties>
</file>