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32706-37FE-4807-B41F-3270ED8AA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5DA53-D6ED-4B1F-A295-A79CCE47A6E3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7C507-8608-41F6-B592-8B1DC3213196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355BF-F362-4093-A5EB-E61741FDCE9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6DFB0-30E9-4115-A1C9-55E6D6C45561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D70A0-B258-44A1-BBC1-6A156A5EA532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BAFB4-79AC-4DD9-A34C-9BFA73495807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464E4-1AF0-4169-99BA-82D8884F2E92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806A8-5D77-4B9F-A5F0-67C9688259B8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1ADC3-EE5A-4A56-9023-55FBCAF1986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F95EA-C500-4C5F-8E37-E9777904A85C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6BC49-D8C2-443E-80F2-4AAB3F9D9F35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ED761-EE77-40E7-B9DB-B0A869EDEA87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E9BB4-165F-4676-BEA5-7C74F6E2CC90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49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EC0B2-8C29-4385-A2D2-0654EC9FF540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9654-CCB6-4CB1-AEB5-1C3ABC0C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C64F-7481-4CBF-B33D-B8A354F1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F08-8794-4885-9B71-B3A4868C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6BF-74C7-481C-ACA9-6937DBE0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D6F5-3E20-4AD6-8F2E-2739C833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585C-B763-4766-8ED9-6703C647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630F-6FA6-429E-8142-BC211443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506B-069F-40C6-B134-9CE0DB2B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D217-F094-478B-957B-B650848B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92FA-55E3-446D-9AA3-7FF07691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AE5B-4D85-4395-BD6B-C04AC47F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64BB-B2AA-44D6-9E58-20DE4A07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0ECC-1613-4303-A631-9BA3788B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99B1-2FAE-4D97-B28A-0D8F1F19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7321-BB54-4689-AA38-67F0BA06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976C-4151-48F3-B005-BCF72C3A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0D77-F093-4EF7-A93C-85239BE9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170C-9F9E-4C02-B728-5D7FCC3A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B9FC-C098-411F-BB3E-37C5833C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735C-DBCE-4DEE-BEA2-CFAB113E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AA8E-422F-4F4F-8130-913EB8E9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2C3B0-2B51-46E0-9704-D7186D0B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FF433-0ED7-48FA-AEC5-0C26F603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5F91B-0616-42EB-A5CB-E829B3FD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3D555-2239-49FF-A72E-E5588EEF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444A9-9F2D-4F32-B0CC-980202C1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80EDE-3490-463B-8FA8-269FC22C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AD8E6-7196-4C21-BACB-D29CBD78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2681B-BCBE-42C8-949E-5BF005B4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72726-5E5E-49EA-AEE2-EE36121D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F60-9264-4418-822F-5DDF1C9F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73E9A-D535-47EF-BE47-5A45E67A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D381-7F7F-4324-B1F0-8A66AC5B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E1204-7EAC-46A8-933D-51362D58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540EF-4C0C-4F94-AE48-B3F807B1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31A3E-E40D-44A7-82F8-CCA66D63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A0BFB-2F64-4810-B035-4DF6D452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48A8A-0B5D-41CA-882B-D88D03D4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C3873-6F85-4CFF-AB3D-EB67EA16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79B47-E866-4299-BDB2-035E4DCB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479E8-A249-4161-A8ED-4DC7E92F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F6B9-590E-4B82-BC77-20503115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50190-C2E4-4CB1-8943-4264F3C5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E29C8-D996-4897-9A0E-52014C11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8C02F-0D17-485D-BF39-24D1D327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6F03A-2FC8-4224-9D7F-986210E6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035B9-136A-4F21-A793-DFEC3A0C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276E2-9FCB-401A-B564-A081080F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98CFC-F52D-415D-A604-0F727B1A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78760-9C83-4338-A4C2-9C7A809F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90D76-2994-4440-A72B-0C611F8F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A612D-DE7A-4A56-9712-DA908991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66C-C283-4C79-9A43-D6E2C031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2BD35-F5DB-4BFC-8F14-05CAB474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4E516-F198-4A8B-81EC-E7689365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54004-83D1-4D86-9000-0436EE03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6A661-7ABF-42FD-9A49-5A4263CC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106DA-3174-4C27-9382-087D94EB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7B59B-21DE-4183-AAFF-0E8EAF07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E16A4-8987-4C13-99A1-5604F8A8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79680"/>
            <a:ext cx="28893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FC306-DDE6-4A19-8433-1F0AE6CF533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1965384-B2E6-475A-97CE-9EFCCE24A99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46852B7-8A16-4B46-B7ED-EB8C05F749A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DA911FE-C9B2-4636-94B7-B2A5B4B1A60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B857BF4-1C68-4D0C-B6FA-458E970AE81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psv.cz/" TargetMode="External"/><Relationship Id="rId2" Type="http://schemas.openxmlformats.org/officeDocument/2006/relationships/hyperlink" Target="http://www.cssz.cz/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3060720" y="3959280"/>
            <a:ext cx="558000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ociální zabe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eč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циальное обеспе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"/>
          <p:cNvSpPr/>
          <p:nvPr/>
        </p:nvSpPr>
        <p:spPr>
          <a:xfrm>
            <a:off x="720720" y="179280"/>
            <a:ext cx="7380360" cy="54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ýplata dávek nemocenského pojiš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ávky nemocenského pojištění vyplácí příslušná okresní správa sociálního zabezpečení. Okresní správa sociálního zabezpečení vyplatí dávku ve lhůtě jednoho měsíce následujícího po dni, v němž byla žádost této správě doručena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jištěnec má možnost si zvolit způsob výplaty dávky. Upřednostní-li výplatu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a sv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j ú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dený u peněžního ústavu v České republice, uvede v žádosti o dávku číslo tohoto účtu. Druhou možností je výplata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v hotov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poštovní poukázkou);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v takovém p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ípad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ě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hradí náklady za dor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ení pojiš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e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Výš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mocenského, ošetřovného, peněžité pomoci v mateřství se odvíjí od výše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íjm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1"/>
          <p:cNvSpPr/>
          <p:nvPr/>
        </p:nvSpPr>
        <p:spPr>
          <a:xfrm>
            <a:off x="539640" y="179280"/>
            <a:ext cx="792000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Выплата пособий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средств страхования на случай боле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Пособия со средств страхования на случай болезни выплачивает соответствующее управление социального обеспечения. Районное управление социального обеспечения проведет выплату пособия в срок одного месяца, следующего после дня получения управлением заявл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Застрахованное лицо имеет возможность выбрать способ выплаты пособия. При перечислении средств на счет застрахованного лица, открытый в финансовом учреждении в Чешской Республике, в заявлении необходимо указать номер счета. Второй возможностью является выплата наличными (почтовым переводом), в данном случае застрахованное лицо оплачивает расходы, связанные с переводом денежных сред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Размер пособий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по болезни, по уходу, денежной помощи в материнстве зависит от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размера дохо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541440" y="0"/>
            <a:ext cx="845820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líže viz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psv.c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Nemocenské pojištení - Výpocet dávek nemocenského pojištení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alší informace o provádení nemocenského pojištení viz: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cssz.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Nemocenské pojište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"/>
          <p:cNvSpPr/>
          <p:nvPr/>
        </p:nvSpPr>
        <p:spPr>
          <a:xfrm>
            <a:off x="720720" y="179280"/>
            <a:ext cx="7920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Пенсионное страх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Пенсионное страхование в ЧР является обязательным для всех экономически активных ли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Ze základního d</a:t>
            </a:r>
            <a:r>
              <a:rPr b="1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ů</a:t>
            </a: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chodového pojišt</a:t>
            </a:r>
            <a:r>
              <a:rPr b="1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ě</a:t>
            </a: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ní 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se poskytují d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ů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chody 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starobní, invalidní, vdovský, 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vdovecký a sirot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č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í (zákon 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č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. 155/1995 Sb.). D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ů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chod se skládá ze dvou složek, a to ze základní výměry (stanovené pevnou částkou stejnou pro všechny druhy důchodů bez ohledu na délku doby pojištění a výši výdělků) a z procentní výměry. O nároku na důchod, jeho výši a výplatě rozhoduje Česká správa sociálního zabezpečí v Praze (zákon č. 582/1991 Sb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Žádost o p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ř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iznání kteréhokoliv druhu d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ů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chodu se podává u okresní správy sociálního zabezpe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č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ení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2"/>
          <p:cNvSpPr/>
          <p:nvPr/>
        </p:nvSpPr>
        <p:spPr>
          <a:xfrm>
            <a:off x="826920" y="1628640"/>
            <a:ext cx="793116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539640" y="360360"/>
            <a:ext cx="8280360" cy="58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Общ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Существуют три взаимосвязанные и взаимодополняющие системы социальной защиты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1. социальное страховани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sociální pojiště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2. государственное социальное пособи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státní sociální podpo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3. социаль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я помощь - sociální pomo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541440" y="1571760"/>
            <a:ext cx="821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720720" y="0"/>
            <a:ext cx="719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539640" y="0"/>
            <a:ext cx="828036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Управление и принятие решений по выплатам осуществляют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Районные управления социального обеспечения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(OSSZ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Пражское управление социального обеспечения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(PSSZ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Чешское управление социального обеспечения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Прага), которое руководит работой OSSZ и PSSZ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Выплату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государственного социального пособия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осуществляют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центры занятости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Выплату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пособия по бедности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- уполномоченные муниципалитеты (городские администрации) по месту жительств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720720" y="162000"/>
            <a:ext cx="7559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41414"/>
                </a:solidFill>
                <a:latin typeface="Arial"/>
              </a:rPr>
              <a:t>Cоциальное страхование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 включает: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141414"/>
                </a:solidFill>
                <a:latin typeface="Arial"/>
              </a:rPr>
              <a:t>страхование на случай болезни (nemocenské pojištění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4141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141414"/>
                </a:solidFill>
                <a:latin typeface="Arial"/>
              </a:rPr>
              <a:t>базовое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обязательное пенсионное страхование (základní povinné důhodové pojištění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А также взнос на государственную политику занятости (příspěvek na státní politiku zaměstnání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539640" y="120600"/>
            <a:ext cx="828036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Страхование на случай болезни </a:t>
            </a:r>
            <a:r>
              <a:rPr b="1" lang="cs-CZ" sz="2000" spc="-1" strike="noStrike">
                <a:solidFill>
                  <a:srgbClr val="141414"/>
                </a:solidFill>
                <a:latin typeface="Arial"/>
              </a:rPr>
              <a:t>(Nemocenské pojiště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Страхование на случай болезни </a:t>
            </a:r>
            <a:r>
              <a:rPr b="0" lang="cs-CZ" sz="2000" spc="-1" strike="noStrike">
                <a:solidFill>
                  <a:srgbClr val="141414"/>
                </a:solidFill>
                <a:latin typeface="Arial"/>
              </a:rPr>
              <a:t>(закон</a:t>
            </a:r>
            <a:r>
              <a:rPr b="1" lang="cs-CZ" sz="2000" spc="-1" strike="noStrike">
                <a:solidFill>
                  <a:srgbClr val="141414"/>
                </a:solidFill>
                <a:latin typeface="Arial"/>
              </a:rPr>
              <a:t> № 187/2006 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Сб. законов)</a:t>
            </a: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 предназначено для лиц, получающих дох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Страхование на случай болезни 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служит для обеспечения денежными средствами в промежутки времени, когда застрахованное лицо временно теряет доход по какой-либо краткосрочной причине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- временной нетрудоспособности по причине болезни, травмы, карантина (dočásná pracovní neschopnost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- заботы о члене семьи (ošetřování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- беременности, материнств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- заботы о ребенке (péče o dítě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Для целей страхования на случай болезни, в соответствии с законом о страховании на случай болезни, гражданство застрахованного лица не имеет знач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720720" y="181080"/>
            <a:ext cx="792000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страховании на случай болезни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участвуют работники, или лица, поставленные на уровень работников (кто именно считается работником, определено в законе о страховании на случай болезни) и самостоятельно зарабатывающие ли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средств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страхования на случай болезни работникам (их участие в системе страхования обязательно) выплачиваются 4 пособ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по болезни (nemocenské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по уходу (oše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vné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компенсационное пособие по беременности и материнству (vyrovnávací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ís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k v 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tenství a m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ví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денежная помощь в материнстве (pe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itá pomoc v m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v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Со средств страхования на случай болезни предпринимателям выплачиваю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пособие по боле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денежная помощь в материнст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539640" y="0"/>
            <a:ext cx="846000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emocensk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rok na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mocensk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á za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nanec ú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stný nemocenského pojiš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í, který byl uznán lékařem dočasně práce neschopným k výkonu dosavadního zaměstnání, nebo z důvodu nařízené karantény. Nemocenské lze poskytovat maximálně 380 kalendářních dnů počítaných od vzniku dočasné pracovní neschopnos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mocenské se od 1. 1. 2011 vyplácí vždy až od 22. dne trvání do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č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sné pracov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schopnosti, a to za kalendářní dny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 dobu prvních 21 kalendářních dnů je zaměstnanec,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terému trvá pracovní vztah zakládající účast na nemocenském pojištění, zabezpečen náhradou mzdy, kterou poskytuje zaměstnavatel. Náhrada mzdy náleží za pracovní dny a to při dočasné pracovní neschopnosti od 4. pracovního dne (při karanténě od 1.pracovního dn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mocenské náleží rovněž ve stanovených případech, jestliže ke vzniku dočasné pracovní neschopnosti došlo po skončení pojištěného zaměstnání v tzv.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chranné lh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ě. Ochranná lhůta v případě uplatňování nároku na nemocenské či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 kalend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ích d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ů ode d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k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ní za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nání, které zakládalo ú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st na nemocenském pojiš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í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503280" y="179280"/>
            <a:ext cx="864072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latňování náro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árok na dávku nemocenského pojištění uplatní pojištěnec předložením předepsaného tiskopisu vystaveného ošetřujícím lékařem. Žádost o dávku podávají zaměstnanci u své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ěstnavatele. Zaměstnavatelé přijímají žádosti o dávku i od svých bývalých zaměstnanc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VČ podávají žádost o dávku u okresní správy sociálního zabezpečení, příslušné podlé místa svého trvalého bydliště nebo výkonu samostatné výdělečné činnosti (nemá-li OSV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ísto trvalého pobytu na území Č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"/>
          <p:cNvSpPr/>
          <p:nvPr/>
        </p:nvSpPr>
        <p:spPr>
          <a:xfrm>
            <a:off x="539640" y="179280"/>
            <a:ext cx="809964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Применение пр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Право на пособие со средств страхования на случай болезни застрахованное лицо подтверждает предоставлением определенного бланка, заполненного лечащим врачом. Заявление о выплате пособия подают работники своему работодателю. Работодатели принимают заявления о выплате пособия и от своих бывших работни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Предприниматель подает заявление о выплате пособия районному управлению социального обеспечения, по месту постоянного проживания или предпринимательской деятельности (если предприниматель не имеет место постоянного проживания за пределами территории ЧР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1:55Z</dcterms:modified>
  <cp:revision>89</cp:revision>
  <dc:subject/>
  <dc:title>Snímek 1</dc:title>
</cp:coreProperties>
</file>