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1E68B-8982-415D-B9F2-F485F5119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C9ECB-90E5-469D-9676-9599F3989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DF0A8-BA40-468F-8544-35B9B8AFF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53A9-C8BD-43C2-BB19-96F0B503A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70C7E-A529-4D9D-94C6-3F900B2ED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B6E6-4914-45CD-A873-F1A48CD88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Часто встречающиеся ситуации, где нужен переводчик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на примере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UNHCR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):</a:t>
            </a:r>
            <a:r>
              <a:rPr b="1" lang="cs-CZ" sz="2000" spc="-1" strike="noStrike">
                <a:solidFill>
                  <a:srgbClr val="c0504d"/>
                </a:solidFill>
                <a:latin typeface="Verdana"/>
                <a:ea typeface="Microsoft YaHe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Регистрационные процедуры (запись личных данных беженцов, иммигрантов и тп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 при определении статуса беженца и при переселении (напр. в третьи страны) и д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Мониторинг — сбор информации об охране, правах, здоровье «клиентов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труктурированные собеседования для получения информации о возникающих рисках, об их причинах и возможных вариантах реш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-консультации у врача, у юрист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 с людьми, пережившими насилие, пытки и другие травматизирующие события с целью получить более подробную информацию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EA86D-A80A-4857-9376-A3B25BB7C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25966-D6C5-45E4-915F-2CF2D8AFC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A8C09-CC00-4A8F-AFAD-4DBA008D5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  <a:ea typeface="Microsoft YaHei"/>
              </a:rPr>
              <a:t>Вопрос: Как вы будете решать ситуацию, когда Вы как переводчик не владеете языком в достаточной мере, но другого переводчика нет. Приходит ли вам в голову какая-либо стратегия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96B46-6C7B-4D14-86BA-A1FE6E46E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231f20"/>
                </a:solidFill>
                <a:latin typeface="Symbol"/>
                <a:ea typeface="Symbol"/>
              </a:rPr>
              <a:t></a:t>
            </a:r>
            <a:r>
              <a:rPr b="1" lang="cs-CZ" sz="1800" spc="-1" strike="noStrike">
                <a:solidFill>
                  <a:srgbClr val="231f20"/>
                </a:solidFill>
                <a:latin typeface="Symbol"/>
                <a:ea typeface="Symbol"/>
              </a:rPr>
              <a:t>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Je t</a:t>
            </a:r>
            <a:r>
              <a:rPr b="1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ř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eba vyslechnout ženu – uprchlici a vy jste jediný dostupný tlumo</a:t>
            </a:r>
            <a:r>
              <a:rPr b="1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č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ník. Jste mu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B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hem pohovoru vycítíte, že vám ta žena ned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v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ř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uje, možná kv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i tomu, jaké má 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Microsoft YaHei"/>
              </a:rPr>
              <a:t>zkušenosti s muži obecn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Microsoft YaHei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Microsoft YaHei"/>
              </a:rPr>
              <a:t>. Jak byste postupov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Symbol"/>
                <a:ea typeface="Symbol"/>
              </a:rPr>
              <a:t>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Slyšeli jste n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kdy názor, že ženy by nem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y zaujímat d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ežité role, jako t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ř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eba roli tlumo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č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ník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Что вы думаете о роли, трудностях и возможностях переводчика с гендерной точки зрения пола ? Какие сложности могут возникнуть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98267-5CD0-4682-AE83-0DC9E679D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kte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í žadatelé se na vás pokoušejí vyvíjet nátlak úplatky nebo hrozbami, a žádají, abyste b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hem pohovoru jejich jménem lh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Tazatel vás požádá, a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ť 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mu 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eknete vše, co o žadateli víte, o jeho život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 o tom, co si o n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m myslí 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č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lenové komunity. Nakonec vás tazatel požádá i o váš názor na p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ípad žadat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81450-5ED9-4BF0-A315-EC1F3A5A0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Poznámka: Tlumočník nebude poskytovat žádné sociologické, antropologické ani histo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nformace, aby vyjádřil svůj názor nebo pomáhal zformovat názor tazatele na případ,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kterém tlumoč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Na druhou stranu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hlo by být velmi už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 mít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a jako zdroj informací o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mi p</a:t>
            </a:r>
            <a:r>
              <a:rPr b="0" i="1" lang="cs-CZ" sz="2000" spc="-1" strike="noStrike">
                <a:solidFill>
                  <a:srgbClr val="000000"/>
                </a:solidFill>
                <a:latin typeface="TimesNewRoman,Italic"/>
                <a:ea typeface="TimesNewRoman,Italic"/>
              </a:rPr>
              <a:t>ů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 jakých situacích by to podle vás bylo prosp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né? Kdyby to bylo prosp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né, dá se to skloubit s Kodexem chování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a? Pokud ano, jak by m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 pracov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1BA-7FAC-4BD6-A3B4-F87D7E76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F2F-E7A7-4DF5-86A1-DB12DE35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176-8B1D-42EF-B962-6ABFBCB0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DF9-8065-400A-A8B9-F2202D68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0B9-313F-4EC1-9425-0E71A9AA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188-19DD-4A3D-9BA2-C1CDF881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848-E2CC-4F96-ACC3-BE50AB65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E4E-28C8-4BAC-9E41-B3EF3CC2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943-12E6-4554-AD44-EDF7F36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7A92-465C-47C2-AC07-FEF0E23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B5E7-85F8-4D27-9773-A51F306B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505-4960-4A23-A579-996E729D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501B-B66C-4FB6-A729-3FFCFCD7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403E-39A8-4626-850B-0D254CBA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4753-6DF9-4E91-8A02-2B55B5B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FDA-9FF5-49F4-B089-7B15F23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B4BF-FD6C-4F51-B911-E83419FB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54F6-F335-43CE-AA83-27735832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809C-51C6-440B-9664-13A35E24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417-78EE-42B8-9984-711BB53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AE90-A68E-492D-BC4F-1A4AA897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DBA5-A12D-4F54-BC20-AF949535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B0A5-6202-431A-8844-8EC69533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9850-9EBA-4EAD-B32A-41235544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3D3B-E53F-415A-B8D8-D8124EB2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40D6-39A7-49F1-9B9E-18B4366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5BD6-7D55-4080-ACC0-724387CA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C6D8-C0A6-4597-8613-A4D479AE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B9587-3AD1-43CF-88B9-A3CF52AA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6304-8F58-42B9-8FA6-C955D24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3A2-67A4-4412-ABEF-E1622914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B1CE-011F-4C97-A380-8C906CE2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69DE6-BEDC-433B-912D-8A7E3773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6B366-59D9-4532-BD20-B87BB8B2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806E-3BF9-4372-9700-22129901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F615-CAF9-442B-94C6-81F47E57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57429-BEAB-41F1-B4E6-C9358827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B2C9-063F-4D42-BAB6-951CCCC6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73A2-4019-473B-B4BB-C64675A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9DEE-8511-480B-B6AA-3BF01E26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3DC4-0AD4-450B-BD3F-D7E2A947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E6D-C210-49E7-90CC-64E6C28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EB81-DF4D-4DAD-9CDF-04DFE25C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7E5E-E91A-4D87-9FE0-F1123DEB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31A9A-0E30-400D-B5FC-CBB803A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5044-EA1F-4AE6-A3E6-E1A52959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C977-319A-4D02-907F-BFD350C4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E772E-75B9-4273-A753-7713165D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49AF-4A9E-496B-864C-5C0FF702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7D72-A9BF-4AAE-98E6-BD907CE4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6BC09-40F4-4F3C-927F-9406C9AD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0613-90BE-42C4-B494-CA3C61EF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A37-C753-46D1-ADCE-8D9C466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885A-67D5-4590-A926-24B02984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EB2C-774C-4AC1-8E42-631789FD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8FA4-061A-4502-BEB6-022FA1C1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50C5-0379-4F36-B87B-09AE35AE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130C7-E29C-469C-B0A4-05ED57DC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0D218-C142-4975-AEBB-AB9384A1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F3334-133E-47FF-A5A0-5C0D00E8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3B617-5E8A-47DC-A50D-55B4950F1D0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B13F16-8CC6-4D62-807E-FF40512D233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D87780-C888-495B-A8D6-7CA3FEB4D47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351382-BE89-4ABF-ADF0-7506695F829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C5D58F-7DB2-467F-8929-96ECEDC0499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4140360"/>
            <a:ext cx="558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ociální tlumočení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Устный перевод в социальной сфер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1"/>
          <p:cNvSpPr/>
          <p:nvPr/>
        </p:nvSpPr>
        <p:spPr>
          <a:xfrm>
            <a:off x="900000" y="1619280"/>
            <a:ext cx="7559640" cy="395928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079640" y="1676520"/>
            <a:ext cx="719928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3600360" y="2340000"/>
            <a:ext cx="36226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2879640" y="3060720"/>
            <a:ext cx="5940360" cy="2700360"/>
          </a:xfrm>
          <a:prstGeom prst="roundRect">
            <a:avLst>
              <a:gd name="adj" fmla="val 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3060720" y="3240000"/>
            <a:ext cx="55800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1857240" y="3890880"/>
            <a:ext cx="6572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1979640" y="3959280"/>
            <a:ext cx="630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nebo komunitní tlumo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munity Interpr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440000" y="1619280"/>
            <a:ext cx="755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ciální nebo komunitní tlumo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mmunity Interpr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оциальны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ственны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вод в социальной сф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ровождающи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ный перевод для этнической     диаспоры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1079640" y="1698480"/>
            <a:ext cx="7380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Сложность рабоч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Психологическая нагру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Неравноценная позиция участников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Возможное давление на переводч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Равновесие между соблюдением интересов    организации и проявлением участия по отношению к клиенту, нейтрал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Ограниченность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"/>
          <p:cNvSpPr/>
          <p:nvPr/>
        </p:nvSpPr>
        <p:spPr>
          <a:xfrm>
            <a:off x="1260360" y="179280"/>
            <a:ext cx="77407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1f497d"/>
                </a:solidFill>
                <a:latin typeface="Calibri"/>
              </a:rPr>
              <a:t>Специфика перевода в социальной сфе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1079640" y="900000"/>
            <a:ext cx="774036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Отношения с организацие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или учреждением, для которого вы переводите, правомочия данной организации, ее задачи и ц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Условия работы, ожидания клиента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- возможный конфликт между тем, что ожидает клиент или организация и вашими возможностями, между вашей личной системой ценностей и этическими нормами поведения переводчика и 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Переводчик - главное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 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самостоятельны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анализ трудностей, умение задать (себе) вопросы и ответить, умение находить нужную информацию, дневник переводчика (трудности, примеры, инфо, и т.п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2519280" y="81000"/>
            <a:ext cx="4243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1f497d"/>
                </a:solidFill>
                <a:latin typeface="Calibri"/>
              </a:rPr>
              <a:t>Ключевые мо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1440000" y="84240"/>
            <a:ext cx="7380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f497d"/>
                </a:solidFill>
                <a:uFillTx/>
                <a:latin typeface="Verdana"/>
              </a:rPr>
              <a:t>Трудности и особеннос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Verdana"/>
              </a:rPr>
              <a:t>важность роли переводчик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Правильная интерпретация слов клиента 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f497d"/>
                </a:solidFill>
                <a:latin typeface="Verdana"/>
              </a:rPr>
              <a:t>от вас может зависить судьба конкретн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f497d"/>
                </a:solidFill>
                <a:latin typeface="Verdana"/>
              </a:rPr>
              <a:t>человека, дальнейшее решение его ситуац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2"/>
          <p:cNvSpPr/>
          <p:nvPr/>
        </p:nvSpPr>
        <p:spPr>
          <a:xfrm>
            <a:off x="1260360" y="2340000"/>
            <a:ext cx="7380360" cy="377964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1440000" y="2511360"/>
            <a:ext cx="7019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1619280" y="541440"/>
            <a:ext cx="69912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Деликатные/сложные вопросы, например в случаях сексуального насилия и т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1260360" y="1979640"/>
            <a:ext cx="7380360" cy="414000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rcRect l="0" t="0" r="44880" b="0"/>
          <a:stretch/>
        </p:blipFill>
        <p:spPr>
          <a:xfrm>
            <a:off x="1440000" y="2160720"/>
            <a:ext cx="701964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619280" y="237960"/>
            <a:ext cx="71992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Неправомерное использование ваше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влияния на клиента. С другой стороны, давление на вас со стороны клиента или сотрудника организ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2"/>
          <p:cNvSpPr/>
          <p:nvPr/>
        </p:nvSpPr>
        <p:spPr>
          <a:xfrm>
            <a:off x="1260360" y="2160720"/>
            <a:ext cx="7199280" cy="377964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49942" t="0" r="0" b="0"/>
          <a:stretch/>
        </p:blipFill>
        <p:spPr>
          <a:xfrm>
            <a:off x="1440000" y="2340000"/>
            <a:ext cx="68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1581120" y="179280"/>
            <a:ext cx="75628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Различать между ролью переводчика и ролью ведущего собеседования: задавать вопросы, внимательно слушать ответы, оценивать ситуацию конкретного человека — это задачи анкетера, Вы предоставляете сторонам собеседования нейтральный коммуникационный канал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"/>
          <p:cNvSpPr/>
          <p:nvPr/>
        </p:nvSpPr>
        <p:spPr>
          <a:xfrm>
            <a:off x="1260360" y="2700360"/>
            <a:ext cx="7199280" cy="3419280"/>
          </a:xfrm>
          <a:prstGeom prst="roundRect">
            <a:avLst>
              <a:gd name="adj" fmla="val 4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rcRect l="0" t="0" r="39891" b="10075"/>
          <a:stretch/>
        </p:blipFill>
        <p:spPr>
          <a:xfrm>
            <a:off x="1440000" y="2879640"/>
            <a:ext cx="68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0:20Z</dcterms:modified>
  <cp:revision>88</cp:revision>
  <dc:subject/>
  <dc:title>Snímek 1</dc:title>
</cp:coreProperties>
</file>