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dt" idx="16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sldNum" idx="17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BBAE6D-60D1-4464-ACC0-07DF3C5F4B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4FD536-24C1-4B54-9CCE-18F0D210A0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49AE5E-D199-4090-A138-503524FC26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2FA428-4743-49FC-A3F2-1512F0CDFC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3864BF-3432-442C-B827-02802B1056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27DFE8-79DA-490D-B9A1-A1030E8BB4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58AE12-35EF-4AF0-8801-223498AF82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0D5F3D-8A73-49B6-91CF-30C4F701A1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BAB786-8756-4CAC-B79B-2BD2959D2A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D95327-3270-4422-A6D3-F5C6BB4041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099B75-1BED-4B4E-B7E3-DB5290C63D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C22CB3-2F69-45CF-B4DA-93D587BC6B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3B32FE-AB08-4100-AC6F-C28737A9EC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7A80CE-519D-4974-9D27-EC0148F987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13A25E-0C56-4A3C-829A-F1D708F377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0A9A23-A54C-4047-B5B6-AA470DED4C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B4C8-F8C8-4106-957E-941DF70FA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FDEA-72A0-48A7-A733-184997CDF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933D-9E6B-4F55-AD58-5CCCEC45D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4EEF-BD8E-4F4F-B60F-794DCBA28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484F-BC20-4F4C-9572-923974426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B3D3-4835-4D4E-ADD9-898CE1320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3707-9657-4297-8AE8-0E89D496F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CDAA9-3D08-46D4-9940-FCC34E3FD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006A-590A-422A-8689-6D7614867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0EA2F-3550-4677-A613-04651C052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5262A-3035-4FA0-9F77-D81C12184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0FADD-A5B9-4763-AA94-CE5474346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D2301-97AA-4E0E-9F46-6E7B58F95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40E59-3439-4EEC-8A23-9142D3041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73996-2E83-4BB6-823B-BE79B468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89E79-4896-47C9-9C19-98006C4E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EC1F3-0A5A-4AD9-A73C-622257BD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5A76A-0B4A-4D6A-BF8D-EC9BC411D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8338F-75F8-4BB6-9F09-57E971EA6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1D4E-7791-4C17-8E51-87BF0CB2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E9984-0CFC-4EA3-BF56-A11D1482A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D1189-FC56-4AF5-A2A1-D5D4BF9A0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C4701-DD2D-493D-85F1-DCBCE512B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E88FE-D187-401F-80E9-91F66FA1A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80F11-F868-41A2-9A9C-CEF15EA33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E2C3A-7A40-411A-80A0-D2FBF3836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D806F-DD26-4E8A-BE56-C7C57466E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D3CA3-BFEF-454D-8DE2-84E4549A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17301-6F96-485F-8420-0B3FC98B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C896A-646B-4C57-9569-F77F61E5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5236-7F02-42A5-B85C-348192E3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BB745-A024-4700-B8B6-7E7AFE2CE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EBB99-3525-414F-8245-A6A175F98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62626-DD67-47FC-8ADF-25F00F358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5C6F4-3581-41B4-9772-1AD646D33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330BD-B2F0-45D7-A47F-9B6E017FF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8342F-3085-411F-BF8A-0202D2078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C0A7F-FC1E-4F46-AAA3-3A3496384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B7117-C411-4564-935F-2A695B70E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E0BA4-1861-4621-AF38-F2213E54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D5FFF-4D6B-4D57-A290-DAE9DB50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3D62-09C8-464F-9E27-F2816B5C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7DF79-9729-4B79-A830-4ED363F0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AF529-97CA-490A-AD07-899DA07D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B651D-00B5-49D0-82D1-920E8268D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F538A-E0A9-4286-A0D8-FB1F43DDF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6F3F4-E2A4-4D33-9957-3ED1594F6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C51FC-A21E-4487-A0D4-296A4FA0F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1E426-645A-4699-BA36-CA04F06DC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03BD1-4971-4E6B-AD57-4D6637FA3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882F0-CF00-4CBE-BD11-ED2E08B66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B0A41-6ED6-4B80-911F-1FE3140B4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F97B-34F6-4B9F-BA74-D426B9A1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8A10F-CC9F-460C-AC9D-97709A53E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9B042-F6F4-4163-A4B5-F343FD75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F1BDA-B569-4E5E-A0B3-848FFC64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62508-0D55-4803-8340-F9DBDF73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0C9D5-52DE-4026-A9BA-1486AF9E5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1E147-1722-4F63-A6E4-FEA4809D0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4D1EF-76FB-4B17-BED1-ABC95DFD1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.10.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079680"/>
            <a:ext cx="289404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ento projekt je realizován v rámci veřejné zakázky MPS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95FFD8B-BE1E-4512-9DA0-81675E432306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2928960" y="3886200"/>
            <a:ext cx="58579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10" descr="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"/>
          <p:cNvPicPr/>
          <p:nvPr/>
        </p:nvPicPr>
        <p:blipFill>
          <a:blip r:embed="rId5"/>
          <a:stretch/>
        </p:blipFill>
        <p:spPr>
          <a:xfrm>
            <a:off x="2916360" y="2109960"/>
            <a:ext cx="4392360" cy="1560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"/>
          <p:cNvPicPr/>
          <p:nvPr/>
        </p:nvPicPr>
        <p:blipFill>
          <a:blip r:embed="rId6"/>
          <a:stretch/>
        </p:blipFill>
        <p:spPr>
          <a:xfrm>
            <a:off x="7451640" y="115920"/>
            <a:ext cx="1427400" cy="14698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"/>
          <p:cNvPicPr/>
          <p:nvPr/>
        </p:nvPicPr>
        <p:blipFill>
          <a:blip r:embed="rId3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"/>
          <p:cNvPicPr/>
          <p:nvPr/>
        </p:nvPicPr>
        <p:blipFill>
          <a:blip r:embed="rId4"/>
          <a:stretch/>
        </p:blipFill>
        <p:spPr>
          <a:xfrm>
            <a:off x="1390680" y="5700600"/>
            <a:ext cx="457200" cy="439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"/>
          <p:cNvPicPr/>
          <p:nvPr/>
        </p:nvPicPr>
        <p:blipFill>
          <a:blip r:embed="rId5"/>
          <a:stretch/>
        </p:blipFill>
        <p:spPr>
          <a:xfrm>
            <a:off x="1720800" y="5373720"/>
            <a:ext cx="347760" cy="334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"/>
          <p:cNvPicPr/>
          <p:nvPr/>
        </p:nvPicPr>
        <p:blipFill>
          <a:blip r:embed="rId6"/>
          <a:stretch/>
        </p:blipFill>
        <p:spPr>
          <a:xfrm>
            <a:off x="928800" y="4857840"/>
            <a:ext cx="792000" cy="760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"/>
          <p:cNvPicPr/>
          <p:nvPr/>
        </p:nvPicPr>
        <p:blipFill>
          <a:blip r:embed="rId7"/>
          <a:stretch/>
        </p:blipFill>
        <p:spPr>
          <a:xfrm>
            <a:off x="7308720" y="260280"/>
            <a:ext cx="1425600" cy="1470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10" descr="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"/>
          <p:cNvPicPr/>
          <p:nvPr/>
        </p:nvPicPr>
        <p:blipFill>
          <a:blip r:embed="rId3"/>
          <a:stretch/>
        </p:blipFill>
        <p:spPr>
          <a:xfrm>
            <a:off x="871560" y="4311720"/>
            <a:ext cx="639720" cy="614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"/>
          <p:cNvPicPr/>
          <p:nvPr/>
        </p:nvPicPr>
        <p:blipFill>
          <a:blip r:embed="rId4"/>
          <a:stretch/>
        </p:blipFill>
        <p:spPr>
          <a:xfrm>
            <a:off x="1000080" y="5072040"/>
            <a:ext cx="1143000" cy="1098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3" descr=""/>
          <p:cNvPicPr/>
          <p:nvPr/>
        </p:nvPicPr>
        <p:blipFill>
          <a:blip r:embed="rId5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4" descr=""/>
          <p:cNvPicPr/>
          <p:nvPr/>
        </p:nvPicPr>
        <p:blipFill>
          <a:blip r:embed="rId6"/>
          <a:stretch/>
        </p:blipFill>
        <p:spPr>
          <a:xfrm>
            <a:off x="7524720" y="189000"/>
            <a:ext cx="1425600" cy="14684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1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711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8"/>
          <p:cNvSpPr/>
          <p:nvPr/>
        </p:nvSpPr>
        <p:spPr>
          <a:xfrm flipH="1">
            <a:off x="8783280" y="1440"/>
            <a:ext cx="468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10"/>
          <p:cNvSpPr/>
          <p:nvPr/>
        </p:nvSpPr>
        <p:spPr>
          <a:xfrm flipH="1">
            <a:off x="472680" y="1440"/>
            <a:ext cx="468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11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2"/>
          <p:cNvSpPr/>
          <p:nvPr/>
        </p:nvSpPr>
        <p:spPr>
          <a:xfrm flipH="1">
            <a:off x="853920" y="0"/>
            <a:ext cx="50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13" descr="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4" descr="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5" descr="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6" descr="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7" descr="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4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6.10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5"/>
          </p:nvPr>
        </p:nvSpPr>
        <p:spPr>
          <a:xfrm>
            <a:off x="3123720" y="631044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6"/>
          </p:nvPr>
        </p:nvSpPr>
        <p:spPr>
          <a:xfrm>
            <a:off x="665316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FDE27AA-8589-4A39-8184-AD7BE2B2B209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AutoShape 1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154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Line 8"/>
          <p:cNvSpPr/>
          <p:nvPr/>
        </p:nvSpPr>
        <p:spPr>
          <a:xfrm flipH="1">
            <a:off x="8783280" y="1440"/>
            <a:ext cx="468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Line 10"/>
          <p:cNvSpPr/>
          <p:nvPr/>
        </p:nvSpPr>
        <p:spPr>
          <a:xfrm flipH="1">
            <a:off x="472680" y="1440"/>
            <a:ext cx="468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11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12"/>
          <p:cNvSpPr/>
          <p:nvPr/>
        </p:nvSpPr>
        <p:spPr>
          <a:xfrm flipH="1">
            <a:off x="853920" y="0"/>
            <a:ext cx="50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13" descr="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4" descr="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5" descr="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6" descr="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7" descr="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7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6.10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8"/>
          </p:nvPr>
        </p:nvSpPr>
        <p:spPr>
          <a:xfrm>
            <a:off x="3123720" y="631044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9"/>
          </p:nvPr>
        </p:nvSpPr>
        <p:spPr>
          <a:xfrm>
            <a:off x="665316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AAC41CA-A4C2-47E3-8A13-DAD91259F856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1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2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4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Line 7"/>
          <p:cNvSpPr/>
          <p:nvPr/>
        </p:nvSpPr>
        <p:spPr>
          <a:xfrm flipH="1">
            <a:off x="8783280" y="1440"/>
            <a:ext cx="468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8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Line 9"/>
          <p:cNvSpPr/>
          <p:nvPr/>
        </p:nvSpPr>
        <p:spPr>
          <a:xfrm flipH="1">
            <a:off x="472680" y="1440"/>
            <a:ext cx="468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10" descr="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1" descr=""/>
          <p:cNvPicPr/>
          <p:nvPr/>
        </p:nvPicPr>
        <p:blipFill>
          <a:blip r:embed="rId3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2" descr="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3" descr=""/>
          <p:cNvPicPr/>
          <p:nvPr/>
        </p:nvPicPr>
        <p:blipFill>
          <a:blip r:embed="rId5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0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6.10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1"/>
          </p:nvPr>
        </p:nvSpPr>
        <p:spPr>
          <a:xfrm>
            <a:off x="3123720" y="631044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2"/>
          </p:nvPr>
        </p:nvSpPr>
        <p:spPr>
          <a:xfrm>
            <a:off x="665316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395AE20-F9E3-42E9-954D-E7D2D6E3AF79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1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2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ectangle 3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Rectangle 4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6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Line 7"/>
          <p:cNvSpPr/>
          <p:nvPr/>
        </p:nvSpPr>
        <p:spPr>
          <a:xfrm flipH="1">
            <a:off x="8783280" y="1440"/>
            <a:ext cx="468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8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Line 9"/>
          <p:cNvSpPr/>
          <p:nvPr/>
        </p:nvSpPr>
        <p:spPr>
          <a:xfrm flipH="1">
            <a:off x="472680" y="1440"/>
            <a:ext cx="468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7" name="Picture 10" descr=""/>
          <p:cNvPicPr/>
          <p:nvPr/>
        </p:nvPicPr>
        <p:blipFill>
          <a:blip r:embed="rId2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"/>
          <p:cNvPicPr/>
          <p:nvPr/>
        </p:nvPicPr>
        <p:blipFill>
          <a:blip r:embed="rId3"/>
          <a:stretch/>
        </p:blipFill>
        <p:spPr>
          <a:xfrm>
            <a:off x="8358120" y="785880"/>
            <a:ext cx="371520" cy="357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2" descr=""/>
          <p:cNvPicPr/>
          <p:nvPr/>
        </p:nvPicPr>
        <p:blipFill>
          <a:blip r:embed="rId4"/>
          <a:stretch/>
        </p:blipFill>
        <p:spPr>
          <a:xfrm>
            <a:off x="8715240" y="500040"/>
            <a:ext cx="282600" cy="2714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3" descr=""/>
          <p:cNvPicPr/>
          <p:nvPr/>
        </p:nvPicPr>
        <p:blipFill>
          <a:blip r:embed="rId5"/>
          <a:stretch/>
        </p:blipFill>
        <p:spPr>
          <a:xfrm>
            <a:off x="8072280" y="63360"/>
            <a:ext cx="642960" cy="6177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4" descr=""/>
          <p:cNvPicPr/>
          <p:nvPr/>
        </p:nvPicPr>
        <p:blipFill>
          <a:blip r:embed="rId6"/>
          <a:stretch/>
        </p:blipFill>
        <p:spPr>
          <a:xfrm>
            <a:off x="0" y="5732640"/>
            <a:ext cx="1092240" cy="112536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6.10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4"/>
          </p:nvPr>
        </p:nvSpPr>
        <p:spPr>
          <a:xfrm>
            <a:off x="3123720" y="631044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5"/>
          </p:nvPr>
        </p:nvSpPr>
        <p:spPr>
          <a:xfrm>
            <a:off x="665316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08EB222-C7B0-421E-A0B6-E89053F30A38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AutoShape 1"/>
          <p:cNvSpPr/>
          <p:nvPr/>
        </p:nvSpPr>
        <p:spPr>
          <a:xfrm>
            <a:off x="2928960" y="3214800"/>
            <a:ext cx="5857920" cy="24573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 Box 2"/>
          <p:cNvSpPr/>
          <p:nvPr/>
        </p:nvSpPr>
        <p:spPr>
          <a:xfrm>
            <a:off x="1643040" y="1500120"/>
            <a:ext cx="7286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800" spc="-1" strike="noStrike">
                <a:solidFill>
                  <a:srgbClr val="990033"/>
                </a:solidFill>
                <a:latin typeface="Verdana"/>
              </a:rPr>
              <a:t>Děkuji za pozornost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angle 5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7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Rectangle 8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angle 9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angle 10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3" name="Picture 11" descr="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2" descr="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3" descr="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4" descr=""/>
          <p:cNvPicPr/>
          <p:nvPr/>
        </p:nvPicPr>
        <p:blipFill>
          <a:blip r:embed="rId5"/>
          <a:stretch/>
        </p:blipFill>
        <p:spPr>
          <a:xfrm>
            <a:off x="6635880" y="5877000"/>
            <a:ext cx="2160360" cy="7668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5" descr=""/>
          <p:cNvPicPr/>
          <p:nvPr/>
        </p:nvPicPr>
        <p:blipFill>
          <a:blip r:embed="rId6"/>
          <a:stretch/>
        </p:blipFill>
        <p:spPr>
          <a:xfrm>
            <a:off x="7596360" y="115920"/>
            <a:ext cx="1427040" cy="14698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 Box 1"/>
          <p:cNvSpPr/>
          <p:nvPr/>
        </p:nvSpPr>
        <p:spPr>
          <a:xfrm>
            <a:off x="2928960" y="3886200"/>
            <a:ext cx="58579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бщение с госучреждениям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 Box 1"/>
          <p:cNvSpPr/>
          <p:nvPr/>
        </p:nvSpPr>
        <p:spPr>
          <a:xfrm>
            <a:off x="1714680" y="274680"/>
            <a:ext cx="697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Verdana"/>
              </a:rPr>
              <a:t>Основные понятия и термины </a:t>
            </a:r>
            <a:br>
              <a:rPr sz="2400"/>
            </a:br>
            <a:r>
              <a:rPr b="0" lang="ru-RU" sz="1800" spc="-1" strike="noStrike">
                <a:solidFill>
                  <a:srgbClr val="990033"/>
                </a:solidFill>
                <a:latin typeface="Verdana"/>
              </a:rPr>
              <a:t>(3)Процеду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3" name="Group 2"/>
          <p:cNvGrpSpPr/>
          <p:nvPr/>
        </p:nvGrpSpPr>
        <p:grpSpPr>
          <a:xfrm>
            <a:off x="1042920" y="1557360"/>
            <a:ext cx="0" cy="4572000"/>
            <a:chOff x="1042920" y="1557360"/>
            <a:chExt cx="0" cy="4572000"/>
          </a:xfrm>
        </p:grpSpPr>
        <p:sp>
          <p:nvSpPr>
            <p:cNvPr id="524" name="Line 5"/>
            <p:cNvSpPr/>
            <p:nvPr/>
          </p:nvSpPr>
          <p:spPr>
            <a:xfrm>
              <a:off x="1042920" y="1557360"/>
              <a:ext cx="0" cy="4572000"/>
            </a:xfrm>
            <a:prstGeom prst="line">
              <a:avLst/>
            </a:prstGeom>
            <a:ln w="5760">
              <a:solidFill>
                <a:srgbClr val="c4dc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5" name="Text Box 6"/>
          <p:cNvSpPr/>
          <p:nvPr/>
        </p:nvSpPr>
        <p:spPr>
          <a:xfrm>
            <a:off x="66531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F369674-6889-42D7-8D5D-1C9A54F93215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 Box 1"/>
          <p:cNvSpPr/>
          <p:nvPr/>
        </p:nvSpPr>
        <p:spPr>
          <a:xfrm>
            <a:off x="1714680" y="274680"/>
            <a:ext cx="697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Verdana"/>
              </a:rPr>
              <a:t>Упражнение 1.</a:t>
            </a:r>
            <a:r>
              <a:rPr b="0" lang="ru-RU" sz="2000" spc="-1" strike="noStrike">
                <a:solidFill>
                  <a:srgbClr val="990033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Text Box 2"/>
          <p:cNvSpPr/>
          <p:nvPr/>
        </p:nvSpPr>
        <p:spPr>
          <a:xfrm>
            <a:off x="900000" y="1628640"/>
            <a:ext cx="7886880" cy="44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9640" indent="-341280">
              <a:lnSpc>
                <a:spcPts val="3061"/>
              </a:lnSpc>
              <a:spcBef>
                <a:spcPts val="349"/>
              </a:spcBef>
              <a:tabLst>
                <a:tab algn="l" pos="0"/>
                <a:tab algn="l" pos="5396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9640" indent="-341280">
              <a:lnSpc>
                <a:spcPct val="200000"/>
              </a:lnSpc>
              <a:spcBef>
                <a:spcPts val="349"/>
              </a:spcBef>
              <a:tabLst>
                <a:tab algn="l" pos="0"/>
                <a:tab algn="l" pos="5396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Text Box 3"/>
          <p:cNvSpPr/>
          <p:nvPr/>
        </p:nvSpPr>
        <p:spPr>
          <a:xfrm>
            <a:off x="66531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02E786C-0436-440F-8DC4-1A769635713C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9" name=""/>
          <p:cNvGraphicFramePr/>
          <p:nvPr/>
        </p:nvGraphicFramePr>
        <p:xfrm>
          <a:off x="1042920" y="1700280"/>
          <a:ext cx="7489800" cy="4321080"/>
        </p:xfrm>
        <a:graphic>
          <a:graphicData uri="http://schemas.openxmlformats.org/drawingml/2006/table">
            <a:tbl>
              <a:tblPr/>
              <a:tblGrid>
                <a:gridCol w="3745080"/>
                <a:gridCol w="3744720"/>
              </a:tblGrid>
              <a:tr h="4321080"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slovení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itu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odnos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lvl="1" marL="816120" indent="-455760" algn="just">
                        <a:lnSpc>
                          <a:spcPct val="101000"/>
                        </a:lnSpc>
                        <a:tabLst>
                          <a:tab algn="l" pos="0"/>
                          <a:tab algn="l" pos="816120"/>
                          <a:tab algn="l" pos="1730520"/>
                          <a:tab algn="l" pos="2644920"/>
                          <a:tab algn="l" pos="3559320"/>
                          <a:tab algn="l" pos="4473720"/>
                          <a:tab algn="l" pos="5388120"/>
                          <a:tab algn="l" pos="6302520"/>
                          <a:tab algn="l" pos="7216920"/>
                          <a:tab algn="l" pos="8131320"/>
                          <a:tab algn="l" pos="9045720"/>
                          <a:tab algn="l" pos="9960120"/>
                          <a:tab algn="l" pos="1087452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aní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816120" indent="-455760" algn="just">
                        <a:lnSpc>
                          <a:spcPct val="202000"/>
                        </a:lnSpc>
                        <a:tabLst>
                          <a:tab algn="l" pos="0"/>
                          <a:tab algn="l" pos="816120"/>
                          <a:tab algn="l" pos="1730520"/>
                          <a:tab algn="l" pos="2644920"/>
                          <a:tab algn="l" pos="3559320"/>
                          <a:tab algn="l" pos="4473720"/>
                          <a:tab algn="l" pos="5388120"/>
                          <a:tab algn="l" pos="6302520"/>
                          <a:tab algn="l" pos="7216920"/>
                          <a:tab algn="l" pos="8131320"/>
                          <a:tab algn="l" pos="9045720"/>
                          <a:tab algn="l" pos="9960120"/>
                          <a:tab algn="l" pos="1087452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c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816120" indent="-455760" algn="just">
                        <a:lnSpc>
                          <a:spcPct val="202000"/>
                        </a:lnSpc>
                        <a:tabLst>
                          <a:tab algn="l" pos="0"/>
                          <a:tab algn="l" pos="816120"/>
                          <a:tab algn="l" pos="1730520"/>
                          <a:tab algn="l" pos="2644920"/>
                          <a:tab algn="l" pos="3559320"/>
                          <a:tab algn="l" pos="4473720"/>
                          <a:tab algn="l" pos="5388120"/>
                          <a:tab algn="l" pos="6302520"/>
                          <a:tab algn="l" pos="7216920"/>
                          <a:tab algn="l" pos="8131320"/>
                          <a:tab algn="l" pos="9045720"/>
                          <a:tab algn="l" pos="9960120"/>
                          <a:tab algn="l" pos="1087452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gr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816120" indent="-455760" algn="just">
                        <a:lnSpc>
                          <a:spcPct val="202000"/>
                        </a:lnSpc>
                        <a:tabLst>
                          <a:tab algn="l" pos="0"/>
                          <a:tab algn="l" pos="816120"/>
                          <a:tab algn="l" pos="1730520"/>
                          <a:tab algn="l" pos="2644920"/>
                          <a:tab algn="l" pos="3559320"/>
                          <a:tab algn="l" pos="4473720"/>
                          <a:tab algn="l" pos="5388120"/>
                          <a:tab algn="l" pos="6302520"/>
                          <a:tab algn="l" pos="7216920"/>
                          <a:tab algn="l" pos="8131320"/>
                          <a:tab algn="l" pos="9045720"/>
                          <a:tab algn="l" pos="9960120"/>
                          <a:tab algn="l" pos="1087452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Kapitá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816120" indent="-455760" algn="just">
                        <a:lnSpc>
                          <a:spcPct val="202000"/>
                        </a:lnSpc>
                        <a:tabLst>
                          <a:tab algn="l" pos="0"/>
                          <a:tab algn="l" pos="816120"/>
                          <a:tab algn="l" pos="1730520"/>
                          <a:tab algn="l" pos="2644920"/>
                          <a:tab algn="l" pos="3559320"/>
                          <a:tab algn="l" pos="4473720"/>
                          <a:tab algn="l" pos="5388120"/>
                          <a:tab algn="l" pos="6302520"/>
                          <a:tab algn="l" pos="7216920"/>
                          <a:tab algn="l" pos="8131320"/>
                          <a:tab algn="l" pos="9045720"/>
                          <a:tab algn="l" pos="9960120"/>
                          <a:tab algn="l" pos="1087452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á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816120" indent="-455760" algn="just">
                        <a:lnSpc>
                          <a:spcPct val="202000"/>
                        </a:lnSpc>
                        <a:tabLst>
                          <a:tab algn="l" pos="0"/>
                          <a:tab algn="l" pos="816120"/>
                          <a:tab algn="l" pos="1730520"/>
                          <a:tab algn="l" pos="2644920"/>
                          <a:tab algn="l" pos="3559320"/>
                          <a:tab algn="l" pos="4473720"/>
                          <a:tab algn="l" pos="5388120"/>
                          <a:tab algn="l" pos="6302520"/>
                          <a:tab algn="l" pos="7216920"/>
                          <a:tab algn="l" pos="8131320"/>
                          <a:tab algn="l" pos="9045720"/>
                          <a:tab algn="l" pos="9960120"/>
                          <a:tab algn="l" pos="1087452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f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816120" indent="-455760" algn="just">
                        <a:lnSpc>
                          <a:spcPct val="202000"/>
                        </a:lnSpc>
                        <a:tabLst>
                          <a:tab algn="l" pos="0"/>
                          <a:tab algn="l" pos="816120"/>
                          <a:tab algn="l" pos="1730520"/>
                          <a:tab algn="l" pos="2644920"/>
                          <a:tab algn="l" pos="3559320"/>
                          <a:tab algn="l" pos="4473720"/>
                          <a:tab algn="l" pos="5388120"/>
                          <a:tab algn="l" pos="6302520"/>
                          <a:tab algn="l" pos="7216920"/>
                          <a:tab algn="l" pos="8131320"/>
                          <a:tab algn="l" pos="9045720"/>
                          <a:tab algn="l" pos="9960120"/>
                          <a:tab algn="l" pos="1087452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c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816120" indent="-455760" algn="just">
                        <a:lnSpc>
                          <a:spcPct val="202000"/>
                        </a:lnSpc>
                        <a:tabLst>
                          <a:tab algn="l" pos="0"/>
                          <a:tab algn="l" pos="816120"/>
                          <a:tab algn="l" pos="1730520"/>
                          <a:tab algn="l" pos="2644920"/>
                          <a:tab algn="l" pos="3559320"/>
                          <a:tab algn="l" pos="4473720"/>
                          <a:tab algn="l" pos="5388120"/>
                          <a:tab algn="l" pos="6302520"/>
                          <a:tab algn="l" pos="7216920"/>
                          <a:tab algn="l" pos="8131320"/>
                          <a:tab algn="l" pos="9045720"/>
                          <a:tab algn="l" pos="9960120"/>
                          <a:tab algn="l" pos="1087452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lukovní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816120" indent="-455760" algn="just">
                        <a:lnSpc>
                          <a:spcPct val="202000"/>
                        </a:lnSpc>
                        <a:tabLst>
                          <a:tab algn="l" pos="0"/>
                          <a:tab algn="l" pos="816120"/>
                          <a:tab algn="l" pos="1730520"/>
                          <a:tab algn="l" pos="2644920"/>
                          <a:tab algn="l" pos="3559320"/>
                          <a:tab algn="l" pos="4473720"/>
                          <a:tab algn="l" pos="5388120"/>
                          <a:tab algn="l" pos="6302520"/>
                          <a:tab algn="l" pos="7216920"/>
                          <a:tab algn="l" pos="8131320"/>
                          <a:tab algn="l" pos="9045720"/>
                          <a:tab algn="l" pos="9960120"/>
                          <a:tab algn="l" pos="1087452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leč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816120" indent="-455760" algn="just">
                        <a:lnSpc>
                          <a:spcPct val="202000"/>
                        </a:lnSpc>
                        <a:tabLst>
                          <a:tab algn="l" pos="0"/>
                          <a:tab algn="l" pos="816120"/>
                          <a:tab algn="l" pos="1730520"/>
                          <a:tab algn="l" pos="2644920"/>
                          <a:tab algn="l" pos="3559320"/>
                          <a:tab algn="l" pos="4473720"/>
                          <a:tab algn="l" pos="5388120"/>
                          <a:tab algn="l" pos="6302520"/>
                          <a:tab algn="l" pos="7216920"/>
                          <a:tab algn="l" pos="8131320"/>
                          <a:tab algn="l" pos="9045720"/>
                          <a:tab algn="l" pos="9960120"/>
                          <a:tab algn="l" pos="1087452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hD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 Box 1"/>
          <p:cNvSpPr/>
          <p:nvPr/>
        </p:nvSpPr>
        <p:spPr>
          <a:xfrm>
            <a:off x="1714680" y="274680"/>
            <a:ext cx="697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Verdana"/>
              </a:rPr>
              <a:t>Упражнение 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Text Box 2"/>
          <p:cNvSpPr/>
          <p:nvPr/>
        </p:nvSpPr>
        <p:spPr>
          <a:xfrm>
            <a:off x="1042920" y="1700280"/>
            <a:ext cx="774396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2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hůty pro vyřízení stanoví obecný předpis o správním řízení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2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e stanovené lhůtě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2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a požádání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2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ve znění pozdějších předpisů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2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v případech hodných zvláštního zřete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2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úředně ověřená kopi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2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Prohlašuji, že jsem byl/a seznámen/a s podmínkami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2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Prohlašuji, že výše uvedené údaje jsou přesné, pravdivé a úplné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Text Box 3"/>
          <p:cNvSpPr/>
          <p:nvPr/>
        </p:nvSpPr>
        <p:spPr>
          <a:xfrm>
            <a:off x="66531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8C6D460-35E7-488E-85C2-1C2FCFFDD4A6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1"/>
          <p:cNvSpPr/>
          <p:nvPr/>
        </p:nvSpPr>
        <p:spPr>
          <a:xfrm>
            <a:off x="1714680" y="274680"/>
            <a:ext cx="697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Verdana"/>
              </a:rPr>
              <a:t>Упражнение 3. Формуля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Text Box 2"/>
          <p:cNvSpPr/>
          <p:nvPr/>
        </p:nvSpPr>
        <p:spPr>
          <a:xfrm>
            <a:off x="1042920" y="1714680"/>
            <a:ext cx="7743960" cy="40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Čestné prohlášení o pravdivosti údajů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br>
              <a:rPr sz="1400"/>
            </a:b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Já .............................., datum narození .......................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bytem ................................., tímto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čestně prohlašuji,</a:t>
            </a:r>
            <a:br>
              <a:rPr sz="1400"/>
            </a:b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že v dokumentu, jehož je toto prohlášení nedílnou přílohou, jsem uvedl přesné, pravdivé a úplné údaje. Jsem si vědom toho, že pokud by mnou uvedené informace byly obráceny v opak, budu čelit všem z toho vyplývajícím právním následkům.</a:t>
            </a:r>
            <a:br>
              <a:rPr sz="1400"/>
            </a:b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V ..................... dne ....................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..................................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podp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66531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EEA720F-CB04-4396-BF90-0AA62F476072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1"/>
          <p:cNvSpPr/>
          <p:nvPr/>
        </p:nvSpPr>
        <p:spPr>
          <a:xfrm>
            <a:off x="1714680" y="274680"/>
            <a:ext cx="697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990033"/>
                </a:solidFill>
                <a:latin typeface="Verdana"/>
              </a:rPr>
              <a:t>Возможные проблем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Text Box 2"/>
          <p:cNvSpPr/>
          <p:nvPr/>
        </p:nvSpPr>
        <p:spPr>
          <a:xfrm>
            <a:off x="1042920" y="1714680"/>
            <a:ext cx="7743960" cy="43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сихологический фактор – изначально негативное отношение к чиновникам, боязнь, ожидание худшег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ременные затраты – на перевод необходимых документов, зачастую повторные визиты в госучрежд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большое количество необходимых документов, которые необходимо предоставлять при общении с различными ведомствами и постоянно обновлять. В большинстве случаев эти проблемы связаны с нахождением в Чехии на основании ВНЖ, тогда как при наличии ПМЖ многие из них отпадаю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частые изменения в законодательстве, касающемся иностранцев, которые сложно отслеживат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Text Box 3"/>
          <p:cNvSpPr/>
          <p:nvPr/>
        </p:nvSpPr>
        <p:spPr>
          <a:xfrm>
            <a:off x="66531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DCEEC12-96F3-40FA-AC7B-3BA96CB7BF93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1"/>
          <p:cNvSpPr/>
          <p:nvPr/>
        </p:nvSpPr>
        <p:spPr>
          <a:xfrm>
            <a:off x="2935440" y="3213000"/>
            <a:ext cx="582264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щение с госучреждения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2"/>
          <p:cNvSpPr/>
          <p:nvPr/>
        </p:nvSpPr>
        <p:spPr>
          <a:xfrm>
            <a:off x="3419640" y="2519280"/>
            <a:ext cx="32684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Text Box 3"/>
          <p:cNvSpPr/>
          <p:nvPr/>
        </p:nvSpPr>
        <p:spPr>
          <a:xfrm>
            <a:off x="2879640" y="360360"/>
            <a:ext cx="1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1"/>
          <p:cNvSpPr/>
          <p:nvPr/>
        </p:nvSpPr>
        <p:spPr>
          <a:xfrm>
            <a:off x="1714680" y="274680"/>
            <a:ext cx="697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Verdana"/>
              </a:rPr>
              <a:t>Органы власти, с которыми сталкиваемся чаще все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Text Box 2"/>
          <p:cNvSpPr/>
          <p:nvPr/>
        </p:nvSpPr>
        <p:spPr>
          <a:xfrm>
            <a:off x="1042920" y="1628640"/>
            <a:ext cx="7743960" cy="53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5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ммиграционные орга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ли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ентры занятости (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úřa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práce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логовые инспекции (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daňové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finanční úřady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рганы государственного и местного управлени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инистерства, мэрии, областные администрации, муниципалитет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66531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DF73692-041D-4E80-8419-2C1E7D1A1F8B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 Box 1"/>
          <p:cNvSpPr/>
          <p:nvPr/>
        </p:nvSpPr>
        <p:spPr>
          <a:xfrm>
            <a:off x="1714680" y="274680"/>
            <a:ext cx="697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Verdana"/>
              </a:rPr>
              <a:t>Государственно-общественное управление Чех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9" name="Group 2"/>
          <p:cNvGrpSpPr/>
          <p:nvPr/>
        </p:nvGrpSpPr>
        <p:grpSpPr>
          <a:xfrm>
            <a:off x="826920" y="1484280"/>
            <a:ext cx="7848720" cy="4751280"/>
            <a:chOff x="826920" y="1484280"/>
            <a:chExt cx="7848720" cy="4751280"/>
          </a:xfrm>
        </p:grpSpPr>
        <p:sp>
          <p:nvSpPr>
            <p:cNvPr id="490" name="Rectangle 3"/>
            <p:cNvSpPr/>
            <p:nvPr/>
          </p:nvSpPr>
          <p:spPr>
            <a:xfrm>
              <a:off x="826920" y="1484280"/>
              <a:ext cx="367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Verdana"/>
                </a:rPr>
                <a:t>осударственное управлени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Rectangle 4"/>
            <p:cNvSpPr/>
            <p:nvPr/>
          </p:nvSpPr>
          <p:spPr>
            <a:xfrm>
              <a:off x="4498920" y="1484280"/>
              <a:ext cx="417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Verdana"/>
                </a:rPr>
                <a:t>Самоуправлени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Line 7"/>
            <p:cNvSpPr/>
            <p:nvPr/>
          </p:nvSpPr>
          <p:spPr>
            <a:xfrm>
              <a:off x="4498920" y="2004840"/>
              <a:ext cx="0" cy="4230720"/>
            </a:xfrm>
            <a:prstGeom prst="line">
              <a:avLst/>
            </a:prstGeom>
            <a:ln w="5760">
              <a:solidFill>
                <a:srgbClr val="c4dc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3" name="Rectangle 8"/>
          <p:cNvSpPr/>
          <p:nvPr/>
        </p:nvSpPr>
        <p:spPr>
          <a:xfrm>
            <a:off x="1187280" y="1628640"/>
            <a:ext cx="3024360" cy="36036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9e0000"/>
                </a:solidFill>
                <a:latin typeface="Calibri"/>
              </a:rPr>
              <a:t>Государственное управл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Rectangle 9"/>
          <p:cNvSpPr/>
          <p:nvPr/>
        </p:nvSpPr>
        <p:spPr>
          <a:xfrm>
            <a:off x="4788000" y="1628640"/>
            <a:ext cx="3384360" cy="36036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9e0000"/>
                </a:solidFill>
                <a:latin typeface="Calibri"/>
              </a:rPr>
              <a:t>Самоуправление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95" name="AutoShape 10"/>
          <p:cNvCxnSpPr/>
          <p:nvPr/>
        </p:nvCxnSpPr>
        <p:spPr>
          <a:xfrm>
            <a:off x="2626920" y="2852280"/>
            <a:ext cx="2520" cy="289440"/>
          </a:xfrm>
          <a:prstGeom prst="straightConnector1">
            <a:avLst/>
          </a:prstGeom>
          <a:ln w="31680">
            <a:solidFill>
              <a:srgbClr val="c4dc4a"/>
            </a:solidFill>
            <a:miter/>
            <a:tailEnd len="med" type="triangle" w="med"/>
          </a:ln>
        </p:spPr>
      </p:cxnSp>
      <p:cxnSp>
        <p:nvCxnSpPr>
          <p:cNvPr id="496" name="AutoShape 11"/>
          <p:cNvCxnSpPr/>
          <p:nvPr/>
        </p:nvCxnSpPr>
        <p:spPr>
          <a:xfrm>
            <a:off x="2626920" y="4365720"/>
            <a:ext cx="2520" cy="288000"/>
          </a:xfrm>
          <a:prstGeom prst="straightConnector1">
            <a:avLst/>
          </a:prstGeom>
          <a:ln w="31680">
            <a:solidFill>
              <a:srgbClr val="c4dc4a"/>
            </a:solidFill>
            <a:miter/>
            <a:tailEnd len="med" type="triangle" w="med"/>
          </a:ln>
        </p:spPr>
      </p:cxnSp>
      <p:sp>
        <p:nvSpPr>
          <p:cNvPr id="497" name="Text Box 12"/>
          <p:cNvSpPr/>
          <p:nvPr/>
        </p:nvSpPr>
        <p:spPr>
          <a:xfrm>
            <a:off x="66531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6965C18-8B8E-4254-9326-483A98AC1A19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 Box 1"/>
          <p:cNvSpPr/>
          <p:nvPr/>
        </p:nvSpPr>
        <p:spPr>
          <a:xfrm>
            <a:off x="1714680" y="274680"/>
            <a:ext cx="697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Verdana"/>
              </a:rPr>
              <a:t>Административные органы Праг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2"/>
          <p:cNvSpPr/>
          <p:nvPr/>
        </p:nvSpPr>
        <p:spPr>
          <a:xfrm>
            <a:off x="857160" y="1571760"/>
            <a:ext cx="79264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обрание депутатов Праги (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Zastupitelstvo hlavn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í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o m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a Prahy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овет Праги (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ada hlavn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í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o m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a Prahy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эр Праги (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im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á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r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эрия Праги (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gistr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á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 hlavn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í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o m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a Prahy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собые органы (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zvl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áš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n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í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rg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á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y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униципальная полиция Праги (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sk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á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olicie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5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сю важную информацию о деятельности органов государственно-общественного управления в ЧР можно найти на соответствующих веб-сайтах. Актуальный список веб-сайтов размещен по адресу: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ttp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://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ortal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ov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z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 где приведены ссылки на муниципалитеты, областные и городские администрации, а также другая полезная информац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Text Box 3"/>
          <p:cNvSpPr/>
          <p:nvPr/>
        </p:nvSpPr>
        <p:spPr>
          <a:xfrm>
            <a:off x="66531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79A5AE4-3FDF-4EC2-AE8C-2D5E0AFE41BA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1"/>
          <p:cNvSpPr/>
          <p:nvPr/>
        </p:nvSpPr>
        <p:spPr>
          <a:xfrm>
            <a:off x="1714680" y="274680"/>
            <a:ext cx="697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Verdana"/>
              </a:rPr>
              <a:t>Официально-деловой стиль речи </a:t>
            </a:r>
            <a:r>
              <a:rPr b="0" lang="ru-RU" sz="2000" spc="-1" strike="noStrike">
                <a:solidFill>
                  <a:srgbClr val="990033"/>
                </a:solidFill>
                <a:latin typeface="Verdana"/>
              </a:rPr>
              <a:t>(</a:t>
            </a:r>
            <a:r>
              <a:rPr b="0" lang="cs-CZ" sz="2000" spc="-1" strike="noStrike">
                <a:solidFill>
                  <a:srgbClr val="990033"/>
                </a:solidFill>
                <a:latin typeface="Verdana"/>
              </a:rPr>
              <a:t>administrativní funkční st</a:t>
            </a:r>
            <a:r>
              <a:rPr b="0" lang="en-US" sz="2000" spc="-1" strike="noStrike">
                <a:solidFill>
                  <a:srgbClr val="990033"/>
                </a:solidFill>
                <a:latin typeface="Verdana"/>
              </a:rPr>
              <a:t>y</a:t>
            </a:r>
            <a:r>
              <a:rPr b="0" lang="cs-CZ" sz="2000" spc="-1" strike="noStrike">
                <a:solidFill>
                  <a:srgbClr val="990033"/>
                </a:solidFill>
                <a:latin typeface="Verdana"/>
              </a:rPr>
              <a:t>l</a:t>
            </a:r>
            <a:r>
              <a:rPr b="0" lang="ru-RU" sz="2000" spc="-1" strike="noStrike">
                <a:solidFill>
                  <a:srgbClr val="990033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Text Box 2"/>
          <p:cNvSpPr/>
          <p:nvPr/>
        </p:nvSpPr>
        <p:spPr>
          <a:xfrm>
            <a:off x="1076400" y="1260360"/>
            <a:ext cx="7743600" cy="55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93232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Обслуживает правовую и административно-общественную сферы деятельности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93232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Используется при написании документов: международных договоров, государственных актов, юридических законов, постановлений, уставов, инструкций, служебной переписки, разных видов документации в учреждениях (заявлений, справок, отчетов, протоколов и т. п.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93232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Приме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Za zam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n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á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í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 pro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úč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ly povinnosti m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í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 platn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é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ovolen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í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k zam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n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á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í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ova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ž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je i pln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í ú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kol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ů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ypl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ý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aj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í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í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h z p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ř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dm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u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č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nosti pr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á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nick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é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soby zaji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šť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van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ý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h spole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č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í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kem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atut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á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n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í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 org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á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m nebo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č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enem statut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á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n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í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o org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á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u nebo jin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é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o org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á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u obchodn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í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pole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č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sti pro obchodn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í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pole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č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st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č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č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enem dru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ž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va nebo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č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enem statut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á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n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í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o nebo jin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é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o org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á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u dru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ž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va pro dru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ž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vo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 Box 3"/>
          <p:cNvSpPr/>
          <p:nvPr/>
        </p:nvSpPr>
        <p:spPr>
          <a:xfrm>
            <a:off x="66531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53CBD58-8E2A-4F57-A50B-55A823F5BC99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Text Box 1"/>
          <p:cNvSpPr/>
          <p:nvPr/>
        </p:nvSpPr>
        <p:spPr>
          <a:xfrm>
            <a:off x="1714680" y="274680"/>
            <a:ext cx="697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990033"/>
                </a:solidFill>
                <a:latin typeface="Verdana"/>
              </a:rPr>
              <a:t>Разбираемся в аббревиатурах (1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5" name="Group 2"/>
          <p:cNvGrpSpPr/>
          <p:nvPr/>
        </p:nvGrpSpPr>
        <p:grpSpPr>
          <a:xfrm>
            <a:off x="900000" y="1492200"/>
            <a:ext cx="7829640" cy="4602240"/>
            <a:chOff x="900000" y="1492200"/>
            <a:chExt cx="7829640" cy="4602240"/>
          </a:xfrm>
        </p:grpSpPr>
        <p:sp>
          <p:nvSpPr>
            <p:cNvPr id="506" name="Rectangle 3"/>
            <p:cNvSpPr/>
            <p:nvPr/>
          </p:nvSpPr>
          <p:spPr>
            <a:xfrm>
              <a:off x="900000" y="1492200"/>
              <a:ext cx="782964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Verdana"/>
                </a:rPr>
                <a:t>1. Органы власт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Line 6"/>
            <p:cNvSpPr/>
            <p:nvPr/>
          </p:nvSpPr>
          <p:spPr>
            <a:xfrm>
              <a:off x="4716360" y="2013120"/>
              <a:ext cx="0" cy="4081320"/>
            </a:xfrm>
            <a:prstGeom prst="line">
              <a:avLst/>
            </a:prstGeom>
            <a:ln w="5760">
              <a:solidFill>
                <a:srgbClr val="c4dc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8" name="Text Box 7"/>
          <p:cNvSpPr/>
          <p:nvPr/>
        </p:nvSpPr>
        <p:spPr>
          <a:xfrm>
            <a:off x="66531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9B837B7-6BA9-4E01-BC47-784C6E5950D1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 Box 1"/>
          <p:cNvSpPr/>
          <p:nvPr/>
        </p:nvSpPr>
        <p:spPr>
          <a:xfrm>
            <a:off x="1714680" y="274680"/>
            <a:ext cx="697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990033"/>
                </a:solidFill>
                <a:latin typeface="Verdana"/>
              </a:rPr>
              <a:t>Разбираемся в аббревиатурах (2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0" name="Group 2"/>
          <p:cNvGrpSpPr/>
          <p:nvPr/>
        </p:nvGrpSpPr>
        <p:grpSpPr>
          <a:xfrm>
            <a:off x="900000" y="1492200"/>
            <a:ext cx="7848720" cy="4435560"/>
            <a:chOff x="900000" y="1492200"/>
            <a:chExt cx="7848720" cy="4435560"/>
          </a:xfrm>
        </p:grpSpPr>
        <p:sp>
          <p:nvSpPr>
            <p:cNvPr id="511" name="Rectangle 3"/>
            <p:cNvSpPr/>
            <p:nvPr/>
          </p:nvSpPr>
          <p:spPr>
            <a:xfrm>
              <a:off x="900000" y="1492200"/>
              <a:ext cx="381636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Verdana"/>
                </a:rPr>
                <a:t>2. Полици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Rectangle 4"/>
            <p:cNvSpPr/>
            <p:nvPr/>
          </p:nvSpPr>
          <p:spPr>
            <a:xfrm>
              <a:off x="4716360" y="1492200"/>
              <a:ext cx="403236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Verdana"/>
                </a:rPr>
                <a:t>3. Остальные аббревиатуры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Line 7"/>
            <p:cNvSpPr/>
            <p:nvPr/>
          </p:nvSpPr>
          <p:spPr>
            <a:xfrm>
              <a:off x="4716360" y="1906560"/>
              <a:ext cx="0" cy="4021200"/>
            </a:xfrm>
            <a:prstGeom prst="line">
              <a:avLst/>
            </a:prstGeom>
            <a:ln w="5760">
              <a:solidFill>
                <a:srgbClr val="c4dc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4" name="Text Box 8"/>
          <p:cNvSpPr/>
          <p:nvPr/>
        </p:nvSpPr>
        <p:spPr>
          <a:xfrm>
            <a:off x="66531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B1608D1-6F52-41D4-8C23-9366F837D0A1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1"/>
          <p:cNvSpPr/>
          <p:nvPr/>
        </p:nvSpPr>
        <p:spPr>
          <a:xfrm>
            <a:off x="1714680" y="274680"/>
            <a:ext cx="697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Verdana"/>
              </a:rPr>
              <a:t>Основные понятия и термины </a:t>
            </a:r>
            <a:br>
              <a:rPr sz="2800"/>
            </a:br>
            <a:r>
              <a:rPr b="0" lang="ru-RU" sz="1800" spc="-1" strike="noStrike">
                <a:solidFill>
                  <a:srgbClr val="990033"/>
                </a:solidFill>
                <a:latin typeface="Verdana"/>
              </a:rPr>
              <a:t>(1)</a:t>
            </a:r>
            <a:r>
              <a:rPr b="0" lang="en-US" sz="1800" spc="-1" strike="noStrike">
                <a:solidFill>
                  <a:srgbClr val="990033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990033"/>
                </a:solidFill>
                <a:latin typeface="Verdana"/>
              </a:rPr>
              <a:t>Государственное управление и органы вла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 Box 2"/>
          <p:cNvSpPr/>
          <p:nvPr/>
        </p:nvSpPr>
        <p:spPr>
          <a:xfrm>
            <a:off x="900000" y="1628640"/>
            <a:ext cx="7886880" cy="44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6200" indent="-35892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216080"/>
                <a:tab algn="l" pos="2130480"/>
                <a:tab algn="l" pos="3044880"/>
                <a:tab algn="l" pos="3959280"/>
                <a:tab algn="l" pos="4873680"/>
                <a:tab algn="l" pos="5788080"/>
                <a:tab algn="l" pos="6702480"/>
                <a:tab algn="l" pos="7616880"/>
                <a:tab algn="l" pos="8531280"/>
                <a:tab algn="l" pos="9445680"/>
                <a:tab algn="l" pos="10360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Kraj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46200" indent="-35892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216080"/>
                <a:tab algn="l" pos="2130480"/>
                <a:tab algn="l" pos="3044880"/>
                <a:tab algn="l" pos="3959280"/>
                <a:tab algn="l" pos="4873680"/>
                <a:tab algn="l" pos="5788080"/>
                <a:tab algn="l" pos="6702480"/>
                <a:tab algn="l" pos="7616880"/>
                <a:tab algn="l" pos="8531280"/>
                <a:tab algn="l" pos="9445680"/>
                <a:tab algn="l" pos="10360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Obec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46200" indent="-35892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216080"/>
                <a:tab algn="l" pos="2130480"/>
                <a:tab algn="l" pos="3044880"/>
                <a:tab algn="l" pos="3959280"/>
                <a:tab algn="l" pos="4873680"/>
                <a:tab algn="l" pos="5788080"/>
                <a:tab algn="l" pos="6702480"/>
                <a:tab algn="l" pos="7616880"/>
                <a:tab algn="l" pos="8531280"/>
                <a:tab algn="l" pos="9445680"/>
                <a:tab algn="l" pos="10360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Okre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46200" indent="-35892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216080"/>
                <a:tab algn="l" pos="2130480"/>
                <a:tab algn="l" pos="3044880"/>
                <a:tab algn="l" pos="3959280"/>
                <a:tab algn="l" pos="4873680"/>
                <a:tab algn="l" pos="5788080"/>
                <a:tab algn="l" pos="6702480"/>
                <a:tab algn="l" pos="7616880"/>
                <a:tab algn="l" pos="8531280"/>
                <a:tab algn="l" pos="9445680"/>
                <a:tab algn="l" pos="10360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Statutární město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46200" indent="-35892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216080"/>
                <a:tab algn="l" pos="2130480"/>
                <a:tab algn="l" pos="3044880"/>
                <a:tab algn="l" pos="3959280"/>
                <a:tab algn="l" pos="4873680"/>
                <a:tab algn="l" pos="5788080"/>
                <a:tab algn="l" pos="6702480"/>
                <a:tab algn="l" pos="7616880"/>
                <a:tab algn="l" pos="8531280"/>
                <a:tab algn="l" pos="9445680"/>
                <a:tab algn="l" pos="10360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Městská část, městský obvod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46200" indent="-35892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216080"/>
                <a:tab algn="l" pos="2130480"/>
                <a:tab algn="l" pos="3044880"/>
                <a:tab algn="l" pos="3959280"/>
                <a:tab algn="l" pos="4873680"/>
                <a:tab algn="l" pos="5788080"/>
                <a:tab algn="l" pos="6702480"/>
                <a:tab algn="l" pos="7616880"/>
                <a:tab algn="l" pos="8531280"/>
                <a:tab algn="l" pos="9445680"/>
                <a:tab algn="l" pos="10360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Správní orgá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46200" indent="-35892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216080"/>
                <a:tab algn="l" pos="2130480"/>
                <a:tab algn="l" pos="3044880"/>
                <a:tab algn="l" pos="3959280"/>
                <a:tab algn="l" pos="4873680"/>
                <a:tab algn="l" pos="5788080"/>
                <a:tab algn="l" pos="6702480"/>
                <a:tab algn="l" pos="7616880"/>
                <a:tab algn="l" pos="8531280"/>
                <a:tab algn="l" pos="9445680"/>
                <a:tab algn="l" pos="10360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Zastupitelstvo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46200" indent="-35892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216080"/>
                <a:tab algn="l" pos="2130480"/>
                <a:tab algn="l" pos="3044880"/>
                <a:tab algn="l" pos="3959280"/>
                <a:tab algn="l" pos="4873680"/>
                <a:tab algn="l" pos="5788080"/>
                <a:tab algn="l" pos="6702480"/>
                <a:tab algn="l" pos="7616880"/>
                <a:tab algn="l" pos="8531280"/>
                <a:tab algn="l" pos="9445680"/>
                <a:tab algn="l" pos="10360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Státní zastupitelství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46200" indent="-35892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216080"/>
                <a:tab algn="l" pos="2130480"/>
                <a:tab algn="l" pos="3044880"/>
                <a:tab algn="l" pos="3959280"/>
                <a:tab algn="l" pos="4873680"/>
                <a:tab algn="l" pos="5788080"/>
                <a:tab algn="l" pos="6702480"/>
                <a:tab algn="l" pos="7616880"/>
                <a:tab algn="l" pos="8531280"/>
                <a:tab algn="l" pos="9445680"/>
                <a:tab algn="l" pos="10360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Rad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46200" indent="-35892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216080"/>
                <a:tab algn="l" pos="2130480"/>
                <a:tab algn="l" pos="3044880"/>
                <a:tab algn="l" pos="3959280"/>
                <a:tab algn="l" pos="4873680"/>
                <a:tab algn="l" pos="5788080"/>
                <a:tab algn="l" pos="6702480"/>
                <a:tab algn="l" pos="7616880"/>
                <a:tab algn="l" pos="8531280"/>
                <a:tab algn="l" pos="9445680"/>
                <a:tab algn="l" pos="10360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Městská rad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46200" indent="-35892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216080"/>
                <a:tab algn="l" pos="2130480"/>
                <a:tab algn="l" pos="3044880"/>
                <a:tab algn="l" pos="3959280"/>
                <a:tab algn="l" pos="4873680"/>
                <a:tab algn="l" pos="5788080"/>
                <a:tab algn="l" pos="6702480"/>
                <a:tab algn="l" pos="7616880"/>
                <a:tab algn="l" pos="8531280"/>
                <a:tab algn="l" pos="9445680"/>
                <a:tab algn="l" pos="10360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Krajský úřad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46200" indent="-35892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216080"/>
                <a:tab algn="l" pos="2130480"/>
                <a:tab algn="l" pos="3044880"/>
                <a:tab algn="l" pos="3959280"/>
                <a:tab algn="l" pos="4873680"/>
                <a:tab algn="l" pos="5788080"/>
                <a:tab algn="l" pos="6702480"/>
                <a:tab algn="l" pos="7616880"/>
                <a:tab algn="l" pos="8531280"/>
                <a:tab algn="l" pos="9445680"/>
                <a:tab algn="l" pos="10360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Obecní úřad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46200" indent="-35892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216080"/>
                <a:tab algn="l" pos="2130480"/>
                <a:tab algn="l" pos="3044880"/>
                <a:tab algn="l" pos="3959280"/>
                <a:tab algn="l" pos="4873680"/>
                <a:tab algn="l" pos="5788080"/>
                <a:tab algn="l" pos="6702480"/>
                <a:tab algn="l" pos="7616880"/>
                <a:tab algn="l" pos="8531280"/>
                <a:tab algn="l" pos="9445680"/>
                <a:tab algn="l" pos="10360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Magistrát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46200" indent="-35892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216080"/>
                <a:tab algn="l" pos="2130480"/>
                <a:tab algn="l" pos="3044880"/>
                <a:tab algn="l" pos="3959280"/>
                <a:tab algn="l" pos="4873680"/>
                <a:tab algn="l" pos="5788080"/>
                <a:tab algn="l" pos="6702480"/>
                <a:tab algn="l" pos="7616880"/>
                <a:tab algn="l" pos="8531280"/>
                <a:tab algn="l" pos="9445680"/>
                <a:tab algn="l" pos="10360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Krajské pracoviště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46200" indent="-35892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216080"/>
                <a:tab algn="l" pos="2130480"/>
                <a:tab algn="l" pos="3044880"/>
                <a:tab algn="l" pos="3959280"/>
                <a:tab algn="l" pos="4873680"/>
                <a:tab algn="l" pos="5788080"/>
                <a:tab algn="l" pos="6702480"/>
                <a:tab algn="l" pos="7616880"/>
                <a:tab algn="l" pos="8531280"/>
                <a:tab algn="l" pos="9445680"/>
                <a:tab algn="l" pos="10360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Odbor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3"/>
          <p:cNvSpPr/>
          <p:nvPr/>
        </p:nvSpPr>
        <p:spPr>
          <a:xfrm>
            <a:off x="66531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D657983-0E1B-4C2A-BF49-832F53B5252F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 Box 1"/>
          <p:cNvSpPr/>
          <p:nvPr/>
        </p:nvSpPr>
        <p:spPr>
          <a:xfrm>
            <a:off x="1714680" y="274680"/>
            <a:ext cx="697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Verdana"/>
              </a:rPr>
              <a:t>Основные понятия и термины </a:t>
            </a:r>
            <a:br>
              <a:rPr sz="2400"/>
            </a:br>
            <a:r>
              <a:rPr b="0" lang="ru-RU" sz="1800" spc="-1" strike="noStrike">
                <a:solidFill>
                  <a:srgbClr val="990033"/>
                </a:solidFill>
                <a:latin typeface="Verdana"/>
              </a:rPr>
              <a:t>(2)</a:t>
            </a:r>
            <a:r>
              <a:rPr b="0" lang="en-US" sz="1800" spc="-1" strike="noStrike">
                <a:solidFill>
                  <a:srgbClr val="990033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990033"/>
                </a:solidFill>
                <a:latin typeface="Verdana"/>
              </a:rPr>
              <a:t>Докумен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9" name="Group 2"/>
          <p:cNvGrpSpPr/>
          <p:nvPr/>
        </p:nvGrpSpPr>
        <p:grpSpPr>
          <a:xfrm>
            <a:off x="1042920" y="1628640"/>
            <a:ext cx="0" cy="4608720"/>
            <a:chOff x="1042920" y="1628640"/>
            <a:chExt cx="0" cy="4608720"/>
          </a:xfrm>
        </p:grpSpPr>
        <p:sp>
          <p:nvSpPr>
            <p:cNvPr id="520" name="Line 5"/>
            <p:cNvSpPr/>
            <p:nvPr/>
          </p:nvSpPr>
          <p:spPr>
            <a:xfrm>
              <a:off x="1042920" y="1628640"/>
              <a:ext cx="0" cy="4608720"/>
            </a:xfrm>
            <a:prstGeom prst="line">
              <a:avLst/>
            </a:prstGeom>
            <a:ln w="5760">
              <a:solidFill>
                <a:srgbClr val="c4dc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1" name="Text Box 6"/>
          <p:cNvSpPr/>
          <p:nvPr/>
        </p:nvSpPr>
        <p:spPr>
          <a:xfrm>
            <a:off x="66531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542ADC4-4B06-4921-97E4-4EBDC98EE1E2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11:24Z</dcterms:created>
  <dc:creator>User</dc:creator>
  <dc:description/>
  <dc:language>en-US</dc:language>
  <cp:lastModifiedBy>Fridrichová Jitka Mgr. (MPSV)</cp:lastModifiedBy>
  <dcterms:modified xsi:type="dcterms:W3CDTF">2015-08-19T16:00:35Z</dcterms:modified>
  <cp:revision>136</cp:revision>
  <dc:subject/>
  <dc:title>Snímek 1</dc:title>
</cp:coreProperties>
</file>