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C97-4C56-41CB-AF3A-7EC5DE83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1DF-C77F-43DB-9F31-589A8D8B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729-8F7A-4922-B975-FD7BB53C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F7A-CF22-4CAA-B37D-C3D3F1C4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4DA-9227-47D8-A62F-111B061C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615-6016-4C40-971B-00662D2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8B0-F7E0-49F9-83B1-C5D1271C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C521-53CD-46A9-A6E7-575861AB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DBD-CA2F-44E5-B3AF-52E1C009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6AB0-B6E9-4C4F-B135-0C902A3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8E44-D5D0-4197-A9A9-6B818ABD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E2AD-3D25-4B06-A902-CD244A60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D92D-8387-4C75-8C6F-2AFA185F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C114-C56D-4EC9-9988-FDB3F090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073-9ED6-4855-A522-ED96030A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AD6C-00C2-4BFE-A355-05D35871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041C-76DD-4CCF-A2EB-E1F9C8CB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3F61-FFF9-4E3A-B7F3-FF1CF66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5FC7-7800-45A5-ADFE-2DE71526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646-04D9-477C-8F33-E3D4B465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B646-1CA5-4EA9-9061-AFE4F9A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BF52-0AF5-4927-89B3-40F7AFBD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F5A0-8C15-4D6B-93DB-5E887574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1595-73BD-4D72-9DFE-EFB1097D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070F-548B-410C-8360-68571FB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120A-E99B-46B2-87FD-B861E070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4003-853C-4D08-B69B-6995A5E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165FB-1503-4C95-80C4-F90693F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5022-27CE-4454-A759-BFAC5B8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F79E-F2EF-47DB-AB32-BFFDBC4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6F3-769F-4AB9-8F3F-F522B8FB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425B-0222-4AAD-BB02-9B90317E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86B6-8E75-4336-992A-F780E9EC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0D79-4767-4059-BA32-E336BC96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796B-C445-4357-9358-A8C02957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EB94-75FD-4BCB-B852-CA99D01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B95CD-0BDF-4874-A926-988280F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B7FF-76AA-43A8-80F9-9D100D7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0727-8731-4132-AE60-0EBA594D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10D4-0898-4AEB-96F6-7C29A8C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D815-CFA4-412B-AE3C-D2BD6606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B365-6575-4DE1-8427-61904509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B285-732A-4198-8678-57E0E75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F02E-C9A5-4E1A-82D1-537C8BD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BE26C-DC7D-43E0-9013-53FEAD20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2D74-7377-48E1-AA93-3FF725D6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8D7E-16A1-450B-A429-06C19107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1441-7B4C-4357-AF6F-86368270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BF499-CAE7-4458-9DC3-2E37D81C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0917E-7A02-48E5-BF52-C836A687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ACE0-E2E0-4A46-BA53-3319FFE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5DEB8-1227-4FF1-A6FA-FD69DC9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94A-0A72-407C-BFE9-12D82F5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CBCD-1638-414D-AD07-040BDFB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1CBA-C969-4C8A-A975-39C54821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E87D-434E-4613-A051-5250C90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9A0D-535A-4A06-99EC-534D97BF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465D-6899-435E-B2E3-85D6E99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B42D-80E4-4892-93B8-5312AE29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E86B-DA29-4002-B2EA-135B3496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86C6-D120-41B0-B947-B2683F931A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A98-48F9-40A7-A15A-9A3EBC1BBC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31D3-DB69-405D-A498-EF051385941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3E5-950E-4E8C-89D5-C15ADC71F87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408-08B4-4127-A557-B279FC5FC3F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09C-974E-45E7-9EF7-C4A515BFBB4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8796-CD14-4B5B-8960-68023F37DED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66A-8005-4EC4-BD51-AED36E1D4FC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65E-521C-414A-A323-7A9E0C6F9D2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4C7-523A-4E98-8C21-B3BF2E488CE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 1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Žákovská knížka (ŽK) – knížka, do které se zapisují známky, poznámky a jiná sdělení rodičů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ýsek – malé děti ho mají místo žákovské kníž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námky – jsou od 1 – 5, nejlepší je 1 (výborná), nejhorší je 5 (nedostatečná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mácí úkol (DÚ) – zadaná práce na doma, kterou musí žák udělat a mít podepsanou od rodič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známka – pokud se žák chová špatně (zlobí, je drzý, neposlouchá, atd.), dostane od učitele poznám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chvala – za přínos kolektivu, dobrý prospěch, atd. dostávají žáci pochva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ůtka – při opakovaném porušování školního řádu může být udělena důtka (nejprve třídního učitele, pak ředite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mluvenka – při nepřítomnosti je nutné napsat do ŽK, proč žák chybě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ísemka – písemný test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timinutovka nebo pětiminutovka – kratší písemný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ktát – písemné ověření znalostí pravopis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koušení – ústní ověřování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družina – po škole chodí menší děti (na prvním stupni) do družiny, kde si hrají, at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jídelna – zde se žáci stravují, obědy je nutné si kupov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učitel – každá třída má svého učitele, který se o ni stará, řeší organizační i administrativní záležitosti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 – řídí školu, řeší organizační i administrativní záležitosti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svědčení – doklad o prospěchu a chování, žáci ho dostávají po každém polole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schůzky – konají se většinou každé pololetí, rodiče mají možnost konzultovat prospěch a chování svých dě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ázdniny – volno – nechodí se do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ské volno – ředitel vyhlašuje maximálně 5 x za ro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let – organizovaný výjezd mimo škol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ální vzdělávací plán (IVP) – škola, když je potřeba, zpracovává IVP, aby zohlednila odlišné vzdělávací potřeby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труктура образования в Чех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8" descr=""/>
          <p:cNvPicPr/>
          <p:nvPr/>
        </p:nvPicPr>
        <p:blipFill>
          <a:blip r:embed="rId1"/>
          <a:stretch/>
        </p:blipFill>
        <p:spPr>
          <a:xfrm>
            <a:off x="857160" y="2570040"/>
            <a:ext cx="7926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ateřské školy (MŠ)– předškolní vzdělávání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d 3 – 6 let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ápis do MŠ podáním žádosti k předškolnímu vzdělávání v termínu vyhlášení zápis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y nutné k zápisu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plněná žádost k předškolnímu vzdělává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jádření dětského lékař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 o pravidelném očkování dítě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P / pas zákonného zástup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U cizinců jsou potřebná další potvrzení. Informace o nich obdrží zákonný zástupce dítěte od ředitele mateřské ško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ruhy poplatků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 předškolní vzděláván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ravn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Základní škola (ZŠ)- povinná školní docházka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Od 6 – 15 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vinná školní docházka trvá 9 l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první třídy ZŠ  - oficiální zápisy do prvních tříd probíhají v době mezi 15. lednem a 15. únorem kalendářního roku, v němž má dítě zahájit povinnou školní docházku. Jinak je možno zapsat dítě kdykoli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konní zástupci mohou žádat o odklad školní docház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klady nutné k zápisu : rodný list dítěte a pas zákonného zástupce, informace o zdravotním pojiště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vyšších tříd je možný kdykoliv během školního ro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 tomu je dobré doložit vysvědčení z posledního absolvovaného roční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ákladní škola se dělí na dva stupně:  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1. stupeň  je od  1.-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2. stupeň je od  6.- 9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echod z prvního na druhý stupeň základní školy je automatick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ást povinné školní docházky můžou děti absolvovat také na víceletých gymnázi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osmiletá gymnázia dělají žáci přijímací zkoušky po ukončení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šestiletá gymnázia po 7. ročníku základní ško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oučástí přijímacích zkoušek jsou testy z českého jazyka, matematiky a všeobecného přehl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třední ško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d 15 let – končí dle typu ško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y navazují na základní školy a připravují na budoucí povolání, popřípadě na další stu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olba typu školy závisí na prospěchu a zájmovém zaměření žá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ijímací zkoušky vyhlašují konkrétní školy, dle svých požadavků. Žáci posílají přihlášky do prvního kola nejpozději 15. března, v případě přihlášky do oborů vzdělání s talentovou zkouškou do 30. listopadu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a může cizincům u přijímacích zkoušek odpustit test z českého jazyka, popřípadě ho nahradit pohovor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ětšinou je již ke studiu na střední škole vyžadována alespoň základní znalost češti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ruhy středních š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Gymnázium - poskytuje všeobecné vzdělání zakončené maturitní zkouškou a jedná se především o přípravu studentů ke studiu na VŠ nebo VOŠ. Délka studia je většinou 4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á škola - poskytuje úplné střední odborné vzdělání zakončené maturitní zkouškou v technicko-hospodářských, ekonomických, zdravotnických, pedagogických a dalších oborech.  Délka studia činí zpravidla čtyři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é učiliště (SOU) poskytuje střední vzdělání zakončené závěrečnou učňovskou zkouškou. Délka studia jsou dva až tři roky. Absolventi získávají výuční list a jsou kvalifikováni pro výkon dělnických a podobných povolání. Mohou ovšem i pokračovat ve studiu na nástavbách zakončených maturitou</a:t>
            </a:r>
            <a:r>
              <a:rPr b="1" lang="cs-CZ" sz="1400" spc="-1" strike="noStrike">
                <a:solidFill>
                  <a:srgbClr val="ea157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rganizace školního ro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yučování začíná zpravidla v 8 : 00 a končí na prvním stupni nejpozději kolem půl jedné, na druhém stupni mají žáci již odpolední vyučování. Žáci prvního stupně mají většinou možnost navštěvovat družinu až do odpoledních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Školní rok pro všechny typy škol začíná 1. září běžného roku a končí 31. srpna následujícího roku; člení se na období školního vyučování a období školních prázdnin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bdobí školního vyučování  - začíná 1. září a končí 30. června následujícího kalendářního rok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lení se na první a druhé pololetí. První pololetí začíná 1. září a končí 31. ledna následujícího kalendářního roku. Druhé pololetí začíná 1. února a končí 30. června. Za obě pololetí dostávají žáci vysvědčení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rázdniny – období vol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dzimní prázdniny - trvají dva dny a přičleňují se ke státnímu svátku 28. říj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ánoční prázdniny - od 23. prosince do 2. ledna následujícího kalendářního ro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loletní prázdniny - trvají jeden den a připadají na pátek v době od 29. 1. do 4.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Jarní prázdniny - trvají jeden týden a jejich termín stanoví vyhláška podle sídla školy v rozmezí od prvního úplného týdne února do posledního úplného týdne březn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elikonoční prázdniny - připadají na čtvrtek a pátek předcházející Pondělí velikonočním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Hlavní prázdniny -od 1. července do 31. srp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Ze závažných důvodů, zejména organizačních a technických, může ředitel školy vyhlásit pro žáky volné dny, a to maximálně pět v jednom školním ro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Vyšší odborné školy (VOŠ) a Vysoké školy V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maturitní studium,  zvyšování kvalifikac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OŠ trvají většinou 3 roky, studium je zakončeno absolutoriem a udělením titulu diplomovaný specialista (Di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Š mají většinou třístupňovou strukturu – bakalářský ( 3 – 4 roky), navazující magisterský (1 – 3  roky) a doktorský ( 3 roky ) 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soké školy mají jako jediné možnost udělovat akademické tituly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řijímací zkoušky – nutnost doložit ukončené střední vzdělání maturitním vysvědčením, v případě zahraničních zkoušek je nutná nostrifikace vysvědčení. Zkoušky jsou z konkrétních oborů, na které se uchazeč hlás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ýbor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— отлич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hvaliteb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хорош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bř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не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очень плох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Разбираемся в титул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187280" y="1584360"/>
          <a:ext cx="7632720" cy="4898880"/>
        </p:xfrm>
        <a:graphic>
          <a:graphicData uri="http://schemas.openxmlformats.org/drawingml/2006/table">
            <a:tbl>
              <a:tblPr/>
              <a:tblGrid>
                <a:gridCol w="3681720"/>
                <a:gridCol w="3951000"/>
              </a:tblGrid>
              <a:tr h="462456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перед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адемические тит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магис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магист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инженер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пециалист с высшим техническим или экономическим образование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к наз. «Ригорозные»  титу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«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ý doktorá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медиц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естественных на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р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ed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едагог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звания преподавателей ВУ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ц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f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фесс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за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степ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.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D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ндидат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Sc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пломированный специалист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неакадемический титул выпускников Высших специальных школ и консерватор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37Z</dcterms:modified>
  <cp:revision>102</cp:revision>
  <dc:subject/>
  <dc:title>Snímek 1</dc:title>
</cp:coreProperties>
</file>