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530B2-34A8-43CD-BA06-C907F3F36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30766-11CF-4E1F-99F8-E6BCC84A2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10357-3777-4FE3-904C-857E9B174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0090C-F285-4535-9667-DC2D820E7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ECBB1-9F4B-4C11-BBDF-6D992E183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3807F-316C-4E24-9B75-F6E70C29D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6123-1305-4281-A3C3-A01FD83E3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0FCA5-02EA-4542-B1A4-05DFE86B6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537D1-4AB7-42CE-953D-47B0C37C6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F4B37-7391-4F65-8AC5-03773C7AB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3BD5E-1C7C-4ACD-80F6-94CF24E05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9B6A5-D687-4933-A03B-9FC1823FB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907E4-A922-4E5C-9474-E575FD09F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DB1ED-3436-4700-9175-A00E2D905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A93A-99B1-449D-9FD4-C4ED893B0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0AE07-B6A3-40CE-AA0F-FF6E84DD7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A352D-BE5E-4F3D-9A7D-F8A35ABA9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C0E5A-84BF-4734-8B61-C9B2D132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4BF6-1EBB-4303-9AFA-7DAC3F5A8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4C509-F71E-4532-B2D7-1A48CD7A0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24BD1-5A16-46E3-B4DA-2BCD3D632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F76AD-D097-43A5-82A7-343789840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3F0-781C-48CD-823A-DDD98BEB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6E7-C596-4458-8AEC-A4F50A9A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61F-583A-4C39-BC20-5731EF95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9EE-5535-4AEE-BC62-AC66DFB2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216-4C40-40A5-9375-7BF15A3D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342-E243-4AB4-B2F1-5E67206F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C47-C796-43B0-A415-248EED94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7B5-2C28-4D8F-B5BC-9FDE456B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D0B-8E99-4718-BB50-D9E4378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614B-6442-4C58-9921-4C13DB9C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F82-9047-44CD-B69F-163EF5CA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809E-9A79-45D1-96AD-5F77E159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2916-5B2E-4CB5-8FD1-5775CE21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CCE4-DADF-40FB-82E0-419F578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3EB-0FE3-45E2-AF1E-3F3D398D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D71A-A3EE-4B27-85E2-6E3A282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872F-7D02-426E-8CFC-A81B0F67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C333-BC2E-424F-92E5-0A830ED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8478-3E02-46F2-8B9D-17EA6473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974-615F-4356-918A-CAB3125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135-67FF-4206-BCE9-18B2E671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EB7F5-773D-4033-BAC6-9EF1A446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0B58-FB09-4700-B2F0-46D8F1F9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BA6C8-39CD-48B8-B3D0-5ECFC89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D3D5-F5DA-4DEC-95E1-FB2DF518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A047-3328-4B94-BEBE-E2EC2B0F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44634-4A02-4304-97BD-3CFC360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8A1A-E175-4FC5-90DA-7A9A1DE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F69B-C824-49EC-B178-F8FA759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CF2D-1784-44C7-B965-EEC51B82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350-D747-445D-8CB8-43994494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F170-8973-4D4E-9243-869E5013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9343-D594-40FE-8879-C08EEF3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81C87-CA8D-4185-9254-A38622C7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5415-B4B2-435A-B0E2-2841AFAB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14C6-B58C-47D3-B44C-719A4AA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37E6-30D6-4FFF-B691-E80637F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53917-F297-43C0-9A09-2072CBE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DEDE-355D-48F9-854B-111ADC9A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83E7-E2BB-4F75-9779-B4F4D44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278D-3C44-4009-8CF4-7F4B843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6CC-C6A6-4E7C-B26B-CAEA5E6A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7EA76-216A-4552-874E-DF778D2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01A0-2FF9-4E2A-B706-6D7E66E2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61C3-1960-45D3-8E1D-0AFF7CD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F9CD-6363-48FA-BE80-C10573AC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0896-38CC-4EFC-837C-C8725E9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E2FD-7405-46F8-A14C-49FD8381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29667-D670-4CDB-B784-F7C0297A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8E90-F470-47CD-A9BC-1A6803E4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D7DE1-6B6F-4714-AC94-3B44961F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5803-BB87-4A70-92A7-610EF37A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9D3-8C80-4BBC-AC7A-C56AA5F2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FADA7-681E-4A8E-A1D2-407E060B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D91F-B25E-47E5-9DF8-534BE3B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B415-66E7-404D-9C75-6378EBE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74B07-48AF-4DEE-8A7F-FE8DCC8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37A4-9946-49C5-BC5C-B4E774D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0D4B-FE44-45D3-9364-8F30124A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9EE54-0D08-4717-8BE6-BD8171E6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908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933EA-6830-4212-B18C-6C3AF97FE0C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1040" y="0"/>
            <a:ext cx="10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B3E4AC-1262-4E8F-8389-00356E6C16B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1040" y="0"/>
            <a:ext cx="10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4D8836-EEFB-4BE4-B0C2-06F184609BD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77C6AB-8B9A-43F7-B8C0-7C783C168F8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3AF21C-0C0A-434E-901C-B72B9D7EEBC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gov.cz/" TargetMode="External"/><Relationship Id="rId2" Type="http://schemas.openxmlformats.org/officeDocument/2006/relationships/hyperlink" Target="http://portal.gov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fcr.cz/" TargetMode="External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Podnikání v Č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539640" y="179280"/>
            <a:ext cx="8280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list/ výpi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živnostenského rejstříku - Лицензия на ведение предпринимательской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é podnikání - Малое предпринимательств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nostnik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/ частный предприним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rejstřík -  реестр частных предприним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úřad - муниципальный орган по предпринимательской деятельн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nanční úřad - Налоговая инспе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á sprava - Налоговый у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é přiznání - Налоговая дела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 z příjmů - Подоходный н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á evidence - Налоговый у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vidence příjmů - Учет доходов и рас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řehled o příjmech a výdajích - Приходно-расходная ведо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720720" y="0"/>
            <a:ext cx="80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ал общественного управления –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ortal.go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Životni situace ►Podnikatel ►Živnostnic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, контролирующие предпринимательскую деятельность, перечень приведен на Портале общественного управления –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ortal.go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Adresař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 Министерства промышленности и торговли –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po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Podpora podnikani ►Živnostenske podnika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формационный материал для иностранных физических лиц, осуществляющих предпринимательскую деятельность, веб-сайт Министерства промышленности и торговли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po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Podpora podnikání ►Živnostenske podnikani ►Integrace cizinc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 Министерства финансов -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mfcr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1"/>
          <a:stretch/>
        </p:blipFill>
        <p:spPr>
          <a:xfrm>
            <a:off x="1619280" y="685800"/>
            <a:ext cx="617220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619280" y="179280"/>
            <a:ext cx="7020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íčení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Živnostenské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oprávn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jistíme, zda ke své činnosti potřebujeme živnostenské nebo jiné oprávnění. Například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utoři, spisovatelé, herci a hudebníci živnostenské oprávnění nepotřebují -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SVČ bez živnost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statní činnosti vyžadují živnost (volná, v</a:t>
            </a:r>
            <a:br>
              <a:rPr sz="20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1800360" y="268200"/>
            <a:ext cx="6480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Registrace na živnostenském úřa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a začátku podnikání zajdeme v každém případě na kterýkoliv živnostenský úřad a vyplní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Jednotný registrační formulář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ím provedeme najednou všechna potřebná ohlášení a registrace - na zdravotní a sociální pojištění, daň z příjmu a případně další daně (DPH, silniční daň, plátce daně "z mezd",...), a případně ohlásíme živnost. Výpis z rejstříku trestů nepotřebujeme, úřad si vše zjistí sá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1979640" y="720720"/>
            <a:ext cx="6661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dravotní a sociální pojišt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stíme, zda musíme platit zálohy na pojištění. Jestliže máme podnikání ja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 činnost, musíme od počátku podnikání platit měsíčně zálohy na zdravotní pojištění i sociální pojiště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lejší činnost, zdravotní i sociální pojištění doplatíme až po skončení roku po podání daňového přiznání a Přehledu o příjmech a výdajích. Budeme-li mít nízký zisk, sociální pojištění nebudeme muset plat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979640" y="539640"/>
            <a:ext cx="575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900000" y="539640"/>
            <a:ext cx="77407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aňová evidence a další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ěhem roku schováváme doklady a z nich udělám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uď daňovou evidenci (musíme schovávat všechny doklad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ebo evidenci příjmů, budeme-li uplatňovat paušální výdaje (stačí schovávat příjmové doklady a vydané faktur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Pokud jsme se zaregistrovali jako plátci DPH, vedeme také evidenci podle zákona o DPH, a to čtvrtletně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1800360" y="360360"/>
            <a:ext cx="50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1079640" y="900000"/>
            <a:ext cx="7380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skončení roku podáme daňové přiznání k dani z příjmu a Přehledy pojištění a zaplatíme daň z příjmu a pojiště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stliže jsme plátci DPH, během roku plníme všechny povinnosti plátce DPH a podáváme daňové přiznání k DPH po každém čtvrtlet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uplatňujeme výdaje na auto, platíme čtvrtletně zálohy na silniční daň a po konci roku podáme daňové přizná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1260360" y="293760"/>
            <a:ext cx="665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Daňová přiznání a přehledy poji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539640" y="539640"/>
            <a:ext cx="82803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Перед заключением брака жених и невеста заполняют стандартный бланк, который подают в тот орган ЗАГС, в котором намерены провести обряд бракосочетания. Одновременно с заполненным бланком представляются требуемые документы. Церковный брак может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заключен лишь после того, как вступающие в брак предоставят лицу, проводящему бракосочетание, подтверждение о том, что они выполнили все требования закона для заключения действительного бр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Если предоставляемые документы выданы органами иностранных государств, должен быть предоставлен ихзаверенный перевод, документы должны быть снабжены необходимыми заверениями. Орган ЗАГС может освободить жениха и невесту от необходимости заверять документы, если получение данного заверения связано с труднопреодолимым препятств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заключением брака иностранец предоставит органу ЗАГС справку, выданную Полицией Чешской Республики, подтверждающую законность пребывания в Чешской Республике. В день заключения брака данное подтверждение не должно быть старше 7 рабоч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539640" y="0"/>
            <a:ext cx="774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ключение брака и регистрированного партнер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720720" y="303120"/>
            <a:ext cx="809928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nem 1. července 2006 nabyl účinnosti zákon č. 115/2006 Sb., 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gistrovaném partner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o změně některých souvisejících zákonů. Registrované partnerství, (dále je „partnerství“), vzniká projevem vůle dvou osob stejného pohlaví činěným formou souhlasného svobodného a úplné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lášení těchto osob o tom, že spolu vstupují do partnerství. Prohlášení činí osobně před matričním úřadem v kraji, který je podle místa trvalého pobytu alespoň jedné z osob vstupujících do partnerství příslušný k přijetí prohlášení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by, které chtějí vstoupit do partnerství, vyplní před prohlášením předepsaný tiskopis a předloží jej příslušnému matričnímu úřadu. K tiskopisu připojí stanovené dokla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jsou předkládané doklady vystaveny orgány cizích států předkládají se s úředním překladem do českého jazyka a musí být opatřeny potřebnými ověření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ně jako u uzavírání manželství, cizinec, který chce vstoupit do partnerství a který nemá povolen trvalý pobyt na území České republiky, předloží příslušnému matričnímu úřadu před vstupem do partnerství potvrzení vydané Policií České republiky o oprávněnosti pobytu na území České republiky. Toto potvrzení nesmí být ke dni vstupu do partnerství starší 7 pracovních dn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Лицо, которое самостоятельно занимается доходной деятельностью, т.е. предпринимательской или иной хозяйственной деятельностью, называется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лицом, самостоятельно зарабатывающим (osoba samostatně výdělečně činná – OSVČ).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В русскоязычных источниках обычно употребляется название „Индивидуальный/частный предприниматель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720720" y="179280"/>
            <a:ext cx="8099280" cy="68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716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SimSun"/>
              </a:rPr>
              <a:t>Необходимые документ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tazník k uzavření manželstv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klad, kterým je možno prokázat totož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Rodný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klad o právní způsobilosti k uzavření manželství, který nesmí být k datu uzavření manželství starší 6 měsíc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Potvrzení o osobním stavu a pobytu, je-li cizím státem vydáváno; jsou-li tyto údaje součástí předloženého dokladu o právní způsobilosti k uzavření manželství - potvrzení se nepředklá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Úmrtní list zemřelého manžela, jde-li o ovdovělého cizince, tento doklad není třeba předkládat, je-li tato skutečnost uvedena v dokladu o právní způsobilosti k uzavření manželstv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Pravomocný rozsudek o rozvodu manželství, je-li cizinec, který chce uzavřít manželství, rozveden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20720" y="539640"/>
            <a:ext cx="7740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Закон № 455/1991 Сб. законов, «О предпринимательской деятельности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Физическое лицо, постоянно проживающее за пределами ЧР или юридическое лицо с местонахождением за пределами ЧР (иностранное лицо) может заниматься предпринимательской деятельностью в Чешской Республике на тех же условиях и в таком же объеме, как и чешское лицо, если законом «О предпринимательской деятельности» или иным законом не определено ино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Чешским лицом считается физическое лицо, имеющее разрешение на постоянное проживание, лицо, которому было предоставлено убежище и юридическое лицо с местонахождением в Чешской Республ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720720" y="179280"/>
            <a:ext cx="79200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ностранцы, имеющие разрешение на постоянное проживание и лица, которым было предоставлено убежище, в области предпринимательской деятельности имеют такой же статус, как и граждане Ч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ностранцы, не имеющие разрешение на постоянное проживание в ЧР и не являющиеся гражданами стран-членов Европейского Союза, гражданами страны-члена Соглашения о Европейском экономическом сообществе и гражданами Швейцарской конфедерации, для занятий предпринимательской деятельностью должны иметь разрешение на проживание (визу, разрешение на долгосрочное пребывание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79280"/>
            <a:ext cx="809928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ми условиями являютс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остижение возраста 18 лет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еспособн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есудим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фическими условиям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нятия предпринимательской деятельностью является профессиональная или иная компетентность, в соответствии с требованиями закона о предпринимательской деятельности или иных законодательных ак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360360"/>
            <a:ext cx="7559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Типы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latná právní úprava rozeznává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živnosti ohlašovací, u nichž právo provozovat živnost vzniká ve většině případů již ohlášením živnosti živnostenskému úřadu a osvědčuje se vydáním výpisu z živnostenského rejstřík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živnosti koncesované, u nichž je právo podnikat vázáno na souhlasné stanovisko věcně příslušného orgánu státní správy; vzniká udělením koncese a osvědčuje se vydáním výpisu z živnostenského rejstřík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39640" y="179280"/>
            <a:ext cx="828036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 соответствии с действующим законодательством выделяютс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предпринимательская деятельность явочно-нормативная (право занятий предпринимательской деятельностью возникает, в большинстве случаев, после подачи заявления в соответствующий орган по частному предпринимательству и удостоверяется выдачей выписки из реестра частных предпринимателей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предпринимательская деятельность лицензионная, когда для осуществления права заниматься предпринимательской деятельностью необходимо разрешение соответствующего органа государственного управления, такое право возникает с выдачей лицензии и подтверждается выдачей выписки из реестра частных предприним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0000" y="539640"/>
            <a:ext cx="7199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ové přizná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ňové přiznání k dani z příjmů fyzických osob je povinen podat každý, jehož roční příjmy přesáhly 15.000,- Kč. Daňové přiznání se podává na místně příslušném finančním úřadě do 31. 3. příslušného roku nebo do 30. 6. v případě, že formuláře k daňovému přiznání vyplňuje daňový poradce. S dotazy na vaše daňové povinnosti při výkonu živnostenského podnikání se můžete obrátit na finanční úřad v místě výkonu vašeho podniká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900000" y="539640"/>
            <a:ext cx="75596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оговая декла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логовую декларацию на подоходный налог физических лиц обязано подать каждое лицо, суммарный годовой доход которого превысил 15 000 чешских крон. Налоговая декларация подается в местную налоговую инспекцию до 31 марта соответствующего года или до 30 июня в случае, если налоговую декларацию заполняет лицензированный бухгалтер. С вопросами относительно налогообложения Вы можете обратиться в налоговую инспекцию по месту занятия предпринимательской деятельност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45Z</dcterms:modified>
  <cp:revision>88</cp:revision>
  <dc:subject/>
  <dc:title>Snímek 1</dc:title>
</cp:coreProperties>
</file>