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91B5BE-E728-445E-B18F-BFEC5C5DE3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9FD35-3D25-4D6D-9C84-CF8FD1DFBB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6B00B-6774-4D49-A9A5-C55F66ACC0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DE1B6-84A5-47E3-8055-524693901E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112EB-C1B9-4773-8F5F-1A9032B3CF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ACECE-5E68-4E31-B6EB-520DD92B25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EC7420-7320-49AD-BC57-2A4A35933A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076C6-7DD9-403D-8CE5-CCDC455DFE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9356F-3768-432C-B348-FFD93D14DB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3383C-369F-417F-9ED0-A464D069AF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87F5B-C472-4FB7-812E-6C2434654A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A199A-B1C8-474E-AA89-94010ACFD7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198077-63B1-459C-9725-C678506F27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7A5D0-7FBA-45BC-A916-E4C5700831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650566-FDCE-4822-8B99-BC0448FE88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3FC61-448E-49CB-948D-B448F1F9C1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EFDA6-3A9D-44F4-8D99-E012708CF9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49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F888-1690-4A64-A97F-C47733506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44DF-C538-48AC-9B2D-4D68C084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CCA2-3DB9-4523-82EA-DCDCD6B26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6D04-1061-45DC-A0D6-D3FE6B6B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4B07-4677-4E70-AF82-9DA34F75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1D08-09DB-4298-830B-3961D9CA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6671-E6FD-4DDE-92B9-BB69D4E2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9783-34F9-4329-95ED-59159C849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8013-3FF6-49C0-8CA0-5141A9C0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F7AF-2398-4848-88C0-A0585011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4208-107F-4A35-8456-FDEC67B6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031B-FF41-4244-85B8-78CAF1E3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0584-14B2-4A0A-BF05-F5840D6E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A2FC-C0DE-42E9-8D9E-9DD14733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62A7-6548-4E95-ACB6-C84A6ED6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D3BE-259D-47B5-B71A-CE1B766F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C602-2232-4F5B-8231-F69C26FE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56C2-9B5D-4384-AA37-297B6AE8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CC52-E9A8-4179-97DF-7A7CFC914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853E-0E4F-478F-A17F-748F3516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F92A-640A-4326-AB25-50500AA60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1FC55-53AF-4293-9BC2-59883E5D7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6DED9-9B4C-42BC-A16F-B8B2FB25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15BE3-7F5F-4CAD-B975-9D9DFD04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551F0-51E6-4E00-9AB7-4BBE0500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F6F19-F3BE-4A36-B3C0-78B157EE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A6319-43C2-4F1B-B913-86E30208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4A674-9845-45E1-88C0-380BCD09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50A6D-D701-4E65-AC5B-6FA14869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05226-B9E8-4A1A-82B1-A4B89A9F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36F4-13B3-40FC-B7B1-373C0CFC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45B5A-6826-4FF2-AF8C-A2D85427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FA213-BF8A-460E-9AB6-5A2D65D23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ABA99-67A4-4B74-A165-BBF516AA9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7ED26-E680-49F4-A17B-21150983C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32F19-AEBF-4B91-80A8-12B5FB62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6AA57-F899-47A6-8A6F-DD9BE7B9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F4CDE-D71D-4129-B56C-3B30CDC9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A925C-9AB2-4C53-9B8F-95A8C36C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1240D-DB8C-418C-AE62-464894A3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7CC2F-1488-4E24-AF41-0B64A63E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2AEF-4707-4D06-9C62-63D05F26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53195-0E40-48C5-871D-E8F60DDE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5F107-9B12-487F-BF2D-0B64094E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ECB4C-A5A1-4468-9EE1-67BECF34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94CAC-78F0-4D6E-97B1-743357401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7BC80-8CC6-4C42-9D05-00E714BFE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F93C1-B78F-45FF-B90B-6C0535143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11E11-0D90-47EE-8889-53CBCC80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4883A-BA1C-44FF-88AD-83FFD675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8ED1B-2122-41F7-8CF3-EAD8F48E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2FFD7-B179-4B58-8AE0-B327CBCF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E08A-1EA0-4858-AE2E-77187383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62089-A2A4-4B51-9EAA-436FC1AE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A1446-875B-4054-BA20-3D63D0CB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5B377-3BB2-4C26-A88D-8D883AA6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C4564-7F9B-42E1-9061-2158391B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5B093-FB0D-404B-9AA8-466D2858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04A95-8BDF-427E-92DF-923A98906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5FCE0-C190-4F78-A1D6-B41302B04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72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.9.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79680"/>
            <a:ext cx="288936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nto projekt je realizován v rámci veřejné zakázky MPS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3280"/>
            <a:ext cx="21272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CDA50-9BF3-4C10-8AF5-8EC3C2758BD7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1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 flipH="1">
            <a:off x="8778600" y="1440"/>
            <a:ext cx="14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H="1">
            <a:off x="468360" y="144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 flipH="1">
            <a:off x="849240" y="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13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5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" descr="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10440"/>
            <a:ext cx="288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919CD08-DB3E-40FC-ACB1-B1952E11AF02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1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8"/>
          <p:cNvSpPr/>
          <p:nvPr/>
        </p:nvSpPr>
        <p:spPr>
          <a:xfrm flipH="1">
            <a:off x="8778600" y="1440"/>
            <a:ext cx="14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10"/>
          <p:cNvSpPr/>
          <p:nvPr/>
        </p:nvSpPr>
        <p:spPr>
          <a:xfrm flipH="1">
            <a:off x="468360" y="144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2"/>
          <p:cNvSpPr/>
          <p:nvPr/>
        </p:nvSpPr>
        <p:spPr>
          <a:xfrm flipH="1">
            <a:off x="849240" y="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13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4" descr="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5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6" descr="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7" descr="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10440"/>
            <a:ext cx="288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780E40C-27A0-432D-80C2-DB18E475CF5A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7"/>
          <p:cNvSpPr/>
          <p:nvPr/>
        </p:nvSpPr>
        <p:spPr>
          <a:xfrm flipH="1">
            <a:off x="8778600" y="1440"/>
            <a:ext cx="14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9"/>
          <p:cNvSpPr/>
          <p:nvPr/>
        </p:nvSpPr>
        <p:spPr>
          <a:xfrm flipH="1">
            <a:off x="468360" y="144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10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3" descr="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10440"/>
            <a:ext cx="288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C517221-87CA-4299-B5A0-BC899119615A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1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7"/>
          <p:cNvSpPr/>
          <p:nvPr/>
        </p:nvSpPr>
        <p:spPr>
          <a:xfrm flipH="1">
            <a:off x="8778600" y="1440"/>
            <a:ext cx="14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9"/>
          <p:cNvSpPr/>
          <p:nvPr/>
        </p:nvSpPr>
        <p:spPr>
          <a:xfrm flipH="1">
            <a:off x="468360" y="144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10" descr="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2" descr="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3" descr="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4" descr="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10440"/>
            <a:ext cx="288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8B0833A-18F6-4361-ABE7-0A63C1795D0C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AutoShape 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7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11" descr="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2" descr="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3" descr="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4" descr="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5" descr="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ortal.mpsv.cz/sz" TargetMode="External"/><Relationship Id="rId2" Type="http://schemas.openxmlformats.org/officeDocument/2006/relationships/hyperlink" Target="http://portal.mpsv.cz/" TargetMode="External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1"/>
          <p:cNvSpPr/>
          <p:nvPr/>
        </p:nvSpPr>
        <p:spPr>
          <a:xfrm>
            <a:off x="2928960" y="3886200"/>
            <a:ext cx="5857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2"/>
          <p:cNvSpPr/>
          <p:nvPr/>
        </p:nvSpPr>
        <p:spPr>
          <a:xfrm>
            <a:off x="3060720" y="3959280"/>
            <a:ext cx="5580000" cy="18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Zaměstn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Трудоустрой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1"/>
          <p:cNvSpPr/>
          <p:nvPr/>
        </p:nvSpPr>
        <p:spPr>
          <a:xfrm>
            <a:off x="539640" y="179280"/>
            <a:ext cx="77407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Иностранец, работающий без разрешения на трудоустройство или выполняющий работу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противоречии с выданным разрешением на трудоустройство, совершает правонарушение,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может быть наказан штрафом в размере до 10 000 чешских кро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Работодатель (речь может идти как о юридическом лице, так и о физическом лиц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занимающемся предпринимательской деятельностью), предоставляющий иностранц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нелегальную работу, совершает административное правонарушение, и может быть наказ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штрафом до 5 000 000 чешских кро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1"/>
          <p:cNvSpPr/>
          <p:nvPr/>
        </p:nvSpPr>
        <p:spPr>
          <a:xfrm>
            <a:off x="541440" y="0"/>
            <a:ext cx="845820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сылки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ю о трудоустройстве иностранцев в ЧР можно получить на портале Министерства труда и социального обеспечения: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portal.mpsv.cz/sz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► Zahranični zaměstnanos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сок центров занятости: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portal.mpsv.cz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►Zaměstnanost ►Informace z uřadů prac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1"/>
          <p:cNvSpPr/>
          <p:nvPr/>
        </p:nvSpPr>
        <p:spPr>
          <a:xfrm>
            <a:off x="720720" y="539640"/>
            <a:ext cx="792000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racovní pomě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acovní poměr je v podmínkách ČR nejtypičtějším a nejčastějším pracovněprávním vztahem. Jeho obsah tvoří vzájemná práva a povinnosti zaměstnance a zaměstnavatel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acovní poměr se v ČR zakládá zpravidla pracovní smlouvou. Pracovní poměr se sjednává na dobu neurčitou nebo na dobu určitou. V pracovní smlouvě lze také sjednat zkušební dobu, která činí tři měsíce, poku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ebyla dohodnuta zkušební doba kratší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1"/>
          <p:cNvSpPr/>
          <p:nvPr/>
        </p:nvSpPr>
        <p:spPr>
          <a:xfrm>
            <a:off x="539640" y="539640"/>
            <a:ext cx="8099640" cy="49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Трудовые отнош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В ЧР трудовые отношения являются наиболее типичными и частыми трудовыми правоотношениями и включают ряд взаимных прав и обязанностей работника и работодате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Как правило, в ЧР трудовые отношения возникают на основании трудового догово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Трудовой договор заключается на неопределенный срок или на определенный срок (срочный трудовой договор). В трудовом договоре может быть оговорен испытательный срок продолжительностью три месяца, если не была достигнута договоренность о более коротком испытательном сро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4302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1"/>
          <p:cNvSpPr/>
          <p:nvPr/>
        </p:nvSpPr>
        <p:spPr>
          <a:xfrm>
            <a:off x="720720" y="900000"/>
            <a:ext cx="73803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racovní smlouv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usí splňovat určité formální a obsahové náležitosti. Především musí být uzavřena v písemné formě. V pracovní smlouvě je zaměstnavatel povinen se zaměstnancem dohodnout tzv. podstatné náležitosti, kterými jsou druh práce, místo výkonu práce a den nástupu do práce, bez nichž by smlouva nebyla platn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1"/>
          <p:cNvSpPr/>
          <p:nvPr/>
        </p:nvSpPr>
        <p:spPr>
          <a:xfrm>
            <a:off x="720720" y="268200"/>
            <a:ext cx="755964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лжен иметь определенный вид, что касается его формы и содерж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вую очередь, договор должен быть заключен в письменной форме. Трудовой договор должен содержать договоренность работодателя и работника по всем существенным вопросам, таким как предмет работы, место работы и дата поступления на работу, без указания которых трудовой договор является недействитель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1"/>
          <p:cNvSpPr/>
          <p:nvPr/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2"/>
          <p:cNvSpPr/>
          <p:nvPr/>
        </p:nvSpPr>
        <p:spPr>
          <a:xfrm>
            <a:off x="826920" y="1628640"/>
            <a:ext cx="7931160" cy="45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3"/>
          <p:cNvSpPr/>
          <p:nvPr/>
        </p:nvSpPr>
        <p:spPr>
          <a:xfrm>
            <a:off x="1079640" y="360360"/>
            <a:ext cx="7394400" cy="58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Общая информ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Условия трудоустройства определены законом № 435/2004 Сб., «О трудоустройстве», в действующей редакци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Предпосылки трудоустройств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- иностранец имеет действующее разрешение на трудоустройство и действительную визу, выданную с целью трудоустройства или разрешение на долгосрочное проживание с целью трудоустройства, ил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- имеет зеленую карту (новый вид разрешения на долгосрочное проживание с целью трудоустройства, выдаваемый в особых случаях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541440" y="1571760"/>
            <a:ext cx="8216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720720" y="0"/>
            <a:ext cx="7199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539640" y="0"/>
            <a:ext cx="8280360" cy="54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Разрешение на трудоустройств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Трудоустройство иностранца в ЧР возможно при наличии действительного разрешения на трудоустройство и действительного разрешения на проживание в ЧР или при наличии зеленой кар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Исключения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иностранцы с разрешением на постоянное проживани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лица, которым было предоставлено убежищ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иностранцы с разрешением на долгосрочное проживание с целью объединения семьи с иностранцем, которому было выдано разрешение на постоянное проживание или предоставлено убежищ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иностранцы, которые в Чешской Республике обучаются по дневной или иной очной форме обуч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иностранцы, которые осуществляют систематическую педагогическую деятельность как педагогические или академические сотрудники высшего учебного заведени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лица, занимающиеся наукой и научно-исследовательской деятельность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1"/>
          <p:cNvSpPr/>
          <p:nvPr/>
        </p:nvSpPr>
        <p:spPr>
          <a:xfrm>
            <a:off x="720720" y="162000"/>
            <a:ext cx="7380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141414"/>
                </a:solidFill>
                <a:uFillTx/>
                <a:latin typeface="Arial"/>
              </a:rPr>
              <a:t>Центры занятости</a:t>
            </a:r>
            <a:r>
              <a:rPr b="0" lang="ru-RU" sz="2200" spc="-1" strike="noStrike" u="sng">
                <a:solidFill>
                  <a:srgbClr val="141414"/>
                </a:solidFill>
                <a:uFillTx/>
                <a:latin typeface="Arial"/>
              </a:rPr>
              <a:t> /</a:t>
            </a:r>
            <a:r>
              <a:rPr b="1" lang="ru-RU" sz="2200" spc="-1" strike="noStrike" u="sng">
                <a:solidFill>
                  <a:srgbClr val="141414"/>
                </a:solidFill>
                <a:uFillTx/>
                <a:latin typeface="Arial"/>
              </a:rPr>
              <a:t> úřad prá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Pro vydání povolení k zaměstnání je příslušný </a:t>
            </a:r>
            <a:r>
              <a:rPr b="1" lang="ru-RU" sz="2200" spc="-1" strike="noStrike">
                <a:solidFill>
                  <a:srgbClr val="141414"/>
                </a:solidFill>
                <a:latin typeface="Arial"/>
              </a:rPr>
              <a:t>úřad práce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, v jehož obvodu bude cizinec zaměstnání vykonávat. Cizinec může být při podávání žádosti zastoupen zaměstnavatelem nebo jiným zástupcem, a to na základě plné moci. Podání žádosti o vydání povolení k zaměstnání podléhá správnímu poplatku ve výši 500 Kč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1"/>
          <p:cNvSpPr/>
          <p:nvPr/>
        </p:nvSpPr>
        <p:spPr>
          <a:xfrm>
            <a:off x="720720" y="120600"/>
            <a:ext cx="8099280" cy="61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Органом, компетентным к выдаче разрешения на трудоустройство, является соответствующий </a:t>
            </a:r>
            <a:r>
              <a:rPr b="1" lang="ru-RU" sz="2200" spc="-1" strike="noStrike">
                <a:solidFill>
                  <a:srgbClr val="141414"/>
                </a:solidFill>
                <a:latin typeface="Arial"/>
              </a:rPr>
              <a:t>центр занятости 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по месту трудоустройства иностранц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При подаче заявления интересы иностранца по доверенности может представлять работодатель или иное доверенное лицо. За подачу заявления о выдаче разрешения на трудоустройство оплачивается административный сбор 500 чешских крон</a:t>
            </a:r>
            <a:r>
              <a:rPr b="0" lang="ru-RU" sz="2200" spc="-1" strike="noStrike" u="sng">
                <a:solidFill>
                  <a:srgbClr val="141414"/>
                </a:solidFill>
                <a:uFillTx/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1"/>
          <p:cNvSpPr/>
          <p:nvPr/>
        </p:nvSpPr>
        <p:spPr>
          <a:xfrm>
            <a:off x="720720" y="360360"/>
            <a:ext cx="719928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volení k zaměstnání na území ČR se vydává na dobu určitou, nejdéle však na dobu 2 let. Poku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jde v době před ukončením platnosti povolení k zaměstnání ke změně některé z uvedený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kutečností, je cizinec povinen požádat místně příslušný úřad práce o vydání nového povolení 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kud pracovní poměr (dohoda o pracovní činnosti, dohoda o provedení práce) skončí dříve, vyprší i platnost povolení k pobytu za účelem zaměstnán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1"/>
          <p:cNvSpPr/>
          <p:nvPr/>
        </p:nvSpPr>
        <p:spPr>
          <a:xfrm>
            <a:off x="900000" y="539640"/>
            <a:ext cx="755964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Разрешение на трудоустройство в ЧР выдается на определенный срок, не превышающий 2 лет. Если до истечения срока действительности разрешения на трудоустройство произойдут какие-либо изменения, иностранец обязан подать соответствующему центру занятости заявление о выдаче нового разрешения на трудоустрой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Если трудовые отношения (договор о трудовой деятельности, договор о выполнении работ) будут прекращены раньше срока, прекращается и действительность разрешения на проживание, выданного с целью трудоустрой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1"/>
          <p:cNvSpPr/>
          <p:nvPr/>
        </p:nvSpPr>
        <p:spPr>
          <a:xfrm>
            <a:off x="539640" y="179280"/>
            <a:ext cx="828036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Úřad práce může s ohledem na situaci na trhu práce na žádost cizince povolení k zaměstnání prodloužit, a to opakovaně, vždy však nejdéle na dobu 2 let. O prodloužení povolení k zaměstnání je třeba požádat příslušný úřad práce nejpozději 30 dnů před uplynutím doby platnosti stávajícího povolení. Podmínkou prodloužení povolení k zaměstnání je výkon stejné práce u stejného zaměstnavatele a ve stejném místě výkonu práce. Žádost o prodloužení povolení k zaměstnání obsahuje stejné náležitosti jako žádost o povolení k zaměstnání. K žádosti se přikládá pouze vyjádřenízaměstnavatele, že cizince i nadále zaměstná. S prodlouženým povolením k zaměstnání na území ČR je třeba se dostavit na místně příslušnou cizineckou policii a podat žádost o prodloužení doby pobytu u víza k pobytu nad 90 dnů za účelem zaměstnání nebo podat žádost o povolení k dlouhodobému pobytu za účelem zaměstnání či o jeho prodloužení. Tuto žádost je nutné podat nejdříve 120 dnů 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ejpozději 14 dnů před uplynutím doby pobytu na vízum nad 90 dnů resp. povolení k dlouhodobému pobytu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1"/>
          <p:cNvSpPr/>
          <p:nvPr/>
        </p:nvSpPr>
        <p:spPr>
          <a:xfrm>
            <a:off x="360360" y="0"/>
            <a:ext cx="864072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141414"/>
                </a:solidFill>
                <a:latin typeface="Arial"/>
              </a:rPr>
              <a:t>Центр занятости, с учетом ситуации на рынке труда, по заявлению иностранца може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длить срок действия разрешения на трудоустройство, причем повторно, но не более чем на 2 года. Заявление о продлении разрешения на трудоустройство необходимо подать в центр занятости не позже, чем за 30 дней до истечения действительности имеющегося разрешения. Условием продления разрешения на трудоустройство является выполнение той же работы у того же работодателя, по тому же месту работы. К заявлению о продлении разрешения прилагаются те же документы, как и при подаче заявления о выдаче разрешения на трудоустройство, дополнительно предоставляется лишь подтвержд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ботодателя о том, что иностранец по-прежнему находится в трудовых отношениях с данным работодателем. Продленное разрешением необходимо предъявить в соответствующее отделение Полиции по делам иностранцев и подать заявление о продлении срока проживания, в случае пребывания по визе на проживание на срок свыше 90 дней с целью трудоустройства, или подать заявление о выдаче разрешения на долгосрочное проживание с целью трудоустройства или о продлении разрешения. Данное заявление нужно подать не раньше 120 дней и не позже 14 дней до истечения срока действия визы на проживание на срок более 90 дней или разрешения на долгосрочное прожив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6:02:17Z</dcterms:modified>
  <cp:revision>88</cp:revision>
  <dc:subject/>
  <dc:title>Snímek 1</dc:title>
</cp:coreProperties>
</file>