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F0E-A0C7-42BB-ACA5-9B2F3F79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39D-4ACA-418B-864E-A27C0FA3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34A-109B-4981-BA27-9E94BA90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73C-9039-4697-AB58-81E500B6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214-685A-4707-B0AF-5DF7F487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C23-E247-42F7-A666-8626E307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771-7BE8-4411-8CA9-40964646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42B5-20CC-426F-8E92-395C03DE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BB23-F78D-46BE-9350-74937CD8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29EB-3222-4958-B3E5-8346201C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D567-97EF-4924-9C4F-E4D7CAB7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D856-551A-4725-B4BB-10872B7D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C447-01AF-4609-948B-B393C8B3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6381-8252-4058-8881-02034D92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BE3C-763B-4852-91B9-92AF3564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3BE8-8E55-4A24-964A-D945BD48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E5A7-D957-41AE-9822-4AC30606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D798-AF00-4CBB-B8CF-96F1BCBD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4436-5442-4F68-8E08-55494389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4C0-45EC-40B0-B317-721E2C96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2CF0-77C2-4542-882C-E2C05D73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D9BA-9942-4BC5-8380-CBC7B557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A2FF7-A188-4465-AEA5-A06BD86D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E8D6-1986-49EC-B8DE-D32FF540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704CE-C480-4751-967B-D58DBEA9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CDD9-3D7E-431A-99E2-B9701F3A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3353D-DA19-4C79-AC21-24272949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7BED7-DF17-44F5-8DBC-1D4966FF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96DCD-AE5F-448F-82DB-E302F00C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D657-7CF7-4AEF-80B5-C91EE015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676-55AD-4FA4-B0AC-FE742AC8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C8547-00CF-4308-8ECA-C2D4EEF9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9162-A383-4C72-90FA-631100D9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B7989-B2E6-47CA-AEAE-2420C89E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EDC8C-31B8-4C86-A05E-11766C45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3C669-D69D-4BC6-B435-3727A215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C365A-B84B-4937-9A07-4199B9F7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50053-1811-4E5E-ABBB-BAC652E3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486E4-1383-4D23-BB3A-E5A71727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1A898-07BF-45E3-9943-84A80C17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B8E0B-FC76-435B-BB0D-1824748A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241-C3D5-4A55-90F3-B789BC94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11FFD-2A29-4F1D-B904-F40FF8B9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14DF7-80F9-4225-9FC7-507D452D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D1948-F5EF-4CC7-80E3-7CE5C660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FEB9F-CCE1-43D3-81D2-CED6F0CD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B34B3-4899-4A86-9F42-F63F209A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5678D-1007-497E-9B2D-F8D8928C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03146-F7C1-44C5-A868-679E66C2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F03F9-69E2-4F37-AD84-9CEE8A17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3E600-3487-4C66-97BD-EE31712A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89950-B67F-4F7C-B333-C56B1CE8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7ED-8324-45AE-973C-F5F315CE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8F64B-390B-4426-AC5C-B734C5EB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17B73-74D6-45D2-82F2-637DAD72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DBF0E-F72F-426D-A433-B4585487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0E0E2-626C-44E8-8F37-69665C2D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CBE58-5E18-448C-A8B2-510161DC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F5DF7-CA05-4F27-AC5E-36455032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D0049-9FA5-47F8-AAA1-752AC187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0BDC-E43E-4E12-897E-74644DBE748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9F7E-80EA-46BA-AD89-0C0A6E8D72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6BDE-62A8-4916-82D2-A25156F9D431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839B-61F8-4FA7-88F2-A7A792F0DF4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D86B-EBB6-41F2-97E0-4BDF794E7FC7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D1C3-A89B-43E2-8A25-7671080C4C0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8BBA-B354-4D34-9366-A5CAF0DAEC8A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4D6E-1D61-46D6-B306-B254AE36D39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2698-B04D-4906-A194-7258DBAA91CD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4F71-4C74-43AF-878E-4ECE855CD7D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авонаруш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Verdana"/>
              </a:rPr>
              <a:t>Институ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Ministerstvo spravedlnosti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Министерство юсти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átní zastupitelství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Прокурату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átní polici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государственная поли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becní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olici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муниципальная поли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Městská polici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городская поли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Dopravní polici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ГИБД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FC0A-2B97-47C6-9FC3-F352A083C12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Verdana"/>
              </a:rPr>
              <a:t>Су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becné soudy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Суды общей юрисдик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ejvyšší sou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Верхов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ый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с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ejvyšší správní sou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Верховного административ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ый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с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rchní sou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высший с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rajský sou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областной с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kresní sou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районный с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oudnictví civilní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гражданское правосуд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oudnictví obchodní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торговое правосуд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oudnictví rodinné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емейное правосуд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oudnictví dědické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наследственное правосуд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oudnictví trestní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уголовное правосуд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oudnictví správní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административное правосуд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7E96-E216-4C41-B1C2-F3393F1DD72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Виды правонаруш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28800" y="1628280"/>
            <a:ext cx="78580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řestupe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правонаруш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rávní delikt (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дминистративное правонарушение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rávní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úřad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административные орга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r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ř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ízení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административное правосуд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Trestný čin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уголовное правонарушение (преступл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estní  zákoník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- Уголовный кодек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e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ř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e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 - уголовное правосуд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ysl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ý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e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ý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мышленное правонаруш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dbalo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e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ý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вонарушение по неосторожнос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7F75-1E09-462A-AA85-09D035942C4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Verdana"/>
              </a:rPr>
              <a:t>Виды преступ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loč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řeč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Kráde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dcize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Zpronevě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abov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up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Vraž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1EB8-3AEF-46B3-9958-7B55F87E9CD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Действующие л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00000" y="1557000"/>
            <a:ext cx="78580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Strážní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hájce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átní zástupce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viněn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dezřel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žalovan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dsouzen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chat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ločinec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škozen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znamovatel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vědek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9CFC-BA23-4D66-8527-1BC0EB0A133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Verdana"/>
              </a:rPr>
              <a:t>Са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adržen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ajištěn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zba (vzetí do vazby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st odnětí svobody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pomenutí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ku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ákaz  činnosti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padnutí  věc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4F7A-F7E7-4AA9-B8BE-3A54F85D867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Транспортные правонару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Dopravní polici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Botičk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pravní nehod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Bodový systém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dtah vozidl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Bloková pokuta (BP) - pokuta v blokovém řízení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70F8-1959-45EF-94BA-C8A1D84F623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онару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2:05Z</dcterms:modified>
  <cp:revision>95</cp:revision>
  <dc:subject/>
  <dc:title>Snímek 1</dc:title>
</cp:coreProperties>
</file>