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3A02-8E42-4A32-8DA8-5492332419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6E45-8DB3-4BB3-A7F8-77C2F762CE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FDBC-1372-4DF3-99BA-5261D28DC7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434C-DE92-4AAD-A1E5-FF8FE3E60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4640-AD00-4B82-AC0C-510C8E5D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DDF4-EFE9-4490-880A-984B16877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9159-B401-4D9C-8E9A-20A141AA8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39F4-72B6-4D88-8F27-177EBC46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6670-BF39-49C4-9043-1F46C94D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339C-89AC-4EF5-956D-1FB3DB55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5163-E1B7-43BC-B204-203B28BE0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7046-46D3-41F2-AA44-81BD222C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73E3-38D8-4A83-BEAC-0F001EAA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41BD3-AB01-48DE-A885-9A50ACA8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0165-4C13-4E1E-B795-1D5139AD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9CF9-849D-4220-98DA-3EE954F3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F6FA-2620-4F06-B066-4CBA1EE3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089E-E73E-46E3-AA46-07328263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9FE8-6630-407E-B51C-CFDB6D5C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426E-B621-4B4D-A601-D1B2C9F8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F9B2-FBAE-4BC6-AF2E-2406BABC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4C27-5173-4AD9-A5DF-3AC8588A9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D18A-39F4-4E1E-ACE0-0A082352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76FD-BA97-4068-B4AB-1B955FF08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701B1-B69C-4AF6-B812-369BA3988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2D121-B2C3-4BC3-A115-6C8961BB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ED82E-22BF-4058-BC9D-0BFBAC6D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58397-30E9-442C-9078-BBF09E9A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EA15E-16BA-410A-A941-EDA667CB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6B017-0B60-4192-A732-D806A6AE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BC924-451E-4243-832F-8D6E3C35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28BA6-2175-403E-99F0-AC829775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603A4-7F54-4529-92DF-BAA80D9E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6B42-0865-4A30-B137-5BD590C0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48E7D-3240-4EE1-97E6-CB15B14E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F7ACA-D8F8-4633-9C1A-2EC21ACDD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3B6A9-B7E7-4F05-B825-9289FAE66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969EF-4E30-4763-8202-9FBF60A5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8E037-1AF9-4BB3-BBC3-3F69DAF0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78350-FB1A-40C7-89BC-C110FF0E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E4BCE-35CB-4824-9711-B12DC18F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4E7C2-50C9-40CE-810A-47D04F63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D3372-4660-4AD9-A654-EADB295B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1CAB1-5598-4F22-B6EF-5174A77D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204F-E7F7-4523-BA17-7ADDEC5A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EBA9E-C03C-43A3-8B8E-9689EAD3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AEAAE-C930-4A25-A8B2-85CF98D8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50949-0CC2-4346-94B5-E7A0B23C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95742-2662-4F65-8550-7441DC417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16E5A-7E58-4A37-A0BE-9CFBB25B8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55A47-8EE9-403D-8D6F-D85BAFA54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AAB04-3335-4541-99F1-4801528E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9609F-76BE-4263-B56E-5F603EDE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27F20-C3D1-47D7-9DA5-288F938C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979AF-0D18-4437-84A6-FDD3E023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F333-F083-49F7-B46F-524C370A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701E8-2FA9-4A97-A7F5-01373C60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3CC6B-273E-4BB1-878B-8DDE10E2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EA49E-5A07-4AAA-AC2F-4EC12704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DB4B0-7D16-41F9-9318-2DB2F740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B7BAD-B736-4FCD-B5E7-8D08EF9D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FD217-73C1-4469-BC78-B1F4D1615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B1118-C313-4093-83E8-093A933D3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BD67-5723-4223-9287-7E11A0D221D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96DF-314B-4320-A87D-F48B063E149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logo_meta_1_tmavší_FIN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19" descr="logoMPSV-c-sm.jpg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kitka_meta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kitka_meta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logo_meta_1_tmavší_FIN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9" descr="logoMPSV-c-sm.jpg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33D8-07E4-4343-9008-01BD8E013C22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46F2-86C9-4796-A8EE-26EE70FA2449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76FA-1894-4CB1-8555-F8A2CD6671E0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475F-5CBF-457F-96BD-59C512C49678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kitka_meta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Obrázek 18" descr="logoMPSV-c-sm.jpg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D41C-262F-4DC4-AA4D-E79A9939ECF6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6EF8-5807-4129-9539-C800A58B33C4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3" descr="logo_meta_1_tmavší_FIN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kitka_meta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kitka_meta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kitka_meta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Obrázek 19" descr="logoMPSV-c-sm.jpg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B309-7531-4F88-860D-25329F54FD6F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2482-4A69-4870-9963-ABF63C50A98C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2928960" y="3886200"/>
            <a:ext cx="58579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lumočnická nota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itka Cvejnová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Ukázka symbolů slo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acuje – prac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acoval – prac-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bude pracovat – xb-pra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bude pracovat – b-pra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pracuje – xprac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onkrétní cviče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826560" y="1628640"/>
            <a:ext cx="7931160" cy="45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ěkuji Vám za pozorno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1042560" y="624960"/>
            <a:ext cx="7715160" cy="51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Zástupný symbol pro zápatí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1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541440" y="1571760"/>
            <a:ext cx="8216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Proč si dělat poznámk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elze spoléhat na paměť, brzká únava pamě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Lepší soustředění na obsah sdělení, protože zapisujeme čísla, jména, obra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ení nutné tolik přerušovat tlumočení, umožňuje klientovi se lépe vyjádř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Umožňuje sdělovat čísla, jména a další fakta ve stejném pořadí jako u výpověd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Umožňuje ověřit pravdivost výpověd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Co mají obsahovat poznámk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857160" y="1571400"/>
            <a:ext cx="79264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ždy čísl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ždy da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ždy jmén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olitelně fakta, popisy a detailní informace, které Vaši paměť zatěžuj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Příkla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857160" y="1571400"/>
            <a:ext cx="79264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Verdana"/>
              </a:rPr>
              <a:t>V roce 1999 245 členů mé skupiny odjelo do pěti různých zemí. Většině z nich bylo mezi 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Verdana"/>
              </a:rPr>
              <a:t>a 25 lety, i když mezi nimi bylo i zhruba třicet sedmdesátníků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99 – 5 z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245 --------&gt; 20-25r &lt; (30=70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Ideální nota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857160" y="1571400"/>
            <a:ext cx="79264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utnost si vybudovat vlastní systé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známe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zor nepoužívá se těsnopis, ani jiná písma podobného typ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Jiný příklad nota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857160" y="1571400"/>
            <a:ext cx="79264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ČAS, MÍSTO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odatečná informa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DMĚ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djektivu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LOVESO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odatečná informa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EDMĚ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djektivum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Ukázka nota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 začátku roku 2007 jsem se přestěhoval do hlavního města, kde jsem žil potom dva roky v malém bytě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07  já          hl. m.   2r m. byt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Šipka doprava 5"/>
          <p:cNvSpPr/>
          <p:nvPr/>
        </p:nvSpPr>
        <p:spPr>
          <a:xfrm>
            <a:off x="2700360" y="335772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Diagonální postup shora dol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-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-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yšlenky oddělit čarou, věty vykřičník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ůležité můžeme podtrhnou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dškrtáváme odtlumočen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ysoká konsekutiva až 10 minu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92000" y="33300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Ukázka symbol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L = lid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nz = peníz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l = politik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lc  = polic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H2O = voda, vod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zí-vz = mezinárodní vztah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nz-b = bankovní účet v b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l-s-o= politická strana opoz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áce s asociacem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3:16Z</dcterms:modified>
  <cp:revision>111</cp:revision>
  <dc:subject/>
  <dc:title>Snímek 1</dc:title>
</cp:coreProperties>
</file>