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BEF2-769B-44F3-84AF-368587896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1E40-B80F-47F2-9D39-E424991DF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E92-5065-41D6-A6B2-AC953693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AEE-75EC-4C1B-B2EB-0C60B5C9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8E1-131F-4FCC-BA52-DE35286C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26E-F3A9-4924-924C-CC6182CE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613-69B6-4E52-A299-893E9ED1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4FB-C922-46E7-9C22-E0EAEB83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42C-111F-47A8-88EF-DFEBA303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347A-780C-4D69-9A78-D6406681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815-0B8A-49CA-80E0-A362F07F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31BE-D4C0-4823-B839-7F8DBABC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CD4D-69EA-4088-9EEE-4CE8B547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26F8-5CDB-45F6-9D6E-985E6ACD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64E8-78C7-4303-8931-79D76DF6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339F-65B2-4ADF-849B-2B8CAA60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7053-9877-4720-9DB8-1FBFEF15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22E7-BCB0-4140-8EF0-A6C902D1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DFB6-7A59-4CDE-A3FA-345B7642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D9DC-3FC4-4F60-B095-8FAC6BFE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565D-7077-4BB8-871D-3142BE39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108-1B19-4907-A4CF-6A881389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5D45-71C3-4E5C-8DE6-4664E7D4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EE868-F00A-4BD8-B21B-0A64FDD0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BD4E-767A-4011-AC43-F3C60421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FA9F9-3DB6-447C-B93F-09D16698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D9E8-5263-43E9-98E7-33966EE0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34F0-C983-45F7-A565-23EB0B63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9F89-9900-433B-82FA-B3B1EB61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50B2-B3A1-471B-B4DA-BCBD5037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1765-F62C-4E73-B317-A109C27B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990DC-D6EE-4865-B2E8-BEDCD40F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74C-4EED-4122-A664-D6B2F871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FAD8-E46E-45E8-B36F-3007926B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6DFDC-3815-4EA0-91DA-13CEAA64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6479B-5D58-4F90-8E6C-A5A8BE72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E1FFB-0833-4D6C-88E4-068EB143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2FB5-3DA3-401A-9353-24C19747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8DA88-3DC1-49A2-A6D3-53F42740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18E38-115B-41C3-A4C1-64717115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748E5-8541-42EE-92DE-FC898236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6CAD-495B-4D72-B399-C93D28B5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4CAA1-9FDE-4E48-BC60-F96CF14E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B5B-285C-4A0C-8C6B-7332F4C9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2DE9-5531-4DA9-9798-C6EE0009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4B2C0-4247-4770-A201-F93CE10C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5497E-8941-42AD-AD91-2C8EAEB6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9B11-3772-4EA3-8669-F1AD4E8A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DC565-EAB9-4EB4-8113-F72ABC2D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AF21D-5553-4ACE-866B-92E79AFA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FB01A-AC4A-4B03-946C-1BC5597E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DDFDE-8E3D-4259-AE31-1C9027F5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A46C1-C7D9-4390-9585-FA0480D8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8D70E-8427-4435-BB54-C9BEC47C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FC8-DDA6-42AB-B506-B631DBE5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07028-3DAE-4BD7-AB22-3CE52EF3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A4797-8044-463A-8B76-1FF0CAAD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7B6B9-4D36-45B4-87CB-9CEF79C7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32CCC-2F23-4F57-B3E8-F28DA03B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8B6D8-5C9C-4679-9035-7D3346D5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8A7A9-2080-4EBD-A188-39690960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FC47F-C973-4D4E-9ECB-D5AA7D16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2628-B34A-4E7F-A4A2-8896DB458C3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C331-D0EB-4A7A-B9B5-57A7E46368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9BE5-DF42-40EB-98F0-75C610BABDBD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DBF6-1E7E-4231-B51D-CB957F67624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E46C-A712-4A40-94FC-6D27924EC3EF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5CC8-C666-45F9-881D-EEBE467BB47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0F27-CF5F-4208-9A9B-1D4EFD27425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1D9F-6A80-4F3C-AEA8-A81E5B4EE5A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D50B-D2A0-4063-90F8-A31DA55DEC4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6328-CF3A-4CD3-AD0C-D6F8A4D12CC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vod do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Kdo může v ČR tlumoči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olná živnost dle živnostenského zák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č. 455/1991 o živnostenském podnik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Situace,v nichž je přibrán tlumočník, se vyskytují jak v oblasti civilního práva (dopravní a jiné nehody, občanskoprávní spory, nejčastěji v otázkách plateb) tak v oblasti práva trestního (krádeže, vloupání, podvody, převaděčství aj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díl soudní tlumočník x přibraný tlumočník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ovinnosti tlumočník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latba daní, sociálního a zdravotního pojišt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latba DPH – příjem, práce pro každého zahraničního klient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i Slovensk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racovní jazyk tlumoční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zyk A – mateřský jazy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zyk B – pracovní jazy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zyk C – pasivní znalost jazy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trategie tlumoč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asový posu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vojená pozornost – dominan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gnózování výpovědi – gramatické, sémantické, pragmatick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konomie – obsahová, gramatick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áce s konkrétním tex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echniky tlumoč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sekutivní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imultánní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ucho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provodné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umariz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slovné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lumočení z lis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Aktivní posle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vičení na aktivní posle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právějte každý, co jste dělal/a vč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vypráv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ruktura vypráv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produkce vypráv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amě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átkodobá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louhodobá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vičení na krátkodobou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vičení na dlouhodobou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2656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kuji Vám za pozorn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0:43Z</dcterms:modified>
  <cp:revision>101</cp:revision>
  <dc:subject/>
  <dc:title>Snímek 1</dc:title>
</cp:coreProperties>
</file>