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7C5-7A73-48AC-8FF5-F6F391DB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DA0-1BD6-4D78-9041-F50D828F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EBE-C137-4370-B10D-7391B44F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C52-5302-44C1-8299-5649EF59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B2D-AD4D-47E4-9B03-6C64C9C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B29-2ADF-4793-830A-7F49423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768-446A-4287-BF8A-C2C95749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053-1A78-4840-BD82-2A828F02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5FF-8868-4593-8226-9731635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16B-F81D-4FA2-B080-36DA7F3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1747-9692-4B9C-9904-483592B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FEA-70B5-4EFA-BD44-F01D99A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677A-1018-4E14-BE2A-D9A1D87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3B06-F726-473F-B06A-8C8FA3C6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FE7-71EF-4A6C-966D-03FAA50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BD4-A5DD-423A-B789-DDB8FACC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F49-B477-447F-8B07-07D0D6C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D7AF-86A3-4C53-8B5E-568056E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BE6-5A2F-4056-995B-DAA092D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D4F-6920-4071-913D-DFD24CB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73B-FDDF-4B03-81F9-D435905C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0350-EECE-4680-A324-7BF416E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BBAB-B1D0-43CB-BA26-9812ADFC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80C7-1556-40BE-95A7-3C1276A8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962B-24B0-4EFA-A0A6-10B91CC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80CC-66CE-43FA-9E9B-86446A0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5EA5-637A-44E8-8943-440760F3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2E47-C47F-4CF4-854E-780C2E6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17E1-2033-4F1E-A388-7A32697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DE33-9444-4712-B6CE-E5D94A0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ACD-5F0A-4328-B0EF-D13B1D4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236F-B2AF-4CF8-B566-BFFC74CA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F23F-D412-402A-BA3C-EF483EE0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46E6-DFB2-4DD4-BF75-6F67E795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416A-64CA-42D7-8BF3-F4E2A6DC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7768-922D-4ADB-91D6-9F64329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53C9-2946-421E-A83F-24EA6CF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C46E-925A-44F7-B5C6-F0D34C17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CEDA-DC7B-45FC-96E2-704E866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B1D6-B6FA-47F8-A2B7-5E7CE8C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69AE-4219-4D9C-91CB-241D617C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BFE-A131-41E4-8A82-44F9FE9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941E-2630-4B20-B06A-D96FD71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F991-5EF1-4211-A8C5-81BC0F6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0107-3EC0-43D3-8A57-83620D47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CBAC-3937-45E1-B589-B306052E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27AB-3C53-47C0-8A94-310B8316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8434-7332-4722-B1EC-2DD0E260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4BF5-B4C9-4BBB-83B3-A1C7603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5B58-362F-4105-8253-C1EF437F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8093-29B5-40AA-9140-03B5033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F63B-98C1-46E5-A5D8-FC376B4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A67-41A0-44FA-9485-2FC6DD1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3BE4-A4A3-4038-B331-B472544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C26B-354B-4379-8B92-6E0C1F3D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158E-0996-47D1-A749-162B1F9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6587-E581-4CD3-A22C-1A216C3A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9396-81AF-4AE1-9C72-DE8289F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96DA-C8D4-4DC7-A23B-67124C90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2199-0F96-41E9-A14A-E608A4B6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B61-84A2-4514-B615-93595F749B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3718-FDAC-4772-95BD-9AE3DC05A5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F1D7-7D16-4F7E-A23D-B1F52D9022F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AA58-DEFC-4EE5-8070-93AF79D7860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01EA-6053-47BC-8CF6-18DF4E0F092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7A9-419E-44EB-92AD-2B20D7F2E24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EF80-A41B-46D8-9D63-CC4A8626281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5E4-6957-4757-A3C3-E3851747AAF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446-48AC-417C-8C4E-C43050DA3F0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BFBC-28C9-4FFB-94A0-9EE16079155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Kulturní specifik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Fráze a idi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vojení si základních fráz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vedení tématu, ukončení téma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idiomy při překlád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ervený  jako ra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poctivostí nejdál dojde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i gustu žádný dišputá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iník se přestěhoval do Humpol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Co je to význam slov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v jednom jazyku nemusejí odpovídat slovům v jiném jazy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ždá jazyková skupina vidí „skutečnost“ různým způsobem (barvy, vůně, ale i abstraktní pojm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znam slova se buduje většinou kontextem, významy neexistují izolova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mohou mít různý význam slovníkový, ale jiný v různých kontext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íklad hledání význa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ž jsem prchla z díry, jela jsem za sestřičkou. Jela jsem tam stopem. Cesta byla fakt hrozná. Ty vogo, měla jsem v kalho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můžeme říci větu jinak? Jak můžeme zůstat jazykově neutrální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Emoční reakce na význ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u jsem mu střelil, no a co? Tobě bych taky střelil, kdybych mohl. A tobě, holčičko (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obrací se k tlumočnici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konec ta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správně přeložit a potlačit emoční reakci na význ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sou kulturní specifi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kulturní specifi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člověk musí musí naučit, aby se stal platným členem své společno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ám většinou nevytváří, nýbrž přejímá od jiných lid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je spíše kolektivním a často anonymním, dílem mnoha gener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udržuje tím, že se o to lidé starají a pečují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dané společenství spojuje a zároveň odlišuje od ji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ulturní specif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musí vždy vědět, že každý člověk má svou vlastní „kulturu“ danou jeho osobní a rodinnou historií a danou jeho příslušností k určitému společenství (komunit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je prostředkem, jak se tato kulturní specifičnost projev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á zároveň také vlastní specif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kulturní specifika v češti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kání x vyk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lovení oso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ní titul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ladení otázek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žádá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navrhuje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uvená a psaná češ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češtině je velký rozdíl mezi mluveným a psaným jazy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istorické příči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isovná a standardní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a obecná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gionální rozrůznění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á č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chy a Morava, menší specifika východní a jižní Če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omoravské dial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Brno, Ha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chodomoravské dialekty (jv. Mo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veromoravské pohraničí (Ostr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ezská nářečí (Op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ciální varianty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profesní - lékaři, práv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ang – vojáci, hor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rgot – snaha o utajení význ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rněnský hantec, ostravská chachar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ové skupiny – jazyk mladých lí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–jazyk ž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yly spisovného jazy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kticky odbor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de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ulárně nauč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ministrativ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formuláře, žádosti, zápis, životopi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ublicisti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vidla společenského sty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dravy, upoutání pozor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ázání kontak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odávání rukou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ředstav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ou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laho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dol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02Z</dcterms:modified>
  <cp:revision>116</cp:revision>
  <dc:subject/>
  <dc:title>Snímek 1</dc:title>
</cp:coreProperties>
</file>