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9019-1B1E-428D-9E5D-C5601199C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7A84-03C3-4672-9726-D20D0CDB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DF37-03F5-4144-915C-ED9430F1A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E12E-82E5-4F5C-9DD3-DF180C93D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AED0-A1F0-42F0-AA43-B11FC9A2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2070-D7A9-4482-9EA6-104064B7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EB68-E83B-4D66-8390-F537201C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A223-1779-4C7C-89D7-601BA51FA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AC85-8C9B-4E8E-86B6-7572779B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6F55-5CDA-46A3-AA4B-14DD6ECD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46AB-DED9-48F8-B067-F74E3628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D424-5375-4B63-9CC0-556E15D2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F2A69-6F8A-45F5-AFA7-2B836BBA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2DB8-E1DF-48D3-ADAF-52917256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45D7-FD22-4786-AA9A-206E9662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113B-791D-43D7-8FC7-5ACF67A0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6475-4F24-4106-9FAD-FD0B634E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35C5-81DC-4A5A-B26F-1D97C781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47B4-DCD9-49D9-8A12-BB8C12C28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72E1-737C-42B4-83EE-F67929B3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2C14-319B-4EDA-AD8B-D5E7308F3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43A44-F704-4EFF-8B35-1B908EAB4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08A32-9506-426D-A4AA-E176BC1F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74A28-0972-4B1C-AC49-6F6B67CE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D86F0-F9A5-4037-A005-3EACAABC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B4E2A-AAA0-4DC0-9329-98A53A7E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B9981-B432-4B4E-A767-B7281325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F3E44-1903-48EC-ACD7-D92CD8D2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72DE6-AC05-486B-A00D-5C36C4CA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6769C-A80A-4F0E-BF62-B0E1A282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D0F7-221C-4439-8074-89F3A8FD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C1833-FBDC-4369-A777-F14B236D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E8830-489C-4129-A9E4-C83C6759A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CFF62-960D-4261-B93F-701CB2328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955FD-4904-480F-85CA-CAD6F45E3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3AC70-F72D-44D4-9E13-778F321B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D718A-32A7-4341-8563-E29E7774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6F560-7878-46EB-ACD1-AFD456FE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34FDF-69F8-42BE-907C-4A52FED2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2063D-BF2D-4C39-BEDC-E483DE79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8CFE8-FEB2-4190-B772-8E35EA0F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DDF5-5FD7-4DEA-AAE1-D2BCBD17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A7CD1-AE0F-45F3-938C-92D9B942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BB5C0-35F3-4E9E-9E67-A5F6E45C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354AB-86DA-4B13-AF2D-C2BDF56D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8D9F2-38A1-43E2-9D02-93A210675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394B9-5197-4BDA-85CC-2FE45CC2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5B917-CEE0-46D7-B7F4-A1DD8DF6B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ABC2D-F074-4D84-BB2B-3CA72480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1D39F-AC96-4490-B286-1BB15BB4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DB955-BBCA-4D8D-B678-AC109CEB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D7FD9-AC81-494A-82A1-A406BEC9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4FF9-C66E-4EDF-8B7C-42501A95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E3EC2-207F-4DB2-8612-498229C8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8F39A-4EF5-4C3C-8B56-A9768AB6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7B184-F627-454F-BB74-A6A0D68A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8B440-780D-44E0-A0C1-2920B18A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1105E-9C77-417E-BF46-B8352988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2A4D6-B5A1-4B2F-B885-82A20A810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E5BC0-1DA3-4141-A930-2263A6B95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BE63-6DC3-4BAE-B243-B2C9AA1B1CC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6068-AC9C-4F4D-95B4-03525EE8824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0C1C-8FAB-495B-B9D4-8FD45E2D3F38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FC7C-6945-482E-B746-F77CD008FEF1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0257-71C1-4FBB-B1E1-9CD47640D453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28B1-600C-48C7-98B6-979681A4C73F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kitka_meta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Obrázek 18" descr="logoMPSV-c-sm.jpg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43C5-0C52-4AD6-89DA-43F1E717F1BA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ECE6-1881-463F-BC6B-19E0050CE000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3" descr="logo_meta_1_tmavší_FIN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kitka_meta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kitka_meta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kitka_meta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Obrázek 19" descr="logoMPSV-c-sm.jpg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42A3-EA0B-4402-BB95-221ED7931740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B6BA-4697-445B-90C6-AADFBC71A20C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771280" y="3789000"/>
            <a:ext cx="6264360" cy="184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Komunikativní doved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hDr. Jitka Cvejnová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3864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Strategie řešení konflikt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ýhra x prohra (konkuren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yhýbání se konflik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izpůsobení 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ooperace – společné řešení problém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ompromis  hledá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714320" y="333360"/>
            <a:ext cx="624204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Formy řešení konflikt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1. Útěk                        8. Reaktivní jedn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2. Rezignace                9. Projek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3. Přesun konfliktu      10. Somatiz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4. Kompenzace           11. Racionaliz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5. Sublim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6. Potlač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7. Regre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Asertivi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. Schopnost říci 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. Umění požádat o laskav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. Vznést svůj oprávněný požadavek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. Vyjádřit kladné a záporné emo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. Začínat, udržovat a končit konverza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457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Zásady asertivity – I. čá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928800" y="1714320"/>
            <a:ext cx="785808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áš právo sám posuzovat své vlastní chování, myšlenky a emo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áš právo nenabízet žádné výmluvy či omluv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áš právo posoudit, jak můžeš řešit problémy ostatních lid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áš právo změnit svůj náz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áš právo dělat chyby a být za ně odpovědn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Zásady asertivity – II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áš právo říct,  že neví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áš právo být nebýt oblíbený všem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áš právo udělat nelogická rozhodnut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áš právo říct já nerozumí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áš právo nejednat asertivně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Techniky aser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kažená gramofonov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tevřené dveř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ebeotevř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olné inform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ijetí chy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egativní dotazová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elektivní ignor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ijatelný komprom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47640" y="333360"/>
            <a:ext cx="676944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Odpověď na praktické otázk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928800" y="1557000"/>
            <a:ext cx="785808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Špatně jste pochopil mluvčího a zjistíte to pozdě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erozumíte, co mluvčí řekl (Tlumočník nerozumí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luvčímu rozumíte, ale nechápete obsa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luvčí se obrací na vás místo, aby mluvili spol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luvčí mluví nevhodně (vulgarism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luvčí se uráží vzájemně, nebo jeden mluvčí uráž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Jazyk mluvčího je primitivní, gramaticky nesprávn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luvčí mluví nesouvis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luvčí pláč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712944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Stres a potřeba psychohygien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Flashback – analýza emo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tres – emoční reak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enos emoce na se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yhoř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ěkteré psychohygienické techni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Předpoklady tlumoč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edpoklady komunikativních doved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Bezpečné ovládnutí fonologického systému (zvukové stránky jazyk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automatizování jazykových prostředk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olné využívání jazykových prostředků ke komunikačním cílům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Obtíž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928800" y="1484280"/>
            <a:ext cx="785808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ady řeči (šišlání, koktavost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Jazykově psychologické – omezenost jaz. prostředků – větší námah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ualita obsahu a for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Osobnostní psychologické – ostych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trach z chyb, rigidita myšl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4.   Čistě jazykové obtíže – interference s mateřským jazyk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714320" y="333360"/>
            <a:ext cx="624204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Základní typy komunika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Intrapersonální komunik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Interpersonální komunik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kupinová komunik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Institucionální komunik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rganizační (byrokratická) komunik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eřejná komunik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ediální komunika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3864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Kódy v rámci komunika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azykový kó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ynsémantické kódy – intonace, slovní a větný přízvuk,  tempo řeči, hlasová kvalita, pauz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Autosémantické kódy – oční kontakt, úsměv, gesta, vzdálenost (75 cm – 1 m), postoj při komunikaci, pohyby při komunikaci, doteky, vůně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18920" y="333360"/>
            <a:ext cx="684036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Tématická struktura dialog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Hlavní téma – základní přípra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ílčí téma – postupné rozvíjení hlavního téma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edlejší téma  ‒ odbočení od téma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onverzační vzor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Griceovy maxi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incipy kooper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axim kvantity: Sděl informace tak akorá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axim kvality: Říkej prav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axim relevantnosti: Mluv k vě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axim způsobu: Mluv jasně a správn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Leechovy maximy zdvořilos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Takt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: „Mohl bych vás na okamžik přerušit?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Velkorysost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: „Posaďte se a já to zařídím.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Ocenění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: „Paní A byla výborná a i pan B byl – hm – zajímavý.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Skromnost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: „Jsem to ale hlupák! To by se vám jistě nestalo.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Souhlas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: A:“To se mi nelíbí.“ – B: „Jistě. Ale přece jen...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Soucit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: „Měl jste jistě velkou starost.“</a:t>
            </a:r>
            <a:r>
              <a:rPr b="0" lang="cs-CZ" sz="2400" spc="-1" strike="noStrike" u="sng" baseline="30000">
                <a:solidFill>
                  <a:srgbClr val="eb8803"/>
                </a:solidFill>
                <a:uFillTx/>
                <a:latin typeface="Verdana"/>
                <a:hlinkClick r:id="rId1" action="ppaction://hlinksldjump"/>
              </a:rPr>
              <a:t>[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Konflik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  <a:ea typeface="Arial"/>
              </a:rPr>
              <a:t>●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  <a:ea typeface="Arial"/>
              </a:rPr>
              <a:t>Vzniká z rozdílu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  <a:ea typeface="Arial"/>
              </a:rPr>
              <a:t>Dynamický prvek společenského vývo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  <a:ea typeface="Arial"/>
              </a:rPr>
              <a:t>Negativní důsledky konfliktu – nejistota, strach, agre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  <a:ea typeface="Arial"/>
              </a:rPr>
              <a:t>3 druhy konflikt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  <a:ea typeface="Arial"/>
              </a:rPr>
              <a:t>Konflikt kladných s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  <a:ea typeface="Arial"/>
              </a:rPr>
              <a:t>Konflikt záporných s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  <a:ea typeface="Arial"/>
              </a:rPr>
              <a:t>Konflikt kladné a záporné sí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2:49Z</dcterms:modified>
  <cp:revision>106</cp:revision>
  <dc:subject/>
  <dc:title>Snímek 1</dc:title>
</cp:coreProperties>
</file>