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66C-4FDA-4EE3-9D45-8DCC8D20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B11-4A7C-456F-99D5-05E80734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8DB-38B3-4969-B64E-C010047E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C65-D86E-4E14-AE5C-9745CA2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A8-5676-410E-9B00-DBFC7941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3AA-70E7-4BFA-9A51-0E0DD50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1EB-B98D-4F46-8331-28165E4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C4E-E936-4D18-854B-E9A4C640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BC5-49DF-44DA-93D0-3BAEC7AF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950-278B-4F07-B5FC-75B4572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8A34-0DB5-48A0-9E22-E30F379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F13A-00F7-498C-ADED-EBBD86D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7A72-08CF-4BE1-A539-60D8A61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B309-E676-42FB-810C-0C42917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251A-F14A-44D1-80FD-176F3E26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759C-508C-4FCC-97EC-BF11B99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8BA5-8890-4756-833A-930186C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D98-FBB6-4CA4-840F-3B87599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89FF-E213-4E57-BADE-2A6C6392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460-0BE8-493B-9847-9407C3B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B4FE-F579-4BFB-9DFD-3758587D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9480-540D-4EB9-B109-9F7433AA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31CC-2987-4CA2-8B3F-7A85A99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F651-7195-4489-8EAF-54DA0BF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BD5D-1E86-4CC9-B2F0-1764A331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9123-6918-4B3E-AB5B-D023AFB5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B64D-7513-421C-A480-C699D4F6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49C4-E3D9-4B3F-B90C-1A5AF52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7D12-FCC2-415C-940A-AB1AC91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EA80-8C3D-485E-90A7-E3AF65A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E7D-F370-40CB-85C0-714C21E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E4AF-B9F5-45F2-8683-D3308BE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C488-57B6-46C5-A19D-579E2E18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6CCB-5CA0-4F3B-BA74-7AD4E778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F972-E3A1-4579-96D0-37445511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5695-D22C-48F1-A913-BB14ADFE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6DA6-5C73-41F1-AC5E-6F5B10E5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DD3F-FC74-48B1-8E9A-6D8BF88B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E7B8-9AD3-4386-8B95-E396C3E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3D0B-AA3D-414A-A3C4-F579A53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9801-8368-42C2-8F60-5ADEB00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9D3-8921-49EB-B10D-988670A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A3E5-187D-4D82-978C-D8BC5CA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CE54-1C76-4CBD-9AC7-3244AE5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7843-7B73-4382-BE9A-CB68FC9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AAE5-E703-4CA2-BB1E-CFAB3C5C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30FF2-B0CE-4D26-8C88-45E163C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1C5B5-C7A5-4834-B49F-28F7B034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D861-7F85-4DA6-B775-0102648D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3C54-8EB0-43FF-B6D5-35EB059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18DC-3CC6-4E0E-BB22-B8A654A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7797A-D41B-4450-A192-BA7BCC5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85C-4319-47BB-8ECE-466D484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123D-7301-44E1-9C18-784EBD43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DB78-A057-40DA-BAF2-B372F11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FD2C-6446-4093-A87D-0609292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E0DD-54C5-4EAA-B4A5-5CAD371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A7D5-DF4D-436A-B70F-B96CD1C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BDC4-D780-4FAB-8C1A-DE72E951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3442-5061-4E49-929A-3A8EE40D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CA5-995C-47C3-A218-BAD47A7276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2598-8A3C-4869-9FF7-43E0F1AA03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94C7-6F13-4838-B15C-A308608B3BE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49A5-34B5-429A-888E-4EEBFE76779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016-4B03-40A0-BFF6-8A14A62C501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795-D6DF-4BA3-91CC-75ECCBA0100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179-B9FF-49F9-B73E-FADC0837FFF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384-732E-4811-B43C-3762D29650F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EB1D-D006-43E5-99EE-BC82CF76B7A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EDB-0ED5-4CED-B088-72D713CE1C3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Etika a etiketa  tlumočení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dnost tlumoční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ý úkol musí odpoví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jazykovým znal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stávajícím fyzickým a psychickým schopn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kvalifik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příprav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dmítnu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Pokud má pracovat pro členy své rodiny nebo osoby blízké nebo kde existuje zjevný konflikt zájm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Prostředí fyzicky nebo psychicky nepřijatelné (důl, lešení, pitevna …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rostředí nepřijatelné z morálně-etických důvodů (erotická li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 Nedostatečná jazyková vybavenost v oboru a nedostatečný čas na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přes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netlumočí doslova, tlumočení je analýza smyslu, doslovný překlad se používá ve zvláštní situaci s upozorně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 tlumočení by měla interpretace textu trvat 2/3 doby trvání původního tex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se musí naučit techniky, které umožní interpretovat dostatečně přesně obsah tex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smí ale hádat významy sl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rávo si ověřit význam slova, pokud si není jist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utral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ění způsob vyjád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ic nepřidává, ani nic nezkrac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odpovědný za obsah slov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ázky neutrality jsou velmi složité, zejména  v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cvik neutrality trvá dlouho a komplikov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krétní cvičení k dodržení neutral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stran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acuje pro osoby blízk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při tlumočení uplatňovat své osobní politické, náboženské, společenské náz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ojevuje sympatie nebo antipatie ke komunikačnímu partnerovi klienta ani ke klient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oskytuje rady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ní povinen tlumočit „ve prospěch“ osoby, která ho pla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být zaměstnán jinými úkoly než tlumoč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 právo vystoupit z tlumočnické role, aby objasnil tlumočnickou situaci klientovi i jeho komunikačnímu partnerovi  - tohle platí jen při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čenliv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zveřejňuje informace, které se dozvěděl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použije získané informace ani nepřímo, například pro obchodní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icméně některé informace tlumočník ze zákona zveřejnit musí, jedná se o výjimečné trestné činy a jejich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Dodržení profesní etik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keta – pravidla zdvořiléh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žení těla, hlas, ge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lečení (jednobarevné, tmavé, nenápadné, šperky, kosmetika, čistota, upraven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zdrav při příchodu a od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vořilost (takt, skromnost, nezbytný odst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chvilnost, adekvátní oml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lidarita s kolegy  a potřeba vzděl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kritizuje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hajuje společné záj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dílí nové znalosti a poznatky s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se celý život vzděláv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vyšuje si jazykovou kvalifik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šiřuje si kulturní přehled, všeobecné znal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oudní tlumočení – některé rozdíly s komunitním tlumočen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soká kvalifikace soudního tlumoč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 do seznamu tlumoční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ického jazyka a právního syst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ího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ální přesnost tlumoče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spektování pokynů soudce  - vystoupit z role jen na pokyn státního orgá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e to tlumočení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stní zprostředkování informace z jednoho jazyka do druhého -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ísemné zprostředkování informace z jednoho jazyka do druhého - pře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ační dovednost – sekundární řečová  doved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munitní tlumočení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prostředkování cizího jazyka při  osobním jednání, vedle čistě jazykových otázek musí tlumočník řešit náležitým způso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) roli zprostředkovatele kul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) sociální problémy klienta spojené s neznalostí jazyka (uplatnění práv v zemi, jejíž jazyk nezn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) psychologické problémy spojené s  adaptací v cizí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lze vždy aplikovat postoj nezúčastněného prostředníka, není to tzv. soudní tlumo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vztah účastníků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yzická přítom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lient                      Komunikační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= Mediátor jazyka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řístupy k tlumočnické prof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Tlumočník pomáh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Tlumočník je stro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. Tlumočník usnadňuje situ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4. Tlumočník pomáhá tím, že interpretuje správně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ostředí komunitního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Úřady – imigrační orgány, policejní řízení, úřady práce, daňové úřady, místní samosprá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Lékařské prostředí – jednotliví lékaři, nemocnice, laborato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sycholog – různá psychologická vyšet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Škola – komunikace mezi učiteli a žáky, autoš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. Mimořádné události – přírodní a civilizační katastrofy, vál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Et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isciplína, která zkoumá a popisuje lidské chování a normy tohot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ická etika – deontologická (stanoví povinnosti) a aplikovaná (vyjadřuje se ke konkrétním problémům obor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cký kodex tlumočníka – konkrétní pravidla prof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incipy etického kodex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odpovídajícího úko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á přesnost a neutra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trannost a nezávis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lčenlivost a diskrét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ržení profesní etik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lidarita s ko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řeba celoživotního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ije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dy nesmíme odmítnout úk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ůvodem odmítnutí nesmí bý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árodnost, rasa, náboženské vyznání,  politická příslušnost, sociální postavení, sexuální orientace, věk, fyzické a rozumové schopnosti, pově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1:02Z</dcterms:modified>
  <cp:revision>101</cp:revision>
  <dc:subject/>
  <dc:title>Snímek 1</dc:title>
</cp:coreProperties>
</file>