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3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EBCE-7F29-4604-BD9B-0C28294B77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1834-93BB-4F12-8BF7-9FF80626F7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52B6-71CC-46E4-BC4A-BEF7615A94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B672-8965-479D-BC5A-4CE30EA5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63BE-9AAA-4A0E-9D73-FC01165B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FEAA-0A2B-4736-A440-B36516516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79E1-D0FC-4424-8E02-A289F03BC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1CE5-F77A-4662-B4AA-DCF67EF6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7348-E227-4928-9D5E-DD4FA184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4502-C1AB-4F82-90FF-40892812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C84C-9C9F-45F0-8250-F562C905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E48C-A8FD-44CC-841C-435272A6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7818-E07A-42E2-A1FD-83B05183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5F73-0483-403D-93E8-16E5C96D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90AF-ACB2-49A8-A96C-361AC699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7E4A-146D-49D9-B11A-5D5F6050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64D9-8994-44F4-88A2-BB912418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8E9E-7BD8-4A7E-8890-54BBA81D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8A14-CEFF-4A68-B2DB-C9070407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22E2-1E1A-4D6A-852E-D21E8DA7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11AF-C18F-4B58-945C-EC089F0F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F7B8-C057-477E-B2DB-4BCF3F9E0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D5EF-DDBD-4852-A666-8D1D7EB6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2DBB-F11C-43FC-9822-0B43279FD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01684-E2D0-4817-96F8-7B29C77D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A3BE3-8FA3-4ABD-A556-F502CCAA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794B8-E6C1-4A8E-9527-930C4947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291A1-51FF-4924-8771-4857EBB2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217B7-3C4D-4816-82D1-7D690566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97267-2C2D-4B35-8A31-818EFAED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F2E96-7AB4-46D1-A34B-124CB786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B9956-E011-498D-A617-2DBF411B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03DF6-6B59-42E4-B76A-92D5CE5C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5950-50B6-44AB-A6CF-11231DBF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54E18-E15E-4B20-8AAB-360D73C6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8238C-A658-491D-913E-61B6238D3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74206-FBDC-47B3-8E28-58E5B8A1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078F4-76B2-4AA2-B02F-51DF927D2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FBD34-8CBE-4C7D-A717-BEA27D7C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683D6-590C-488E-84F2-B2D7B874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98508-8C9D-46BA-B463-70F3CFD3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F3547-79D9-4DEE-8AAA-6437A02E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2393F-F170-4AB4-B3D2-DB126244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DE552-6E40-4B56-800E-6395860F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3D42-6B83-4B66-8B1B-E474E714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DC697-F80D-4590-8E46-7EEA1675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FD135-EBF0-406C-882B-FD441AC7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BB2EF-F3FC-41BF-9DD8-831F530D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0DD5A-210A-45FE-9AE4-3E6F49203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2887C-D5EB-4CA7-9859-F1050032D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D8BA5-49D4-4CB0-8B22-E946CBC82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92205-7032-486F-A4B6-AB4675BE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8B758-1AF8-4489-9068-CD7DDA18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0C434-90D5-41C9-BD68-22E8F430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B41C0-5BAF-4634-80F6-C7A26CCD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BFFB-D8E2-4A96-82FE-D68A2DB6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E2E02-3C42-44B2-B7C3-BE37CC64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DCB35-61D7-42C2-A436-6A4AC90B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3F22D-4966-4D10-AC11-621D4642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7A5DD-D259-4138-BEE3-A4E136EC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EBB89-DFAD-41B5-B52E-8793E406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4AF25-7076-46D6-9D5C-270D6CCA7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DC321-4C77-403B-ACFC-588726328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27E3-B477-4193-8A54-75B9EBA574B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F784-1D0D-4CC1-AC47-55171EEE719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8714-6352-4372-BA96-EC206EB13A11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4710-A069-4931-B2BA-D3460B2032A9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9A76-05C4-4B0C-B975-A7E019AA12A9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3A6A-91DD-43A5-85A4-0BAB859FC7CD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kitka_meta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Obrázek 18" descr="logoMPSV-c-sm.jpg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11D0-D8C6-47D2-838E-9C927D21A6C0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6958-6F25-4F33-97FE-CE1AD1526C02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3" descr="logo_meta_1_tmavší_FIN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kitka_meta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kitka_meta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kitka_meta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Obrázek 19" descr="logoMPSV-c-sm.jpg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E003-EFC6-488E-B1A0-39DD7A140074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D7C6-2333-448D-96C9-CF06DD1E5501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cicpraha.org/" TargetMode="External"/><Relationship Id="rId2" Type="http://schemas.openxmlformats.org/officeDocument/2006/relationships/hyperlink" Target="http://www.cizinci.cz/" TargetMode="External"/><Relationship Id="rId3" Type="http://schemas.openxmlformats.org/officeDocument/2006/relationships/hyperlink" Target="http://www.domavcr.cz/" TargetMode="External"/><Relationship Id="rId4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2928960" y="4076640"/>
            <a:ext cx="585792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,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ociální tlumočení ve styku s cizinci "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  zdravotní pojiště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Altangerel O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ám bylo uděleno vízum k pobytu nad 90 dnů za účelem strpění pobytu na území ČR nebo vydáno povolení k dlouhodobému pobytu za účelem strpění pobytu na území ČR – vztahuje se však pouze na případy konkrétně stanovené zákonem o pobytu cizinc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mn-Cyrl-MN" sz="3000" spc="-1" strike="noStrike">
                <a:solidFill>
                  <a:srgbClr val="990033"/>
                </a:solidFill>
                <a:latin typeface="Verdana"/>
              </a:rPr>
              <a:t>Эрүүл мэндийн даатгал сонгох</a:t>
            </a:r>
            <a:r>
              <a:rPr b="0" lang="mn-Cyrl-MN" sz="3200" spc="-1" strike="noStrike">
                <a:solidFill>
                  <a:srgbClr val="990033"/>
                </a:solidFill>
                <a:latin typeface="Verdana"/>
              </a:rPr>
              <a:t> </a:t>
            </a:r>
            <a:br>
              <a:rPr sz="3200"/>
            </a:br>
            <a:r>
              <a:rPr b="0" lang="cs-CZ" sz="3000" spc="-1" strike="noStrike">
                <a:solidFill>
                  <a:srgbClr val="990033"/>
                </a:solidFill>
                <a:latin typeface="Verdana"/>
              </a:rPr>
              <a:t>Výběr zdravotní pojišťovny</a:t>
            </a:r>
            <a:br>
              <a:rPr sz="32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900000" y="1628280"/>
            <a:ext cx="78868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эрвээ та дээрхи нөхцөлүүдийн аль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нэгийг нь бүрдүүлсэн бол НЭМД-т хамаарагдах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ас гадна мөн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дараахи улсын байгууллагуудын эрүүл мэндийн даатгалыг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нгон авах эрхтэй.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estliže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lpňujete podmink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na které se vztahuje veřejné zdravotní pojištění, máte právo na výběr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zdravotní pojišťovny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042560" y="1628640"/>
            <a:ext cx="77439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Všeobecná zdravotní pojišťovna (111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Vojenská zdravotní pojišťovna (201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Česká národní zdrav. pojišťovna (205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Zdravotní pojišťovna Agel (227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Zaměstnanecká pojišťovna Škoda (209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Revírní bratrská pokladna (213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900000" y="1714680"/>
            <a:ext cx="788688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Zdravotní pojišťovna Média (228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Zdravotní pojišťovna Metal–Aliance (217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Zdravotní pojišťovna Ministerstva vnitra ČR (211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Oborová zdravotní pojišťovna (207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Česká průmyslová zdravotní pojišťovna (205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900000" y="1628640"/>
            <a:ext cx="78868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Бүх эрүүл мэндийн даатгалууд нь хуулийн дагуу адилхан эмчилгээ үзүүлнэ. Зарим нэг давуу тал болон хямдрал дээр өөр өөр байна.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БНЧУ-ын нутаг дэвсгэр дээр төрсөн хүүхдийн (гадаад иргэний) ээж нь хүүхдээ 8 хонгийн дотор эрүүл мэндийн даатгалын газарт мэдэгдэх үүрэгтэ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1042560" y="1844640"/>
            <a:ext cx="774396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šechny zdravotní pojišťovny zajišťují podle zákona stejný rozsah zdravotní péče, liší se jen v nabídce některých výhod, slev a příspěvk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 případě narození dítěte na území ČR, které se stává pojištěncem zdravotní pojišťovny, u které je pojištěna jeho matka (narození dítěte ste povinen oznámit této zdravotní pojišťovně do 8 dnů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3000" spc="-1" strike="noStrike">
                <a:solidFill>
                  <a:srgbClr val="990033"/>
                </a:solidFill>
                <a:latin typeface="Verdana"/>
              </a:rPr>
              <a:t>Ямар үед НЭМД хүчингүй вэ?</a:t>
            </a:r>
            <a:br>
              <a:rPr sz="3000"/>
            </a:br>
            <a:r>
              <a:rPr b="0" lang="cs-CZ" sz="3000" spc="-1" strike="noStrike">
                <a:solidFill>
                  <a:srgbClr val="990033"/>
                </a:solidFill>
                <a:latin typeface="Verdana"/>
              </a:rPr>
              <a:t>Kdy veřejné zdrav.pojišťovny zaniká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971280" y="1714680"/>
            <a:ext cx="781524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байнгийн оршин суух зөршөөрөлгүй үед БНЧУ-д ажлын байраа алдах тэр өдрөө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БНЧУ-ын нутагт байнгийн оршин су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эрхээ алд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олон улсын хамгаалалтын (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azyl-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орогнол эсвэл нөхөн хамгаалалт –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oplňková ochrana)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үсэлтийн процесс зогссон бас татгалзсан үе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БНЧУ-д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үлээлгийн зорилоготой 90 хоногоос дээш эсвэл урт хүгацааны виз хүчингүй эсвэл цуцласан үе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атгуулагч нас барах юмуу нас барснаар зарлах үе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1042560" y="1714680"/>
            <a:ext cx="77439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nem, kdy osoba bez trvalého pobytu na území ČR přestala být zaměstnancem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rušením trvalého pobytu na území ČR, zastavením řízení nebo zamítnutím žádosti o mezinárodní ochranu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dnětím nebo zánikem mezinárodní ochran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rušením nebo skončením platnosti víza k pobytu nad 90 dnů za účelem strpění pobytu na území ČR nebo povolení k dlouhodobému pobytu za účelem strpění pobytu na území Č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úmrtím nebo prohlášením cizince za mrtvéh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990033"/>
                </a:solidFill>
                <a:latin typeface="Verdana"/>
              </a:rPr>
              <a:t>Zdravotní pojišt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971640" y="1628280"/>
            <a:ext cx="7743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үний эрх ба эрх чөлөөний тунхаглалын 31-р хэсгийн дагуу хүн бүр эрүүл мэндээ хамгаалуулах эрхтэ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Эмнэлгийн тусламж нь </a:t>
            </a:r>
            <a:r>
              <a:rPr b="0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эрүүл мэндийн даатгалын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 үндсэн дээр олгогддо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900" spc="-1" strike="noStrike">
                <a:solidFill>
                  <a:srgbClr val="990033"/>
                </a:solidFill>
                <a:latin typeface="Verdana"/>
              </a:rPr>
              <a:t>НЭМД</a:t>
            </a:r>
            <a:r>
              <a:rPr b="1" lang="cs-CZ" sz="2900" spc="-1" strike="noStrike">
                <a:solidFill>
                  <a:srgbClr val="990033"/>
                </a:solidFill>
                <a:latin typeface="Verdana"/>
              </a:rPr>
              <a:t>-</a:t>
            </a:r>
            <a:r>
              <a:rPr b="1" lang="en-US" sz="2900" spc="-1" strike="noStrike">
                <a:solidFill>
                  <a:srgbClr val="990033"/>
                </a:solidFill>
                <a:latin typeface="Verdana"/>
              </a:rPr>
              <a:t>ын даатгал төлөгчид</a:t>
            </a:r>
            <a:br>
              <a:rPr sz="2800"/>
            </a:br>
            <a:r>
              <a:rPr b="0" lang="cs-CZ" sz="2600" spc="-1" strike="noStrike">
                <a:solidFill>
                  <a:srgbClr val="990033"/>
                </a:solidFill>
                <a:latin typeface="Verdana"/>
              </a:rPr>
              <a:t>P</a:t>
            </a:r>
            <a:r>
              <a:rPr b="0" lang="en-US" sz="2600" spc="-1" strike="noStrike">
                <a:solidFill>
                  <a:srgbClr val="990033"/>
                </a:solidFill>
                <a:latin typeface="Verdana"/>
              </a:rPr>
              <a:t>látc</a:t>
            </a:r>
            <a:r>
              <a:rPr b="0" lang="cs-CZ" sz="2600" spc="-1" strike="noStrike">
                <a:solidFill>
                  <a:srgbClr val="990033"/>
                </a:solidFill>
                <a:latin typeface="Verdana"/>
              </a:rPr>
              <a:t>i</a:t>
            </a:r>
            <a:r>
              <a:rPr b="0" lang="en-US" sz="2600" spc="-1" strike="noStrike">
                <a:solidFill>
                  <a:srgbClr val="990033"/>
                </a:solidFill>
                <a:latin typeface="Verdana"/>
              </a:rPr>
              <a:t> pojistného</a:t>
            </a:r>
            <a:r>
              <a:rPr b="0" lang="cs-CZ" sz="2600" spc="-1" strike="noStrike">
                <a:solidFill>
                  <a:srgbClr val="990033"/>
                </a:solidFill>
                <a:latin typeface="Verdana"/>
              </a:rPr>
              <a:t> na </a:t>
            </a:r>
            <a:r>
              <a:rPr b="0" lang="en-US" sz="2600" spc="-1" strike="noStrike">
                <a:solidFill>
                  <a:srgbClr val="990033"/>
                </a:solidFill>
                <a:latin typeface="Verdana"/>
              </a:rPr>
              <a:t>zdravotní</a:t>
            </a:r>
            <a:br>
              <a:rPr sz="2600"/>
            </a:br>
            <a:r>
              <a:rPr b="0" lang="en-US" sz="2600" spc="-1" strike="noStrike">
                <a:solidFill>
                  <a:srgbClr val="990033"/>
                </a:solidFill>
                <a:latin typeface="Verdana"/>
              </a:rPr>
              <a:t>pojištění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900000" y="1773000"/>
            <a:ext cx="78868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АЖИЛ ОЛГОГЧ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ажилтныг хөдөлмөрийн харьцаа үүсгэж ажилд ороход энэ тухай ажил олгогч нь 8 хоног дотор зохих эрүүл мэндийн даатгалын газарт мэдэгдэх ёстой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- ажил олгогч даатгалын зохих хэсгийг ажилтны цалингаас нь (13,5%) суутгаж даатгалыг харъяа даатгалын байгууллагад шилжүүлнэ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- даатгалын хэсгийн 2/3 ажил олгогч өөрийн фондноос, 1/3 ажилтны цалингаас нийт даатгалын хэмжээг боддог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1042560" y="1628280"/>
            <a:ext cx="77439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ZAMĚSTNAVATELÉ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ři nástupu zaměstnance do zaměstnaneckého poměru musí o této skutečnosti zaměstnavatel nejpozději do 8 dnů informovat příslušnou zdravotní pojišťovnu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pojistné za zaměstnance odvádí zaměstnavatel, příslušnou částku mu sráží z platu (13,5%) a poukazuje příslušné pojišťovně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část pojistného (2/3) platí zaměstnavatel ze svých fondů, část pojistného (1/3) odečítá z vaší mzd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971280" y="1714320"/>
            <a:ext cx="781524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říklad 1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 Zaměstnanec v hlavním pracovním poměru pobírá mzdu ve výši 10 484 Kč. Je plátcem zdravotního pojištění. Jakou částkou se podílí na zdravotním pojištění zaměstnanec a zaměstnavate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Hrubý příjem zaměstnanc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– vyměřovací základ pro výpočet pojistného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0 484K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Zaměstnavatel po zaokrouhlení odvede pojistné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10 484 * 13,5 %)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 416K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Zaměstnanci strhne z platu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1 416 : 3)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7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Zaměstnavatel uhradí ze svých prostředků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1 416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72)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944 K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1042560" y="1714680"/>
            <a:ext cx="77439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400" spc="-1" strike="noStrike">
                <a:solidFill>
                  <a:srgbClr val="000000"/>
                </a:solidFill>
                <a:latin typeface="Verdana"/>
              </a:rPr>
              <a:t>Анхаар!!!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хэрвээ таны ажил олгогч (ажилийн газар,фирма, агентур)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эрүүл мэндийн даатгалыг буруу төлөх эсвэл огт төлөхгүй байгаа мэт танд санагдаж байвал та эрүүл мэндийн даатгалыг төлсөн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төлбөрийн хуудасыг ажил олгогчоос нэхэмжлэх эрхтэй.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POZOR!!!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jestli,že máte podezření, že za vás zaměstnavatel (firma, agentura) neplatí správně zdravotní pojištění, můžete si vyžádat potvrzení příslušné zdravotní pojišťovny o zaplaceném pojistné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1042560" y="1714680"/>
            <a:ext cx="77439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400" spc="-1" strike="noStrike" u="sng">
                <a:solidFill>
                  <a:srgbClr val="000000"/>
                </a:solidFill>
                <a:uFillTx/>
                <a:latin typeface="Verdana"/>
              </a:rPr>
              <a:t>ДААТГУУЛАГЧ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даатгуулагч байнгийн ажилгүй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 гэрээт, хувиараа, цагийн ажил хийж тогтмол биш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орлоготой, төр даатгалыг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төлдөггүй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нөхцөлт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хуулийн заалтын дагуу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даатгуулагч өөрөө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даатгалаа төлнө. Эрүүл мэндийн даатгалын газар сар болгон хуурамж тушаана.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POJIŠTĚNCI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- pojistné si platíte sám/sama, pokud za vás neplatí pojistné stát ani zaměstnavatel nebo nemáte určitou hranici příjmu , např. když pracujete na dohodu o provedení práce, nepravidelnou výpomoc, příležitostné práce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826560" y="1714320"/>
            <a:ext cx="795996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ТӨР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нийтийн эрүүл мэндийн даатгалын зарим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оролцогчдын даатгалыг төлөгч нь төр байна. Үүнд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- тэжээгчгүй хүүхдүүд (26 хүртлэх насны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- жирэмсний ба амаржсаны амралттай  эхчүүд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- Чех улсын тэтгэврийн даатгалаас тэтгэвэр авагчид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эцэг эхийн тэтгэмж авч хүүхэд асарч буй хүмүүс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- хөдөлмөрийн товчоонд бүртгэлтэй байгаа ажил хайгч хүмүүс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STÁT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nezaopatřené děti (do 26 let věk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poživatele důchodů z důchodového pojištění Č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příjemce rodičovského příspěvku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matky na mateřské a rodičovské dovolené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uchazeče o zaměstnání (kteří jsou zaregistrovaní na úřadu práce) a dalš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900" spc="-1" strike="noStrike">
                <a:solidFill>
                  <a:srgbClr val="990033"/>
                </a:solidFill>
                <a:latin typeface="Verdana"/>
              </a:rPr>
              <a:t>Ямар үед даатгал төлөхгүй вэ?</a:t>
            </a:r>
            <a:br>
              <a:rPr sz="2900"/>
            </a:br>
            <a:r>
              <a:rPr b="0" lang="cs-CZ" sz="2900" spc="-1" strike="noStrike">
                <a:solidFill>
                  <a:srgbClr val="990033"/>
                </a:solidFill>
                <a:latin typeface="Verdana"/>
              </a:rPr>
              <a:t>Kdy nejsem povinen platit pojistné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1042560" y="1714320"/>
            <a:ext cx="774396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эрэв та 6 сараас дээш гадаад улсад оршин су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ба тухайн газраа эрүүл мэндийн даатгалд хамаарагдахаар бол Чех дэх даатгалын газарт 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бичгэн мэдэгдэл өгөөд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эрүүл мэндийн даатгалаа төлөх хэрэггүй. Харин гадаадаас ирсэн үедээ Чех дэ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ь даатгалын газартаа гадаадад даатгалд хамаарагдаж байсан баримтаа үзүүлэхгүй бол Ч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эд байхгүй байсан сарынхаа тоогоор нөхөн төлбөр төлн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1042560" y="1699920"/>
            <a:ext cx="77439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Nejste povinen platit pojistné, když pobýváte v cizině </a:t>
            </a:r>
            <a:r>
              <a:rPr b="1" lang="cs-CZ" sz="2700" spc="-1" strike="noStrike">
                <a:solidFill>
                  <a:srgbClr val="000000"/>
                </a:solidFill>
                <a:latin typeface="Verdana"/>
              </a:rPr>
              <a:t>déle než 6 měsíců</a:t>
            </a: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, pokud jste v cizině zdravotně pojištěn, a písemně jste o tom informoval vaši zdravotní pojišťovnu v ČR. Po tuto dobu, až do opětovného přihlášení, nemáte nárok na úhradu zdravotní péče z veřejného zdravotního pojištění. Po návratu musíte předložit doklad o zdravotním pojištění v cizině a jeho délce. Pokud takový doklad nepředložíte, budete muset příslušné zdravotní pojišťovně doplatit pojistné zpětně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9721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990033"/>
                </a:solidFill>
                <a:latin typeface="Verdana"/>
              </a:rPr>
              <a:t>Худалдааны</a:t>
            </a:r>
            <a:r>
              <a:rPr b="1" lang="cs-CZ" sz="2800" spc="-1" strike="noStrike">
                <a:solidFill>
                  <a:srgbClr val="990033"/>
                </a:solidFill>
                <a:latin typeface="Verdana"/>
              </a:rPr>
              <a:t> </a:t>
            </a:r>
            <a:r>
              <a:rPr b="1" lang="mn-Cyrl-MN" sz="2800" spc="-1" strike="noStrike">
                <a:solidFill>
                  <a:srgbClr val="990033"/>
                </a:solidFill>
                <a:latin typeface="Verdana"/>
              </a:rPr>
              <a:t>(гэрээний) эрүүл мэндийн даатгал</a:t>
            </a:r>
            <a:br>
              <a:rPr sz="2800"/>
            </a:br>
            <a:r>
              <a:rPr b="0" lang="cs-CZ" sz="2800" spc="-1" strike="noStrike">
                <a:solidFill>
                  <a:srgbClr val="990033"/>
                </a:solidFill>
                <a:latin typeface="Verdana"/>
              </a:rPr>
              <a:t>Komerční (smluvní) zdrav.pojiště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900000" y="1557000"/>
            <a:ext cx="78487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3 сараас дээш оршин суух эрхтэй бү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гадаадын иргэд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Хэрвээ та НЭМД-т хамаарагдах нөхцлийг бүрдүүлээгүй бол БНЧУ-ын худалдааны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даатгалд хамаарагдах үүрэгтэй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- Pojišťovna VZP , a.s. (dále PVZ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- Slavia pojišťov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-  Viktoria Volksbanken pojišťov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- Maxima pojišťov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- Uniqua Pojišťov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dle článku 31 Listiny základních práv a svobod má každý právo na ochranu zdraví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dravotní péče se zpravidla poskytuje na základě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zdravotního pojištění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zinc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teří mají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obyt na území ČR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ší než 3 měsíce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kud nesplňujete podmínky pro účast ve veřejném zdravotním pojištění, máte povinnost uzavřít komerční zdravotní pojištění, které mají oprávnění poskytovat toto pojištění na území Č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990033"/>
                </a:solidFill>
                <a:latin typeface="Verdana"/>
              </a:rPr>
              <a:t>Худалдааны (гэрээний) даатгалын төрлүүд</a:t>
            </a:r>
            <a:r>
              <a:rPr b="1" lang="cs-CZ" sz="2800" spc="-1" strike="noStrike">
                <a:solidFill>
                  <a:srgbClr val="990033"/>
                </a:solidFill>
                <a:latin typeface="Verdana"/>
              </a:rPr>
              <a:t>: </a:t>
            </a:r>
            <a:br>
              <a:rPr sz="3200"/>
            </a:br>
            <a:r>
              <a:rPr b="0" lang="cs-CZ" sz="2800" spc="-1" strike="noStrike">
                <a:solidFill>
                  <a:srgbClr val="990033"/>
                </a:solidFill>
                <a:latin typeface="Verdana"/>
              </a:rPr>
              <a:t>Typy komerčního pojištění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900000" y="1700280"/>
            <a:ext cx="7886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A. 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З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өвхөн шаардлагатай ба хойшлуулшгүй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эмчилгээ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эмчийн үзлэгт орох хэрэггүй, 1 өдрөөс 3 жилийн хугацаатай гэрээ байгуулж болно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хамгийн бага даатгалын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хугацаа нь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эн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дээ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хоног бай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даг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жилийн даатгалын төлбөр 5000–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000,-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зарим гэрээний даатгал Шенгений нутаг дэвсгэрт хүчинтэй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042560" y="1915920"/>
            <a:ext cx="77439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нэг хүнд ноогдох эмчилгээний төлбөр 1 200 000,-, хэрвээ 2 000 000,- хүртэл өсгөвөл даатгалын жилийн хураамж бас өснө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!!!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Гэрээ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ийхээсээ өмнө даатгалын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дотоод жура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 заалтыг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сайтар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судалах хэрэгтэй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900000" y="1557000"/>
            <a:ext cx="78868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. NUTNÁ A NEODKLADNÁ (AKUTNÍ) PÉČE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 - základn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ení potřeba lékařské vyšetření, může se sjednat na dobu od jednoho dne až do 3 let. Pojištění se sjednává na jednotlivé dny, přičemž minimální pojistná doba obvykle činí tři d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jistné je u jednotlivých pojišťoven různé, pohybuje se mezi 5000 – 8000,- Kč ročn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Krytí do výše 1 200 000,- Kč lze navýšit až na 2 000 000,-, ale platíte vyšší pojistn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latí pro území ČR a území ostatních schengenských stát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ůkladně prostudujte pojistné podmínky, neboť tato pojištění mají mnoho výjimek a ome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900000" y="1628280"/>
            <a:ext cx="78868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Урт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хугацааны гэрээт даатг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ал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иж бүрэн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энэхүү даатгалыг зөвхөн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mn-Cyrl-MN" sz="2600" spc="-1" strike="noStrike">
                <a:solidFill>
                  <a:srgbClr val="000000"/>
                </a:solidFill>
                <a:latin typeface="Verdana"/>
              </a:rPr>
              <a:t>„ Zdravotní pojištění cizinců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,,</a:t>
            </a:r>
            <a:r>
              <a:rPr b="1" lang="mn-Cyrl-MN" sz="2600" spc="-1" strike="noStrike">
                <a:solidFill>
                  <a:srgbClr val="000000"/>
                </a:solidFill>
                <a:latin typeface="Verdana"/>
              </a:rPr>
              <a:t>(ZPC)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гэсэн нэрэн доор PVZP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2010.6.1-ээс Slavia pojišťovna хийдэг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3 сараас дээш оршин суух эрхтэй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энэ төрлийн гэрээт даатгалын нөxөн олговорын хэмжээ нь ихэнхдээ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оношлогоо эмчилгээ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1042560" y="1988640"/>
            <a:ext cx="774396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амбулаторийн ба хэвтэж эмчлүүлэх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эмний мөнгө ба эмнэлгийн хэрэгслүүд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жирэмслэл болон төрөлт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эмнэлгийн байгууллагад хүрэх шаардлагаар гарсан замын зардалтай холбоотой зарлагыг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хамарна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900000" y="1628640"/>
            <a:ext cx="78868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даатгалыг 6-аас 24 сар хүртэл хугацаагаар хийж болно. Даатгуулсан бүх хугацааны мөнгийг урьдчилж бэлэн мөнгөөр төлнө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иж бүрэн даатгалын төлбөр нь  даатгуулачийн нас хүйснээс хамаарч өөр өөр байна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даатгалын гэрээг 0-70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ооронд настай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x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үнийг, эмчийн анхан шатны үзлэгт оруулсны үндсэн дээр хийнэ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Анхаар! даатгалын газар даатгал хийх албагүй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900000" y="1628280"/>
            <a:ext cx="78868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KOMPLEXNÍ PÉČE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oto pojištění poskytuje pouze PVZP (od 1. června 2010 i Slavia pojišťovna) pod názvem „Zdravotní pojištění cizinců“ (ZPC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ajišťuje zdravotní péči v rozsahu, který je širší než u pojištění nutné a neodkladné péče (pokrývá např. diagnostickou, léčebnou,ambulantní a ústavní péči, těhotenství a porod, výdaje spojené s dopravou potřebnou k dosažení zdravotnického zařízení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1042560" y="1714320"/>
            <a:ext cx="774396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e určeno pro cizince pobývající na území ČR po dobu delší než 3 měsíc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jištění může být sjednáno na období od šesti měsíců až do tří let a pojištěná osoba může být ve věku od 0 do 70 let/Pozor! Pojišťovna pojistit nemusí!/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ena komplexního pojištění je podstatně dražší a odvíjí se od pohlaví a věku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územní platnost – ČR a ostatní schengenské stá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1042560" y="1714680"/>
            <a:ext cx="7743960" cy="44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эрэв та ямар нэгэн шалтгаанаар 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эрүүл мэндийн даатгалд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амрагдаагүй т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иолдолд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эмч болон эрүүл мэндийн байгуулага эмчилгээний төлбөрийг бэлнээр аль эсвэл төлбөрийг ,, гэрээний үний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,,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 дагуу хийхийг шаард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 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бөгөөд энэ нь нилээдгүй өндөр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эмжээтэй байж бол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юм. Үүнээс гадна </a:t>
            </a:r>
            <a:r>
              <a:rPr b="0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эрүүл мэндийн даатгалд хамаарагдаагүй тохиолдолд БНЧУ-д оршин суух эрх ч хүчингүй боло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x </a:t>
            </a:r>
            <a:r>
              <a:rPr b="0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болзошгүй байдаг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900000" y="1628280"/>
            <a:ext cx="78868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Хэрэв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эрүүл мэндийн даатгалд хамрагдаагүй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болон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эрүүл мэндийн даатгалаас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төлөгддөггүй эмнэлгийн тусламж үзүүлэх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тохиолдол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эмнэлгийн тусламж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үнэ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төлбөртэй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 případě, že osoba není účastna zdravotního pojištění, případně se jedná o zdravotní péči, která není hrazena ze zdravotního pojištění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oskytuje se zdravotní péče za úhradu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1042560" y="1557000"/>
            <a:ext cx="77439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kud z nějakého důvodu nemáte zdravotní pojištění, bude po vás lékař nebo léčebné zařízení požadovat po jakémkoli vyšetření, ošetření nebo zákroku úhradu v hotovosti, nebo péči účtovat ve „smluvních“ cenách, které mohou dosahovat velmi vysokých částe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Kromě toho nesplnění povinnosti mít zdravotní pojištění může být důvodem zrušení platnostivydaného oprávnění k pobytu na území Č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4000" spc="-1" strike="noStrike">
                <a:solidFill>
                  <a:srgbClr val="990033"/>
                </a:solidFill>
                <a:latin typeface="Verdana"/>
              </a:rPr>
              <a:t>Оюута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Засгийн газрын солилцооны хөтөлбөр - эрүүл мэндийн даатгалыг улсаас даан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Европын холбооны улсын оюутан солилцох хөтөлмө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гэрээгүй оюутан - оршин суух хуулийн дагуу эрүүл мэндийн даатгалаа оюутан өөрөө төлн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990033"/>
                </a:solidFill>
                <a:latin typeface="Verdana"/>
              </a:rPr>
              <a:t>Studenti</a:t>
            </a:r>
            <a:r>
              <a:rPr b="1" i="1" lang="cs-CZ" sz="4000" spc="-1" strike="noStrike" u="sng">
                <a:solidFill>
                  <a:srgbClr val="990033"/>
                </a:solidFill>
                <a:uFillTx/>
                <a:latin typeface="Verdan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042560" y="1714680"/>
            <a:ext cx="7743960" cy="44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Existence mezivládní dohody – náklady na akutní léčení ze státního rozpočt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EU a obecné dvoustranné smlouvy – stejné podmínky jako ostatní občan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esmluvní cizina – podmínky dle zákona o pobytu cizinc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Zdroje informa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b8803"/>
                </a:solidFill>
                <a:uFillTx/>
                <a:latin typeface="Verdana"/>
                <a:hlinkClick r:id="rId1"/>
              </a:rPr>
              <a:t>www.cicpraha.org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eb8803"/>
                </a:solidFill>
                <a:uFillTx/>
                <a:latin typeface="Verdana"/>
                <a:hlinkClick r:id="rId2"/>
              </a:rPr>
              <a:t>www.cizinci.cz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eb8803"/>
                </a:solidFill>
                <a:uFillTx/>
                <a:latin typeface="Verdana"/>
                <a:hlinkClick r:id="rId3"/>
              </a:rPr>
              <a:t>www.domavcr.cz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69721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000" spc="-1" strike="noStrike">
                <a:solidFill>
                  <a:srgbClr val="990033"/>
                </a:solidFill>
                <a:latin typeface="Verdana"/>
              </a:rPr>
              <a:t>Эрүүл мэндийн даатгалын төрлүүд</a:t>
            </a:r>
            <a:r>
              <a:rPr b="1" lang="en-US" sz="3200" spc="-1" strike="noStrike">
                <a:solidFill>
                  <a:srgbClr val="990033"/>
                </a:solidFill>
                <a:latin typeface="Verdana"/>
              </a:rPr>
              <a:t> </a:t>
            </a:r>
            <a:br>
              <a:rPr sz="3200"/>
            </a:br>
            <a:r>
              <a:rPr b="0" lang="cs-CZ" sz="3000" spc="-1" strike="noStrike">
                <a:solidFill>
                  <a:srgbClr val="990033"/>
                </a:solidFill>
                <a:latin typeface="Verdana"/>
              </a:rPr>
              <a:t>Typy zdravotního pojištění</a:t>
            </a:r>
            <a:r>
              <a:rPr b="0" lang="cs-CZ" sz="3200" spc="-1" strike="noStrike">
                <a:solidFill>
                  <a:srgbClr val="990033"/>
                </a:solidFill>
                <a:latin typeface="Verdana"/>
              </a:rPr>
              <a:t> 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826560" y="1628640"/>
            <a:ext cx="79599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Чех улсад эрүүл мэндийн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даатгалын хоёр төрөл байдаг: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нийтийн” заавал байх эрүүл мэндийн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даатгал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үүсэх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өхцөл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ь хуулиар өгөгдсөн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1" lang="mn-Cyrl-MN" sz="2600" spc="-1" strike="noStrike">
                <a:solidFill>
                  <a:srgbClr val="000000"/>
                </a:solidFill>
                <a:latin typeface="Verdana"/>
              </a:rPr>
              <a:t>худалдаан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mn-Cyrl-MN" sz="2600" spc="-1" strike="noStrike">
                <a:solidFill>
                  <a:srgbClr val="000000"/>
                </a:solidFill>
                <a:latin typeface="Verdana"/>
              </a:rPr>
              <a:t>гэрээний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mn-Cyrl-MN" sz="2600" spc="-1" strike="noStrike">
                <a:solidFill>
                  <a:srgbClr val="000000"/>
                </a:solidFill>
                <a:latin typeface="Verdana"/>
              </a:rPr>
              <a:t>эрүүл мэндийн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mn-Cyrl-MN" sz="2600" spc="-1" strike="noStrike">
                <a:solidFill>
                  <a:srgbClr val="000000"/>
                </a:solidFill>
                <a:latin typeface="Verdana"/>
              </a:rPr>
              <a:t>даатгал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аатгалын гэрээ байгуулснаар үүсдэг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энгийн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90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үртэл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оног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иж бүрэн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 сараас 3 жил хүртэл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971280" y="1628640"/>
            <a:ext cx="78152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 ČR existují dva typy zdravotního pojištění: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vinné veřejné zdravotní pojištění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 které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zniká při splnění podmínek přímo ze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zákon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komerční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smluvní) zdravotní pojištění, které vzniká uzavřením pojistné smlouvy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základní (do 90 dnů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komplexní (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d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4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ěsíců do tří let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714320" y="-360"/>
            <a:ext cx="697212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Verdana"/>
              </a:rPr>
              <a:t>Нийтийн эрүүл мэндийн даатгал</a:t>
            </a:r>
            <a:br>
              <a:rPr sz="3000"/>
            </a:br>
            <a:r>
              <a:rPr b="0" lang="en-US" sz="3000" spc="-1" strike="noStrike">
                <a:solidFill>
                  <a:srgbClr val="990033"/>
                </a:solidFill>
                <a:latin typeface="Verdana"/>
              </a:rPr>
              <a:t>Veřejné zdravotní pojiště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971280" y="1628280"/>
            <a:ext cx="781524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Ямар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нөхцөлд нийтийн эрүүл мэндийн даатгалд хамаарагдах ёстой вэ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БНЧУ-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д байнгийн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оршин суу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зөвшөөрөлтэ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хэрвээ ажиллаж байгаа албан байгуулага эсвэл ажлын дарга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БНЧУ-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д албан ёсны байнгийн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оршин суу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зөвшөөрөлтэй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бол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эрвээ олон улсын хамгаалалт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azyl-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орогнол эсвэл нөхөн хамгаалалт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– doplňková ochrana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) хүссэн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мөн авсан б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эрвээ БНЧУ-д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x</a:t>
            </a:r>
            <a:r>
              <a:rPr b="0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үлээлгийн зорилоготой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 90 хоногоос дээш эсвэл урт хүгацааны виз олгосон үе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1042560" y="1628280"/>
            <a:ext cx="77439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DO JE ÚČASTNÍKEM VEŘEJNÉHO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ZDRAVOTNÍHO POJIŠTĚNÍ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áte trvalý pobyt na území České republik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jste cizinec – zaměstnanec zaměstnavatele, který má sídlo nebo trvalý pobyt na území ČR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jste žadatel o mezinárodní ochranu (azyl nebo doplňková ochrana), nebo vám byl udělen azyl nebo doplňková ochrana v ČR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9:16Z</dcterms:modified>
  <cp:revision>305</cp:revision>
  <dc:subject/>
  <dc:title>Snímek 1</dc:title>
</cp:coreProperties>
</file>