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5D71-E1CA-45CB-A7FD-3665E8E2C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C108-4C51-4638-9CE1-8A6DC8C2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ADB6-3094-4AE3-A1D0-2C1BBBF3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34CD-C3A9-4EC8-B2D3-28AA7D9A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3A8F-DAAC-4DBD-8945-982C3679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80A-19C2-4BD2-BE65-885148DC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D7C3-4D3A-4B5E-8ED6-A9F298BA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056E-B363-479C-AD3A-479469E3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2E44-5B7F-4330-992F-969596DD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7393-21D1-49ED-B223-87575104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7BC8-BE8A-4900-B4D0-EDD7DF72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922D-9FB2-45B2-9B3E-1D6B2E8D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96F8-D231-4289-9AD8-F2B1B8F3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7713-BCEB-4B87-9D8E-A10DD8D6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4E71-9538-4FF9-90F6-5CF0428E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2C7A-CC81-4426-87D7-85A2C388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330A-E431-4B34-B59B-56B09DF9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3E76-5388-427C-BFB9-CBE5DEE1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DF1B-AB76-4024-91A8-A3A15096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CCF4-E4F8-4E7D-8D5F-95194435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2EEB-4C9F-4718-A6D1-49F6E054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07538-7FDA-458A-9A12-2F107F83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33CAD-27F4-4623-8C4F-B04DAA43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D0192-46E4-4218-A786-76B52BF3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8E9D2-B73F-4C90-B85C-AA03CBD0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1976F-10C8-4F29-8875-2F100228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6DC7B-C120-4672-8CD1-6D8793C5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724CD-8E45-4E82-9BE4-CD6A0DA9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FAFA1-2A53-4CC6-85E2-D0EF6B40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7B46C-8CBE-49E2-A88A-46E781F0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60FE-2DAA-46DD-86F0-F6FDCAA5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62D7D-26F4-45D9-A3C4-14B52DCB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62954-B244-499D-A67B-D5F8D64C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D1940-C1D8-4143-9359-9C4E52E5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7F71C-A377-4251-AA55-0A422F5D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77601-8093-4032-9DBB-1DC66757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86C89-75EB-4E39-86F0-DBBE7B30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76DAC-E100-41B6-9200-D5628C04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2713D-79ED-4BE4-B17A-704E12AB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C37DB-4D3C-4636-9FF7-D6A1277B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8F2DD-A619-4D83-BA54-E93132D3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34FF-9A35-4224-B643-FD361A33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DB658-3A7B-461A-B8EF-CEE0F1EE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F9B74-56CE-4C99-BF19-AABA558A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6DEDA-5F31-4D04-8440-7ADF4864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986D0-2400-46A2-A405-ABEFD7C1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1AF98-E453-4F28-A15A-678078DC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48DD0-8701-45A1-99D4-4506192B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CBE95-B73C-4722-B32B-0041F520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AA7D2-6E0F-4F21-BD5A-7739F2E9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2C8BD-94DA-48B1-823B-4FEDE810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A9728-047F-41F7-9213-214AF0F6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D6C2-92A3-4A8A-A9EF-887C5CDA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ED7B4-7C42-4134-AADE-F12251F0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6F2EC-9745-4623-9D2D-8683A666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2823D-BD1C-4C5F-BF12-FED924E4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13944-863F-4FB1-A618-AA9C8660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8F71F-743E-445B-9DF4-DCF31494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FC1FA-A599-40E5-9E75-CD196058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ED148-C4E1-4973-8ED2-811A967F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CABC-1218-4EC1-8538-E3AC5C0D00D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94EE-A1AC-46A5-B045-0FCAACA71E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6712-E8A4-452C-910E-1EEE18693D83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7946-64D6-443E-8BA3-B5BE34C76C43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9A7B-F23A-4DBA-931E-BC2372982268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B52F-47D2-4B00-AED8-F0285287BFF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0BC1-8479-4365-8ACC-CFF5D38E555B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B92B-0501-4C04-A729-0B367BD12697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5ED2-BDDA-4A1F-95E0-DACC55E2E785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AEB4-5313-40C9-B2B3-B64B20242062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4365360"/>
            <a:ext cx="585792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,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ociální tlumočení ve styku s cizinci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"–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obyty cizinců na území Č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ltangerel 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14320" y="333360"/>
            <a:ext cx="652932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0033"/>
                </a:solidFill>
                <a:latin typeface="Verdana"/>
              </a:rPr>
              <a:t>Typy pobytu cizinců na území Č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928800" y="1844640"/>
            <a:ext cx="7858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bčané EU a jejich rodinní příslušníci : přechodný x trvalý pobyt (viz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on č. 326/1999 S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- „zákon o pobytu cizinců“ – novela od 1.1. 2011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bčané z tzv. třetích zemí: přechodný x trvalý pobyt (viz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on o pobytu cizinců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adatelé o udělení mezinárodní ochrany x azylanti x osoby požívající doplňkové ochrany (zákon č. 325/1999  Sb. - „zákon o azylu“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14320" y="274680"/>
            <a:ext cx="69721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Pobyt občanů tzv. třetích zemí na území ČR</a:t>
            </a: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900000" y="1773000"/>
            <a:ext cx="7886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řechodný poby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Times New Roman"/>
              </a:rPr>
              <a:t>Krátkodobý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…bez víza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vízum průjezdní, letištní,výjezdní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vízum do 90dnů (krátkodobé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cs-CZ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Times New Roman"/>
              </a:rPr>
              <a:t>Dlouhodobý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…vízum zvláštní, diplomatické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vízum nad 90dnů (dlouhodobé)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ovolení k dlouhodobému pobytu.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rvalý pobyt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…povolení k trvalému pobytu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* status dlouhodobě pobývajícího rezidenta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zdělávání na státní škole je bezplatné, platíme pouze za stravování ve školní jídelně, za školní družiny, kroužky a na středních školách za ubytová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třední škola pro cizince zdarma, pokud studují v češtině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Školné se plat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pouze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v soukromých školá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Přechodný poby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826560" y="1699920"/>
            <a:ext cx="79599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A) Krátkodobý poby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. bez víza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– seznam tzv. třetích zemí bez vízové povinnosti (nařízení Rady č.539/2001 – tzv. „pozitivní seznam“) http://www.mvcr.cz/clanek/podminky-vstupu-a-pobytu-cizincu-na-uzemi-ceske-republiky-701621.aspx?q=Y2hudW09NQ%3d%3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cs-CZ" sz="2300" spc="-1" strike="noStrike">
                <a:solidFill>
                  <a:srgbClr val="000000"/>
                </a:solidFill>
                <a:latin typeface="Verdana"/>
              </a:rPr>
              <a:t>s vízem 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– seznam států, které mají vízovou povinnost viz. Nařízení Rady (ES) č. 539/2001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cs-CZ" sz="2300" spc="-1" strike="noStrike" u="sng">
                <a:solidFill>
                  <a:srgbClr val="000000"/>
                </a:solidFill>
                <a:uFillTx/>
                <a:latin typeface="Verdana"/>
              </a:rPr>
              <a:t>Krátkodobé vízum (vízum do 90 dnů</a:t>
            </a:r>
            <a:r>
              <a:rPr b="1" lang="cs-CZ" sz="2300" spc="-1" strike="noStrike">
                <a:solidFill>
                  <a:srgbClr val="000000"/>
                </a:solidFill>
                <a:latin typeface="Verdana"/>
              </a:rPr>
              <a:t>)  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– žádost se podává zpravidla na zastupitelském úřadu, nutné doložit účel pobytu, zpravidla </a:t>
            </a:r>
            <a:r>
              <a:rPr b="0" lang="cs-CZ" sz="2300" spc="-1" strike="noStrike" u="sng">
                <a:solidFill>
                  <a:srgbClr val="000000"/>
                </a:solidFill>
                <a:uFillTx/>
                <a:latin typeface="Verdana"/>
              </a:rPr>
              <a:t>Jednotné schengenské vízum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Žádost o prodloužení na území se podává na cizinecké polic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042560" y="1700280"/>
            <a:ext cx="77439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) Dlouhodobý poby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vízum k pobytu nad 90 dnů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(dlouhodobé vízum) žádost na zastupitelském úřadě místně příslušné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yp C+D i pro Schengenský prostor, typ D jen pro Č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hláška č.462/2008 Sb. Místní příslušnost zastupitelských úřadů - restrik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http://www.mzv.cz/jnp/cz/informace_pro_cizince/mistni_prislusnost_zu_v_rizeni_o_vizum_a/index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042560" y="1628280"/>
            <a:ext cx="7743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Rozhoduje ministerstvo vnitra, povinnost doložit účel pobytu (§33 výjimka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Od 1.1. 2011 doba platnosti na 6 měsíců (§30 ods.3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Účel podnikání – vždy povinné interview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§53 ods.4: ZÚ písemně informuje cizince o důvodech nepřípustnosti žádosti a vrátí správní poplatek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§56 ods.4: ministerstvo písemně cizince informuje o důvodech neudělení dlouhodobého víza a jeho právu podat žádost o nové posouzení důvodů neudělení DV 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do 15 dnů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od doručení rozhodnut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900000" y="1628280"/>
            <a:ext cx="78868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2. povolení k dlouhodobému pobytu – žádá cizinec na území ČR pro pobyt delší než 6 měsíců navazující na dlouhodobé vízum (tzv. prodloužení pobytu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Nutné zachovat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účel pobytu (§42 ods.1), rozhoduje MV, lhůta podání nejdříve 90 -nejpozději 14 dnů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dlužování DP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oté již lze měnit účel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§4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měna účelu na podnikání až po 2 letech pobytu na území Č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971280" y="1628280"/>
            <a:ext cx="7848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výjimky: žádost o DP bez předchozího pobytu na vízum na ZÚ: účel společného soužití rodiny, studium, vědecký výzkum (§42, ods.3). http://www.mzv.cz/jnp/cz/informace_pro_cizince/mistni_prislusnost_zu_v_rizeni_o_vizum_a/index.htm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Vyhláška č.462/2008 Sb. Místní příslušnost zastupitelských úřadů – restrikce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Lhůta k vyřízení 60 dnů (společné soužití rodiny – 270 dnů ode dne podání žádosti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Verdana"/>
              </a:rPr>
              <a:t>Novinka!!! žádost o nové povolení nutno podat osobně (§169 ods.14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0033"/>
                </a:solidFill>
                <a:latin typeface="Verdana"/>
              </a:rPr>
              <a:t>Dlouhodobý pobyt typ „Zelené karty,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042560" y="1915920"/>
            <a:ext cx="77439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0" indent="-60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d 1.1. 2009 zaveden systém zelených karet („2 in 1“ – povolení k pobytu a k zaměstnání dohromad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3 kategori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lphaUcParenR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Š kvalifikace, klíčový personál, až 3 rok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lphaUcParenR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inimálně SOU, až 2 rok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lphaUcParenR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statní – bez kvalifikace, až 2 roky – bez možnosti prodlouž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entrální evidence volných pracovních míst pro držitele zelené karty </a:t>
            </a:r>
            <a:r>
              <a:rPr b="0" lang="cs-CZ" sz="2400" spc="-1" strike="noStrike">
                <a:solidFill>
                  <a:srgbClr val="ccccff"/>
                </a:solidFill>
                <a:latin typeface="Verdana"/>
              </a:rPr>
              <a:t>http://portal.mpsv.cz/sz/zahr_zam/zel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0" indent="-60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uze pro příslušníky 12 zemí </a:t>
            </a:r>
            <a:r>
              <a:rPr b="0" lang="cs-CZ" sz="2400" spc="-1" strike="noStrike">
                <a:solidFill>
                  <a:srgbClr val="ccccff"/>
                </a:solidFill>
                <a:latin typeface="Verdana"/>
              </a:rPr>
              <a:t>http://www.mvcr.cz/clanek/zelene-karty.aspx?q=Y2hudW09Ng%3D%3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o konce roku 2010 vydáno 51 karet (78% zamítnuto – důvod: neodpovídající vzdělání, nesplnění podmínek), 80% žadatelů z Ukrajin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Efektivita projektu spekulativ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Slovíčka k tématu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971280" y="1844280"/>
            <a:ext cx="78152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Krátkodobý pobyt (krátkodobý vízum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do 90 dnů – typ C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Богино хугацаагаар оршин суу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Dlouhodobé vízum (nad 90 dnů)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Удаан хугацаагаар оршин суу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Účel pobytu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Оршин суухын зорилого ( гэр бүлийн, оюутны гэх мэт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Trvalý pobyt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Байнгын хугацаагаар оршин суу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0033"/>
                </a:solidFill>
                <a:latin typeface="Verdana"/>
              </a:rPr>
              <a:t>Dlouhodobý pobyt typ „Modrá karta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971280" y="1714680"/>
            <a:ext cx="7815240" cy="44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 vysoce kvalifikované migranty (ukončené VŠ vzdělání, nebo VoŠ min.doba studia 3 roky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Žádost se podává na ZÚ, i na území Č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odmínky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acovní smlouva na dobu min. 1 ro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ýše hrubé roční mzdy min. 1,5 násobku průměrné hrubé roční mzdy stanovené vyhláškou MPSV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oba platnosti max.2 roky, lze prodlouž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měna zaměstnavatele během prvních 2 let jen se souhlasem MV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042560" y="1844640"/>
            <a:ext cx="77439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 5 letech pobytu v EU možnost získat trvalý pobyt/postavení dlouhodobě pobývající residenta v Evropském společenství, přičemž poslední 2 roky musí pobývat  jako držitel modré karty na území České republik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o doby 5 let se započítávají pobyty na modrou kartu z různých členských států Evropské unie.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Umožněno sloučení rodiny ihn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droj informac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Mgr. Eva Dohnalová, InBáze BERKAT o.s – přednáška o pobytu 20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www.mvcr.c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www.cizinci.c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042560" y="1714680"/>
            <a:ext cx="7743960" cy="44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Letištní vízum (typ A)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Нисэх онгоцны буудал дээр дамжин өнгөрөх ви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růjezdní vízum (typ B)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Дамжин өнгөрөх виз - 5 хоногийн хүчинтэ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ízum typu C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- Шенгений нутаг дэвсгэр дээр зорчих ви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ízum typu D –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Зөвхөн БНЧУ-ын нутаг дэвсгэрт зорчих виз, 5 хоногийн Шенгений  дамжин өнгөрөх ви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loučení rodiny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гэр бүлий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aměstnání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ажил эрхлэ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odnikání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бизнес эрхлэ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tudium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 сур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ýzkum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–  эрдэм шинжилгээний ажил хий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042560" y="1844640"/>
            <a:ext cx="77439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Občanství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 – Иргэншил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Povolení k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dlouhodobému/trvalému pobytu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Богино / байнгын хугацааны оршин суухын зөвшөөрө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Povolení k zaměstnání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Хөдөлмөр эрхлэх зөвшөөрө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Úřad práce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Хөдөлмөрийн товчоо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Cizinecký zákon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Гадаад иргэдийн зохион байгуулах хуу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Občany EU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 Европын Холбооны иргэ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Občany mimo EU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státní příslušníky třetích zemí) – Европын Холбооны бус (гуравдагч орнуудын) иргэ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chegenský prostor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schegen) – Шенгений нутаг дэвсгэ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042560" y="1699920"/>
            <a:ext cx="77439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Volné pracovní místo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Ажилын сул орон то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Zdravotní pojišťovna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Эрүүл мэндийн даатга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astupitelský úřad ČR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БНЧУ-ын элчин сайдын я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ýjezdní příkaz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- Гарч явах тушаал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042560" y="1714320"/>
            <a:ext cx="774396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400" spc="-1" strike="noStrike">
                <a:solidFill>
                  <a:srgbClr val="000000"/>
                </a:solidFill>
                <a:latin typeface="Verdana"/>
              </a:rPr>
              <a:t>VZP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(veřejné zdravotní pojišťovna)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Бүх нийтийн эрүүл мэндийн даатгал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Улсын бүртгэлтэй нийт 13 эрүүл мэндийн даатгалын газар байдгаас хамгийн өргөн дэлгэр тархсан эрүүл мэндийн даатгал нь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ZP (všeobecná zdravotní pojišťovn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ZP (všeobecná zdravotní pojišťovna) -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рөнхий эрүүл мэндийн даатгал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Хөдөлмөр эрхлэх (ногоон эрүүл мэндийн карт), байнгын оршин суух зөвшөөрөлтөй (цэнхэр эрүүл мэндийн карт) үед энэ төрлийн даатгалд хамаарагда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Komerční zdravotní pojišťovna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арилжааны эрүүл мэндийн даатга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Cizinecká policie – oddělení pobytových agend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Гадаад иргэдийг хариуцсан цагдаагийн байгуула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Ministerstva vnitra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Дотоод я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Odbor azylové a migrační politiky 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орогнол ба шилжин суурьших бодлогын хэлтэс (дотоод яамны цагаачилалын алб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8:19Z</dcterms:modified>
  <cp:revision>223</cp:revision>
  <dc:subject/>
  <dc:title>Snímek 1</dc:title>
</cp:coreProperties>
</file>