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2C7-994A-42AA-AE78-F29F04B9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F0E-1CAB-405B-B02F-941B3E8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F6C-5F3F-4915-8A4C-56F683D5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5C3-423A-41D4-B566-08127078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2D3-E32A-48C5-B9AF-903330CC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133-346D-4BAA-96D3-6E7D10E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356-B8FC-4326-8EF3-4ACD431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AAE4-5CA6-4BC9-A9DC-027BB2DF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609-5C5F-4046-9F5A-6E13CC9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D22-85A3-40EE-9F3D-ED627B09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748F-7063-4AEA-8D76-1D911C9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39DD-7B75-4132-B1CC-0FF9E94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22C3-7388-4FCF-854D-F4B95FF3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3A82-8AC9-4D78-97E4-F362386E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349-B4E5-4E59-91A6-E68CA56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7122-5116-4111-BC11-25F3171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6836-F15E-4626-A981-1D5CC28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C29-0705-4E40-A368-44B9E94E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F2A-CA06-44EE-9344-BAA1297E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D84-A9F4-4BC0-9666-8FC0EFFE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CF70-F99F-4BF2-90FC-6C55C180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27F9-7167-47CC-9337-8BEA04FF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BD4B-15FD-4763-B255-647D079C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8B53-E800-42E1-ADF7-661C9C92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2F95-C5BC-4725-82EC-048F9B0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0985-5E00-43D6-A551-E1C98516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ACD6-3229-4038-A793-4E16482C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2565-7BA5-4585-8E84-6447D5E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A3F3-837B-4C1B-8456-B820FDF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79F2-9E98-422C-9C4F-09811D3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A54-517C-4C0A-B200-18516CE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777B-14FB-4214-80D9-BCF01F74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53AB-143B-4C73-8863-F826D198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70E0-FE43-4ABF-96AB-8521030E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A617-AC25-4ED8-93A9-CB98D6AF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6DE2-F2DD-412D-83AF-D64ED504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DB53-0122-4866-9D46-8DDD3800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7C81-37D4-45B2-8C91-E3F49CC8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DA60-16A1-4DEE-885A-7B0354D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3C7DA-396D-4125-A4A7-24A2476A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7613-50FC-4C4B-81D8-D0E9C9A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E45-3870-4271-A434-4D8970A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995D-F270-43C9-B7F1-27A1AFB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F96D-941E-4D26-BB7B-930146F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11EB-F5F4-4E61-BC8B-8CB5FA59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4FF6A-404B-4878-A96E-9C7C5557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7595-1345-4E1A-A9E2-FA95A1FD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0062-80AB-4AE8-AC96-CD53FFA5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6C62-B804-4C43-A639-22C669E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4A48-6704-4EE4-9652-02CFC3F7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AFF2-3742-4E47-A9C3-65253BCB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0A9C-D311-45B6-ABD3-E39849DB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E33-1332-453E-BF65-71E030B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181B8-A126-466D-8102-ABDF8FB1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4C1D-8897-43AA-B4D2-18FD428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E1CF-8660-45F4-9F65-D9D3FC9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314F-B7B4-4152-9C27-B436197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A00F-8B07-4F02-BC18-FE5223A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DB61-F05B-4622-89D1-11348931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977E-87BF-467F-9D72-E36E030F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E1E-25D5-4794-9192-F16BDA176E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96AC-2AC3-4C62-8937-C42A93046A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3B04-AC6C-4DC9-A0F9-BFF391FB13F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B255-DC2F-403A-B805-E04C33955ED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B81-D9BD-4D00-B196-273BA3A23BF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15F4-DCFB-4872-9F59-EFB0EB1A25B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BDBB-EA21-492A-A537-531A00EED7C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F694-1351-4219-B3A8-103847C5B1C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A1C-1EFE-4AFE-A9BA-DD3B8C83E08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1E8-EB40-4752-AC16-9995265CD7C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ortal.mpsv.cz/sz" TargetMode="External"/><Relationship Id="rId2" Type="http://schemas.openxmlformats.org/officeDocument/2006/relationships/hyperlink" Target="http://www.mpsv.cz/" TargetMode="External"/><Relationship Id="rId3" Type="http://schemas.openxmlformats.org/officeDocument/2006/relationships/hyperlink" Target="http://domavcr.cz/" TargetMode="External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2060640"/>
            <a:ext cx="7743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zinci, kteří nemají trvalý pobyt na území ČR, musí mít za účelem podnikání povolení k pobytu (dlouhodobé vízum nebo povolení k dlouhodobému pobyt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měnit účel pobytu z důvodu ztráta práci – moct požádat o změnu účelu pobytu na podnikání až po 2 letech pobytu v ČR. Žádost podá na pracoviště MV O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4 druhy živnost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olná –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ázaná -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emeslná -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cesovaná - živnosti koncesovan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ná ži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ačí splnit 3 základn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věk minimálně 18 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bezúhon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ilost k právním výkonů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69992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ázaná a řemeslná živ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ejné podmínky jako u volné živnosti a navíc musíte mít požadované vzdělání (kvalifikaci), případně praxi (pracovní zkušenosti). Konkrétní podmínky jsou popsané v příloze živnostenského záko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latná právní úprava rozeznává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ivnosti ohlašovac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ohlásit živnosti na živnostenskému úřadu a osvědčuje se vydáním výpisu z živnostenského rejstříku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živnosti koncesované,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nichž je právo podnikat vázáno na souhlasné stanovisko věcně příslušného orgánu státní správy; vzniká udělením koncese a osvědčuje se vydáním výpisu z živnostenského rejstřík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hlášení nebo žádost o koncesi je možno podat osobně (písemně, elektronicky, resp. prostřednictvím kontaktního místa veřejné správy) u kteréhokoliv příslušného obecního živnostenského úřadu (obecním živnostenským úřadem je odbor obecního úřadu obcí s rozšířenou působností) nebo p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střednictvím služby Czech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Jak postupovat a co budete potřebovat pro ohlášení živnost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699920"/>
            <a:ext cx="77439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plněny „Jednotný registrační formulář“ nebo formulář „Ohlášení živnosti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ůkaz totožnost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pis z rejstříku trestů – ne starší než 3 měsíce, pokud příslušný stát takový doklad nevydá, stačí čestné prohlášení učiněné před notářem nebo úřadem státu, jehož jste občan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lad o místu podnikání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lad o zaplacení poplatku (1 000 K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voleni k pobytu na území ČR (dlouhodobé vízum nebo povolení k dlouhodobému pobyt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988640"/>
            <a:ext cx="77439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 živnosti vázané a řemeslné (a také u   koncesované živnosti) navíc musíte dolož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lad o své odborné způsobilosti (nebo odpovědného zástupce – to je někdo, kdo má praxi v oboru, ve kterém chcete podnikat, a zaručí se za vá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je nutné také prohlášení odpovědného zástup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okumenty musí byt úředně přeloženy d českého jazy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ivnostensky úřad je součástí městského úřadu nebo magistrátu. Živnostenský úřad do 5 dnů provede zápis do živnostenského rejstříku. Živnostenský úřad vám potom vydá výpis z živnostenského rejstříku – to je doklad o vaši podnikatelské činnosti (dříve to byl živnostensky list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 ohlašovaných živností provede živnostenský úřad zápis do živnostenského rejstříku do 5 dnů ode dne doručení ohlášení a vydá podnikateli výpis, splní-li ohlašovatel podmínky stanovené zákon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84464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 koncesované živnosti živnostenský úřad rozhodne o žádosti o koncesi zpravidla do 60 dnů ode dne doručení žádosti obecnímu živnostenskému úřadu, pokud jsou splněny všechny náležitosti a do 5 dnů ode dne nabytí právní moci rozhodnutí o udělení koncese provede zápis do živnostenského rejstříku a podnikateli vydá výp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69721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Registrace na další úřad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kresní správa sociálního zabezpečeni (OSSZ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řihlášení k důchodovému (povinně) a nemocenskému (dobrovolně) pojištění (= sociální pojištění). Přihlásit se musíte do osmého dne následujícího měsíce po měsíci, ve kterém jste začali podnik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ké formuláře budete vyplňovat na OSS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známení o zahájení (opětovném zahájení) samostatné výdělečné činnost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hláška OSVČ k účasti na důchodovém pojištěn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hláška k dobrovolné účasti na nemocenském pojištěni OSVČ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úřad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řihlášení k daním, tento úřad vám přidělí DIČ (daňové identifikační číslo). Přihlásit se musíte do 30 dnů ode dne, kdy jste získali povoleni k podnik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dravotní pojišťovna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veřejné zdravotní pojištění. Přihlásit se musíte do 8 dnů od zahájení podnikatelské činn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řad prác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hlášení volného pracovního místa. Tady se přihlásíte pouze v případě, že budete chtít někoho zaměstnat (= budete mít zaměstnanc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a všechny úřady musíte hlásit všechny důležité změny v průběhu podnikání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915920"/>
            <a:ext cx="774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Činnost hlavní  - үндсэн ажил ( гол орлого олж байгаа үндсэн ажил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Činnost vedlejší -  зэргэлдээ үйл ажиллаг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Finanční úřad - албан татбарын алб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Fyzická osoba - хувиараа хөдөлмөр эрхлэгч буй ху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этгээ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Živnostenské podnikání cizinc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chcete začít podnikat a změnit účel pobytu – například ztratíte práci, už nebudete mít povolení k pobytu za účelem zaměstnání, a proto musíte požádat o nové povolení k pobytu: můžete požádat o změnu účelu pobytu na podnikání až po 2 letech pobytu v ČR. Žádost podáte na pracoviště Ministerstva vnitra O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 musíte doložit na pracovišti MV OAM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ádost povolení k pobytu za účelem podnik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o zdravotním pojištění -musíte mít zařízené a zaplacené (najednou celé dopředu) zdravotní pojištění na celou dobu povolení k pobytu, pokud chcete požádat k dlouhodobé vízum nebo povolení k dlouhodobému pobytu za účelem podnikání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00000" y="1714320"/>
            <a:ext cx="78868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is z živnostenského rejstříku a také doklad o tom, že nic nedlužíte na FÚ nebo OSS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kázat stavenou výši příjm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Obchodní společ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Právní úprava obchodních společností je obsažena v zákoně č. 513/1991 Sb., obchodní zákoník, v platném znění. Obchodní společnosti jsou právnickými osobam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Cizinci musí mít za účelem podnikání prostřednictvím obchodní společnosti vydáno oprávnění k pobytu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 účelem účasti na právnické osobě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(při podání žádosti o vízum nad 90 dnů/povolení k dlouhodobému pobytu prokazuje cizinec účel pobytu výpisem z obchodního rejstříku).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éto oprávnění k pobytu se uděluje pouze členům statutárních orgánů právnické osob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o obchodního rejstříku se zapisují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chodní společnosti a družstv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ahraniční osoby podle § 21 odst. 4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yzické osoby, které jsou podnikateli a mají bydliště v České republice a osoby podle § 21 odst. 5, které podnikají na území České republiky, pokud o zápis požádaj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alší osoby, stanoví-li povinnost jejich zápisu zvláštní právní předp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chodní rejstřík je každému přístupný veřejný seznam vedený krajským soudem (tzv. rejstříkový soud) podle sídla obchodní společ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ždý má právo do něj nahlížet, pořizovat si z něho kopie a výpisy. Zapisují se do něj zákonem stanovené údaje o podnikatel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http://www.mpsv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ww.cizinci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http://domavcr.cz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čebnice pro cizince - Vaše šance jít do prác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2060640"/>
            <a:ext cx="7743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Jednotný registrační formulář - Нэгдсэн бүртгэлийн хууд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Nebytové prostory -  худалдаа эрхлэх бай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Okresní správa sociálníh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zabezpečeni (OSSZ) - Окресын нийгэмийн хангамжийн байгууллаг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rávnická osoba - хуулийн этгээд  (худалдааны компаниудыг төлөөлөж байгаа хуулийн этгээд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rovozovna - бизнес хийж байгаа газ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ředmět (obor) činnosti - бизнес хийж байгаа үйл ажиллагааны тодорхой нэр за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Výpis z živnostenského rejstříku - лицензээр аж ахуй эрхлэх газрын тодорхойло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vázaná - хязгаарласан хэлбэртэй арилж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řemeslná - гар үйлдвэрийн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988640"/>
            <a:ext cx="77439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koncesovaná - зєвшєєрсєн, эрх олгосон (лиценз)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volná - чөлөөт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enské oprávnění - арилжаа (бизнес) зөвшөөрөл, бүрэн эрх олго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enský úřad - арилжааны (бизнес) албан газа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71640" y="2204640"/>
            <a:ext cx="7743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ník = OSVČ = podnikat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podnikání </a:t>
            </a:r>
            <a:r>
              <a:rPr b="0" lang="cs-CZ" sz="2800" spc="-1" strike="noStrike">
                <a:solidFill>
                  <a:srgbClr val="000000"/>
                </a:solidFill>
                <a:latin typeface="Viner Hand ITC"/>
              </a:rPr>
              <a:t>&gt;&gt;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ohlášení živnosti – živnostenský úřad </a:t>
            </a:r>
            <a:r>
              <a:rPr b="0" lang="cs-CZ" sz="28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oprávn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836640"/>
            <a:ext cx="697212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PODNIKÁNÍ V Č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oba, která samostatně vykonává výdělečnou činnost, tzn. podniká či provozuje jinou hospodářskou činnost, se označuje jako osoba samostatně výdělečně činná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Je několik možnosti jak podnik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 jako fyzická osoba/OSVČ – nejčastěji živnostnici (živnostenské oprávněn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. jako právnická osoba – obchodní společnosti (například s. r. o.) nebo družst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 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Živnostenské podnikání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2204640"/>
            <a:ext cx="77439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podnikání v ČR upravuje zákon č. 455/1991 Sb., o živnostenském podnikání v platném zn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zinci s trvalým pobytem a azylanté tak mají v oblasti živnostenského podnikání stejné postavení jako občan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8:29Z</dcterms:modified>
  <cp:revision>283</cp:revision>
  <dc:subject/>
  <dc:title>Snímek 1</dc:title>
</cp:coreProperties>
</file>