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19B-A604-4D70-9681-F00059C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E29-CD6F-4502-873B-1DB4FB6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C96-0D56-4E24-9A8A-298C7804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848-87E0-4367-ABA2-7E9003C0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B46-D7FD-41AF-BA04-06B9BA9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411-48C8-4A61-A612-41094D1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A4A-1443-4506-89B0-0D24DAC4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DCB9-7E3F-4743-B457-0B0A8C2D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EF9-9ACD-4FCF-B4A3-D732C06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DB6A-34FB-4B85-8216-8BFCE282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67AB-F1B9-4296-BB00-B5B8A95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482-6B85-4E64-A5E5-F77B3CE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B2FF-DA47-4D03-8798-244C1693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E84-6785-4172-AE6C-C6C2A9A6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239C-5C7F-48C1-A9E7-511C1476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8A60-BB3F-4A55-A399-FE48186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38C-F36C-42A2-9C06-4D2B378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45F6-7015-4C49-AE2D-5DFA752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2B7-A98F-4829-BBAA-44AEE8A5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AA2-908F-4199-982C-0A1EA86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341-85EA-4101-B98D-9DCFE2E4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C60D-1751-428E-B48E-B035F7D0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F48D-7E53-44DD-B3EC-FAF3C2E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7FF0-F24D-4B5D-95D0-549E3811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ED47-8A16-42C5-BDAD-84ED6F7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CDD8-CD9A-493A-BAE9-306B39E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ED26-D5C9-45F1-A9D1-E6E9C37F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56BB-4AA3-4AAE-8D7E-34261F9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41CC-45D4-4803-A351-CC7FF93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A571-4080-4145-8DB9-9EB9D72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163-9652-442B-ACE8-96147B6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550A-3D82-455C-B2AD-ED72C3F7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EF51-D3E1-467E-95C3-3F357085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1DD4-B55D-4CAD-8B9C-EB8F28F1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C34D-36B0-4606-9DC4-580A82AB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2292D-64ED-4966-81F9-3EEC8F29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3266-A17D-4A7B-974C-0FCC694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C88D-DE80-4DEB-99DA-6FC16298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CD01-A615-4549-A984-86355E70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F423-1112-4C69-B0F3-2B92D6E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1419-FDE0-4DD8-AAE8-5AC7561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FD7-0530-40EB-9C0A-25D7EC0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5872-75B2-45BD-8EAF-0CEA0DC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A91B-CDFD-42CB-AC08-01F4A80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3A9B-A129-47BE-93E6-D235C44E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3D38-1479-4066-B261-DDF145D3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B96D-B81D-45A6-A4FE-27D0B892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B5741-1471-4310-AAB1-7B1313BC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FC8E-6928-4C34-AFF8-9076E99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BE8A-A2A1-4525-9F28-E3A84D15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95BC-0BE2-488B-B485-F3DF624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7B2F-5369-4BA5-BC41-4142E60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F42-A68F-4403-82F4-20ED27E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97E8B-E147-46D0-AF20-C45098A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ABA5-D8FD-4F28-BBC1-70A61D9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C6FF4-B4B0-4A1D-9AD8-6E249B8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67BB-6B63-4760-A3B1-99F0A2E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457E-B356-4DD6-B49E-69BE33F6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DA16-3136-4055-A6A0-AC486DFF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1123-EE61-4BD1-A1CB-B931091C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5FD-FE83-4728-97A2-8227C1BF5F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136-8BD1-42A5-B42B-D372176F98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DF98-FB2D-4AFA-A267-D2EC169E5FC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DF5-4C0E-4D39-BD2E-4D6CEC7AFFA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2D8-7549-41E1-968F-16D8863A93D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8D0-5D13-4344-8699-EC15FB92EAB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853-BB9D-4356-85EB-01071459006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27F-5C80-4465-8036-3705B5CAFAF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7C26-1A14-423B-8D03-A2EA37BEE7D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6A7-9B03-47F8-9E19-482182E384F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eta-os.cz/" TargetMode="External"/><Relationship Id="rId2" Type="http://schemas.openxmlformats.org/officeDocument/2006/relationships/hyperlink" Target="http://www.inkluzivniskola.cz/" TargetMode="External"/><Relationship Id="rId3" Type="http://schemas.openxmlformats.org/officeDocument/2006/relationships/hyperlink" Target="http://www.cizinci.cz/" TargetMode="External"/><Relationship Id="rId4" Type="http://schemas.openxmlformats.org/officeDocument/2006/relationships/hyperlink" Target="http://www.icm.cz/" TargetMode="External"/><Relationship Id="rId5" Type="http://schemas.openxmlformats.org/officeDocument/2006/relationships/hyperlink" Target="http://www.nvf.cz/" TargetMode="External"/><Relationship Id="rId6" Type="http://schemas.openxmlformats.org/officeDocument/2006/relationships/hyperlink" Target="http://www.zdroj.cz/vzdelani/materske-skoly/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436640"/>
            <a:ext cx="58579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- školství a vzdělá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teřská škola je určena pro dětí od 3 -6 let vě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edškolnímu vzdělávání se přednostně přijímají děti v posledním roce před zahájením povinné školní docház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 mateřské školy se děti přijímají na žádost rodičů (zákonných zástupců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tě může být přijato k předškolnímu vzdělávání i v průběhu školního ro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Цэцэрлэгийн эрхлэгч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г цэцэрлэгт хүлээж авахыг шийдвэрлэнэ, зарим тохиолдолд хүүхдийг туршилтын хугацаагаар хүлээж авахаар тогтоодог бөгөөд энэ хугацаа 3 сар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ийн шинэ жилд хүүхдүүдийг хүлээж авах тухай өргөдөл гаргах газар, огноо ба хугацааг цэцэрлэгийн эрхлэгч тогто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26560" y="1773000"/>
            <a:ext cx="7959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Ředitel mateřské škol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hoduje o přijetí dítěte do mateřské školy, popřípadě o stanovení zkušebního pobytu dítěte, jehož délka nesmí přesáhnout 3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noví místo, termín a dobu pro podání žádostí o přijetí dětí k předškolnímu vzdělávání pro následující školní r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суурь боловсролд орохоос өмнө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үүхдийн жигд биш хөгжлийн тэнцүүлэхэд туслах ба боловсролын тусгай хэрэгцээтэй хүүхдүүдэ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сургуулийн өмнөх боловсрол нь  сурган хүмүүжүүлэх тусгай халамж олг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napomáh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rovnávat nerovnoměrnosti vývoje dět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řed vstupem do základního vzdělávání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peciálně pedagogickou péči dětem se speciálními vzdělávacími potřeb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ийн боловсрол, ажиллах нөхцлүүд, хооллолт, эрүүл мэнд ба аюулгүйг анхаар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гаа байда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хөлсийн тогтоомж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ухай дэлгэрэнгүй мэдээллийг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ŠMT-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й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14/2005 Sb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оот тогтоол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43/2006 Sb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д тусгагдсана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залуучуудад боловсрол олгох ба хүмүүжүүлэх газрын 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вийн байр болон байр талбайн эрүүл ахуйн шаардлагуудын тухай 410/2005 тоо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оор зохицуул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podrobnosti o vzdělávání v mateřských školách, podmínkách provozu, stravování, o péči o zdraví a bezpečnost a o stanovení výše úplaty za předškolní vzdělávání, upravuje vyhláška MŠMT č.14/2005 Sb., o předškolním vzdělávání, ve znění vyhlášky č. 43/2006 S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láška 410/2005 o hygienických požadavcích na prostory a provoz zařízení a provozoven pro výchovu a vzdělávání dětí a mladistv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Бүртгүүлэхэд шаардлагатай баримтууд :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197000"/>
            <a:ext cx="7858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орох хүсэлтийн өргөдө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эддээ урьдчилан сэргийлэх болон хугацаат бакцин хийлгүүлсэн тухай барим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ийн эмчийн дүгнэлт, эрүүл мэндий даатг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(хуул ёсны төлөөлөгч) гадаад пасп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эрхлэгчээс гадаад иргэдэд зориулсан нэмэлт мэдээлэлийг авч бол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ní žádostí od rodičů (zákonných zástupců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k potvrzení o povinném očkování dítě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vrzení dětského lékaře o zdravotní způsobilosti dítěte (evidenční list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žnosti průkazu rodiče a dítě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jistit si u ředitele materské školy, jestli jsou výjimky pro rodiče-cizi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оловсролын төлбөр</a:t>
            </a:r>
            <a:br>
              <a:rPr sz="2800"/>
            </a:br>
            <a:r>
              <a:rPr b="0" lang="mn-Cyrl-MN" sz="2800" spc="-1" strike="noStrike">
                <a:solidFill>
                  <a:srgbClr val="990033"/>
                </a:solidFill>
                <a:latin typeface="Verdana"/>
              </a:rPr>
              <a:t>Úplata za předškolní vzdělávání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боловсролын үнэ хөлсийг цэцэрлэгийн эрхлэгч тогтооно, 6 нас хүрсэн сүүлчийн жилд төлбөргүй байна(боловсролын хуулийн § 123 догол мөр 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сард 500 – 800 Kč төлбөр төлн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олтойг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platu za předškolní vzdělávání stanovuje ředitel mateřské školy, poslední ročník, ve kterém dítě dovrší 6ti let věku, se poskytuje bezúplatně (§ 123, odst.2 školského záko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děti cena školné se pohybuje mezi 500-800Kč s jídlem za měsí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333000"/>
            <a:ext cx="6529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үн бүр боловсрол эзэмших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эрхтэй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уулиар тогтоосон хугацаагаар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ургуульд суралцах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үүрэг болно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Үндсэн эрх ба эрх чөлөөний тухай тунхаглал бүлэг 33 догол мөр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 Každý má právo na vzdělání.  Školní docházka je povinná po dobu, kterou stanoví zák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čl. 33 odst. 1. Listiny základních práv a svob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818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990033"/>
                </a:solidFill>
                <a:latin typeface="Verdana"/>
              </a:rPr>
              <a:t>Заавал эзэмших Ерөнхий боловсролын сургууль-ЕБ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vinné a základní vzdělávání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Чех улсын нутаг дэвсгэрт амьдарч байгаа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үх гадаадын иргэдийн хүүхдүү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суралцах хуулиар тогтоосон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үүрэгтэ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Энэхүү үүргийг биелүүлээгүй тохиолдолд хүүхдүүдийн хууль ёсны төлөөлөгчдөд хариуцлага хүлээлг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ěti všech cizinc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žijící na území ČR, mají ze zákon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vinno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chodit do školy. Při porušování této povinnosti hrozí zákonným zástupcům dětí sank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28800" y="1268280"/>
            <a:ext cx="78580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ЕБ -ын сургалт нь зургаан нас хүрснээс хойш 9 жил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авал эзэмших боловсрол нь суурь боловсролы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д орох бо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утаг дэвсгэрт оршин суух эрхтэйг харуулах шаардлагагү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төлбөр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увийн сургуулиудад суурь боловсрол (ЕБ) үнэ төлбөртэй олгогдож бо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základní vzdělávání trvá 9 let, vztahuje se na děti po dosažení šestého roku věku, pokud jim není povolen odkl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vzdělávání vede zpravidla k dosažení zákla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o na bezplatné vzdělání v základních a středních školách je deklarováno v Listině základních práv a svob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soukromých školách lze vzdělávání poskytovat za úpla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024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ЕБ 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c</a:t>
            </a: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ургуулийн бүртгэл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ápis do základní ško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28800" y="1628640"/>
            <a:ext cx="7858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үүдийг сургуульд түүний эцэг эх эсвэл бусад хууль ёсны төлөөлөгчид бүртгүүл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урь сургуулийн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нэгдүгээр ангийн бүртгэл 1-р сарын 15-аас 2-р сарын 15-ныг хүртэл явагддаг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 хүүхдийн ЕБС-д суралцах хугацааг хойшлуулах талаар хүсэлт гаргах үед хүсэлтийн хүснэгт бөглөнө (1-р ангид бүртгүүлэх үед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ргуулиаас завсардаж буй шалтгааныг нотлох эмчийн тодорхойлт хэрэгтэй - тодорхойлт  2 сараас хуучин байж болохгү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e školní docházce přihlašují dítě jeho rodiče nebo jiní zákonní zástup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ápis do prvního ročníku základní školy probíhá od 15. ledna do 15. úno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če nebo zákonné zástupce může požádat o odklad při nástupu do první třídy. Musí psát žád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žádosti musí odkládat potvrzení o zdrav.stavu od lékaře – nesmí být starší než 2 měsíc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дийн төрсөний гэрчилгэ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цэг эхийн гадаад пасп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н эрүүл мэндийн даатгалын баримтуу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лөсөн бүртгэлийн хуудас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ápisní líste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анги буюу 6-9 ангид хичээлийн жилийн явцад бүртгүүлж болно. Урьд жилийн дүнгийн хуудас хэрэгтэ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6972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Бүртгэлд шаардлагатай баримтууд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nný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kaz totožnosti rodiče nebo zákonných zástup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y o zdravotní pojišť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ní líst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běhu školního roku dítě může nastoupit do 6.-9. třídy. Ale mít vysvědčení dosažitelné tří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928800" y="1916280"/>
            <a:ext cx="785808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эгдүгээр шат нь 5 жил (1-5 анги хүртэл) бага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ёрдугаар шат нь 4 жил (6-9 анги хүртэл) ахлах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жилттай төгсгөсний дараа нэг ба хоёрдугаар шатлалын хоорондох шилжилт нь шууд хийгдэхээс гадна,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доод шатны зургаа юмуу найман жилийн </a:t>
            </a: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д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үргэлжлүүлэн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алцаж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 болно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ЕБС нь 2 шатлалтай байна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Š se člení na první a druhý stupe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0000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vní stupeň trvá 5 let (od prvního ročníku do pátéh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uhý stupeň trvá čtyři roky (od šestého do devátého ročník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úspěšném ukončení prvního stupně základní školy lze pokračovat v plnění povinné školní docházky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a nižším stupni šestiletého nebo osmiletého gymnázi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имнази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Gymnáz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8 жилийн сургалттай гимнази 5-р анги төгссөн хүүхэд шалгалт өгөн элсэж бол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6 жилийн сургалттай гимназид 7-р анги төгсөө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4 жилийн сургалттай гимназид 9-р анги төгсөөд элсэн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имназийн элсэлтийн шалгалтыг </a:t>
            </a:r>
            <a:r>
              <a:rPr b="1" lang="mn-Cyrl-MN" sz="2600" spc="-1" strike="noStrike" u="sng">
                <a:solidFill>
                  <a:srgbClr val="000000"/>
                </a:solidFill>
                <a:uFillTx/>
                <a:latin typeface="Verdana"/>
              </a:rPr>
              <a:t>чех хэл, математик, ерөнхий эрдмийн мэдлэгээр авдаг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60280"/>
            <a:ext cx="6972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Че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x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улсын</a:t>
            </a: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 боловсролын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түвшингүүд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6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Stupeň vzdělání Č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00000" y="141264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21-26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sokoškolsk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700" spc="-1" strike="noStrike">
                <a:solidFill>
                  <a:srgbClr val="000000"/>
                </a:solidFill>
                <a:latin typeface="Verdana"/>
              </a:rPr>
              <a:t>Мэргэжилийн дээд боловсрол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, 19-21vě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šší odborné vzdělání v konzervátoři a vyšší odborn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5-19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třední vzdělání – s výučním listem a maturitní zkoušk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osmiletého gymnázia se může přihlásit po ukončení 5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šestiletého gymnázia se může přihlásit po ukončení 7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čtyřletého gymnázia se může přihlásit po ukončení 9. ročníku ZŠ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jímačky na víceletého gymnázia jso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eského jazyka, matematiky a všeobecné znalo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ze základních vzdělá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өгжилийн бэрхшээлтэй хүүхэдийн ерөнхий боловсролын сургуульд суралцах хугацаа нь нийт арван жил байдаг. Үүнээ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1-6 анги - нэгдүгээр ш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7-10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нги - хоёрдугаар ш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агчийг тусгай сургуульд явуулах үгүйг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мэргэжилийн эмч болон хүүхэдийн сэтгэл зүйч нар тодорхойлоно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Хэзээ ч багш нарын болон хув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хүсэлтээр шийдэхгү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00000" y="1699920"/>
            <a:ext cx="7886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 vzdělávání pro žáky se zdravotním postižením, kteří se vzdělávají ve třídách nebo školách s upraveným vzdělávacím programem, může s předchozím souhlasem ministerstva trvat deset ročníků, te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-6.ročník - první stupeň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7.-10.ročník -druhý stupe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P posuzuje žáka, jestli by měl chodit na speciální školu,nikoli rodiče nebo pedagogov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2007 оноос эхл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рөнхий боловсро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уд өөрсдийн сургалтын программы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лэж байга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аас батлагдсан агуулгыг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ргуулиуд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ёстой сургах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ч б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гүй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үүд ч заадаг. Иймээс сургуулиуд хоорондоо тогтоос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мжээнээс илүү хичээлийн хувьд ч хичээлийн хэлбэрийн хувьд ч ялгаатай байх үе тохиолдо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 roku 2007 se na základních školách povinně vyučuje podle vlastních školních vzdělávacích programů. Školy musí vyučovat povinný, státem garantovaný obsah, ale zpravidla vyučují i další, nepovinný obsah. Mezi školami tak mohou být odlišnosti v obsahu, který jde nad závazný rámec, a také ve formách výu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Дунд боловсрол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třední vzděl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28800" y="177300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уд нь сурагчдыг мэргэжлийн болон их дээд сургуульд бэлтгэдэ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Б сургуулийг төгсгөх юмуу заавал суралцах ёстой үүргээ гүйцэтгэсний дара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дунд сургууль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имнази, мэргэжлийн дунд сургууль, мэргэжлийн тусгай дунд сургуул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юмуу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консерватори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 боловсрол эзэмшихээ үргэлжлүүлж бол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y připravují žáky k dalšímu studiu nebo k výkonu povolání a pracovních činn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ukončení základní školy nebo splnění povinné školní docházky lze pokračovat ve vzděláv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e střední škol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(gymnázium, střední odborná škola, střední odborné učiliště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 v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zervatoř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560" y="1557000"/>
            <a:ext cx="7959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Өдрийн, оройн юмуу хосолсон хэлбэрээр суралцаж бол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гсөгч н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алтын программ ба мэргэжлээс шалтгаалж дунд боловсрол, мэргэжлийн үнэмлэх юм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ттестаттай дунд боловсрол эзэмшинэ;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ттестаттай төгсгөсөн дунд боловсрол нь дээд сургуульд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лсэж суралцах үндэс болдо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ургуулийн сонголт нь сурагчийн сурлагын амжилт, өөрийн сонирхолоо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амаарн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zdělávání se uskutečňuje v denní, distanční, večerní nebo kombinované formě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olvent získá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le typu vzdělávacího programu a oboru vzdělání střední vzdělání, nebo střední vzdělání s výuční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em, nebo střední vzdělání s maturitní zkouškou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řední vzdělání s maturitní zkouškou je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ředpokladem k přijetí na vysokou škol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běr SŠ záleží na studenta a jeho prospěch ve základní šk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элсэлтийн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үртгэ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ihlášky na S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28800" y="1699920"/>
            <a:ext cx="7858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үүлж сургах тухай тухайн дунд сургуулийн захирал элсэлт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жиллагааны хүрээнд шийднэ. Дунд сургууль юмуу консерваторын элсэлтийн ажиллагааны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хцлийг хуулиар тогтоосон бай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йн нэгдүгээр курст орж суралцахад бүртгүүлсэн байх шаардлагата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ба суурь боловсрол – ЕБ, 6-15</a:t>
            </a:r>
            <a:br>
              <a:rPr sz="2800"/>
            </a:b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povinné a základ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3-6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эрийн асаргаа (боловсролын системээс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адуурх асаргаа)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eče v rodině (peče mimo vzdělávací soustavu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 přijetí ke studiu na střední škole rozhoduje ředitel příslušné střední školy v rámci přijímacího řízení. Právní předpisy stanoví podmínky přijímacího řízení do středních škol a konzervatoř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ijetí do prvního ročníku vzdělávání ve střední škole je potřeba podat přihlá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эж суралцах нэгдүгээр шатны элсэлтийн бүртгэлд § 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й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сон хугацаанд яамнаас батлагдсан маягт бөглөж насанд хүрсэн суралцах хүсэл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 эсвэл түүний хууль ёсны төлөөлөгч нь тухайн сургуулийн захирал дээр бүртгүүлн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ke vzdělávání ve střední škole pro první kolo přijímacího řízení podává zletilý uchazeč nebo zákonný zástupce nezletilého uchazeče řediteli příslušné střední školy, a to na tiskopisu předepsaném ministerstvem a ve stanoveném termínu v § 60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28800" y="1844280"/>
            <a:ext cx="78580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Өдрийн ангийн хэлбэрээр суралцахыг хүсэгч нь элсэлтийн бүртгэлийн </a:t>
            </a:r>
            <a:r>
              <a:rPr b="0" lang="mn-Cyrl-MN" sz="2700" spc="-1" strike="noStrike" u="sng">
                <a:solidFill>
                  <a:srgbClr val="000000"/>
                </a:solidFill>
                <a:uFillTx/>
                <a:latin typeface="Verdana"/>
              </a:rPr>
              <a:t>эхний шатанд гурван сургуульд бүртгүүлж болно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сэлт гаргагч нь өдрийн ангид суралцах бол бүртгүүлэх хуудсаа 3-р сарын 15-ныг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въяас шалгах шаардлагатай мэргэжил бол 11-р сарын 30-ныг хүртэ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první kolo přijímacího řízení do denní formy vzdělávání může uchazeč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dat tři přihláš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 odevzdá přihlášku do denní formy vzdělávání řediteli střední školy do 15.břez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 гаргагч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өдрийнхөөс өөр хэлбэрээр суралц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 3-р сарын 20-ныг хүртэ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въяас шалгах шаардлагатай мэргэжил бол 11-р сарын 30-ныг хүртэл бүртгүүлэх хуудс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өг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, který se přihlás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o jiné než denní formy vzdělává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odevzdá přihlášku řediteli střední školy do 20. března, v případě 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ангила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Stupeň stře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 (Gymnázium)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ер нь ерөнхий эрдмийн чиглэлтэй бөгөөд юуны түрүүнд дээд сургуульд суралцахад бэлтгэнэ. найм, зургаа мөн дөрвөн жилийн гимнази. Төгссөн тохиолдолд дээд сургуульд элсэх бололцоотой, харин дээд сургуульд тэнцээгүй үед мэргэжил олгодоггүй. Maturita – аттестаттай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унд сургууль (SOŠ) ба мэргэжлийн тусгай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гууль(SOU)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 сурагчдад боловсрол олгохоос гадна бас ажиллах мэргэжил буюу мэргэжлийн ажлын ур чадвар эзэмшүүлж мөн дээд сургууль, мэргэжлийн дээд боловсролд бэлтгэн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ymnázi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e zaměřeno všeobecně a připravuje především k vysokoškolskému studiu. Studium je čtyřleté, šestileté, nebo osmileté. Do šestiletého a osmiletého gymnázia jsou přijímáni žáci, kteří ukončili první stupeň základní školy, do čtyřletého gymnázia jsou přijímáni žáci po ukončení devátého ročníku základní školy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odborné školy (SOŠ) 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dborná učiliště (SOU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poskytují žákům vedle stupně vzdělání také odbornou kvalifikaci pro výkon povolání nebo odborných pracovních činností a zajišťují i přípravu k vysokoškolskému a vyššímu odbornému vzdělávání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SOŠ ба SOU нь ойролцоогоор 240 мэргэжлээр мэргэжлийн боловсрол олгодог ба олгох боловсролын түвшин болон сургалтын хугацааных нь уртаар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2 жилийн мэргэж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илийн үнэмлэхгү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жи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үнэмлэхтэ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4 жилийн сургалтаар аттестаттай дунд боловсрол эзэмш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557000"/>
            <a:ext cx="77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 улс, муж, суурин эсвэл хувийн удирдлагатай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 заавал биш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айх хэлбэрээр цэцэрлэгүүдэд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вагд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Цэцэрлэгүүд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увийн мөн компанийх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ж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х бөгөө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ŠMT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 сургуулиудын жагсаалтанд бүртгэгдсэн бол бүгдэд нь ади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сролын хууль үйлчл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dělávání v SOŠ a SOU se uskutečňuje v cca 240 oborech odborného vzdělávání, které lze dělit podle délky studia a stupně poskytovaného vzděl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dvouletých oborech se dosahuje stupně středního vzdělá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tříletých oborech stupně středního vzdělání s výučním li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čtyřletých oborech stupně středního vzdělání s maturitní zkoušk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14320" y="131760"/>
            <a:ext cx="697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42560" y="170028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ээд боловсрол (VO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оюутны дунд боловсролоор эзэмшсэн мэдлэг ба чадварын хөгжүүлж гүнзгийрүүлэх бөгөөд ерөнхий болон мэргэжлийн боловсрол, хүнд асуудлаар ажиллах дадлагын бэлтгэл олго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VOŠ өдрийн ангийн хэлбэрээр мэргэжлийн дадлага ороод 3 жил, эрүүл мэндийн мэргэжлээр бол 3,5 жи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Aттестатын шалгалтаар (maturita) дунд боловсрол эзэмшсэн болон шаардлагатай нөхцлүүдийг хангасан тохиолдолд элсүүлж ав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šší odborné vzděláván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ozvíjí a prohlubuje znalosti a dovednosti studenta získané ve středním vzdělávání a poskytuje všeobecné a odborné vzdělání a praktickou přípravu pro výkon náročných činnost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élka VOŠ v denní formě je 3 roky včetně odborné praxe, u zdravotnických oborů vzdělání až 3,5 rok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e vzdělávání ve vyšší odborné škole lze přijmout uchazeče, kteří získali střední vzdělání s maturitní zkouškou a kteří při přijímacím řízení splnili podmínky pro přijetí prokázáním vhodných schopností, vědomostí, zájmů a zdravotní způsobil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ь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 u="sng">
                <a:solidFill>
                  <a:srgbClr val="000000"/>
                </a:solidFill>
                <a:uFillTx/>
                <a:latin typeface="Verdana"/>
              </a:rPr>
              <a:t>Гадаадын суурь, дунд ба мэргэжлийн дээд сургуулийн боловсролыг хүчинтэйд тооцох (нострификаци)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ичиг баримтыг мужийн боловсролын хэлтэст дараах хүсэлтээр өргөдөл гаргаж харуулж болно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ынхтай адил тэгш   гэж үзэж үнэмлэх олгох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ад хүлээн зөвшөөрөх тухай шийдвэр ("нострификаци"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Verdana"/>
              </a:rPr>
              <a:t>Uznávání zahraničního vzdělání na základních, středních a vyšších odborných školách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Doklad o dosažení základního, středního nebo vyššího odborného vzdělání v zahraničí lze předložit odboru školství příslušného krajského úřadu se žádostí 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ydání osvědčení o uznání rovnocennosti zahraničního vysvědčení v ČR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ozhodnutí o uznání platnosti zahraničního vysvědčení v ČR ("nostrifikaci"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ээд сургууль (V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нийтийн, улсын (цэргийн ба цагдаагийн) ба хувийн гэж ангилда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дээд сургуульд чехээс өөр хэлээр суралцахыг хүсссэн гадаад иргэд нь сургалтаа өөрий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ардлаар төлөх ёс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үх сургуульд элсэлтийн шалгалтар элсүүлдэг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Их, дээд сургууль (VŠ) нь ихэвчлэн 3 шатлалтай байна. Үүнд: Бакалавр (сургалт нь 3-4 жил), үргэлжлэн Магистр (1-3 жил), Доктор (3 жи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өвхөн их, дээд сургуульд л шинжлэх ухааны зэрэг авах боломж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ysoké škol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ČR se dělí na veřejné, státní (vojenské a policejní) a soukrom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izinci, kteří chtějí studovat na veřejné vysoké škole v ČR v jiném než českém jazyce, si musejí své studium hradit z vlastních prostřed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všechny vysoké školy se koná přijímací říz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akalář (3-4), magistr (1-3), Ph.D (3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soká škola je jediná instituce, která má právo 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dělovat akademické titul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Үгсийн орчуулага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teřsk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цэцэрлэ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суурь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үнэмлэхтэ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maturit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аттестатт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ře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дунд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yšš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odbor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upeň vzděl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боловсролын түвш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2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ахлах анг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1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бага анг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kr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studi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богиносгосон сургал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avby S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мэргэжлийн тусгай дунд сургуулийн мэргэжил дээшлүүлэ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U (maturi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тусгай дунд сургууль (аттестат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мэргэжлийн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үнэмлэ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Š (maturita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унд сургууль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ym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ium (maturit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гимнази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OŠ (absolutorium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 сургууль (сургууль дүүргэсэн тухай бичиг барим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če v rodině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če mimo vzdě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c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ustavu) – гэрийн асаргаа (боловсролын системээсгадуурх асарга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je organizováno jako nepovinné v mateřských školách zřizovaných státem, krajem, obcí nebo soukromým zřizovatelem. Mateřské školy mohou být i soukromé nebo firemní, pro které rovněž platí školský zákon, pokud jsou vedeny v rejstříku škol MŠM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eta-os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inkluzivniskola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cizinci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ic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5"/>
              </a:rPr>
              <a:t>www.nvf.c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6"/>
              </a:rPr>
              <a:t>http://www.zdroj.cz/vzdelani/materske-skoly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736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440" y="1268280"/>
            <a:ext cx="7746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рээдүйн боловсролын үндэсийг тавьж xувь хүний өсөлтийг дэмжинэ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юун санаа болон бие бялдарын хөгжилий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лцааны соё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Aмьдралын үнэ цэнийн ба хүмүүсийн    хоорондын харилцааны үндсийг эзэмшихэд нөлөөлн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školní vzdělávání podporu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voj osobnosti dítěte předškolního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ílí se na jeho zdravém citové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umovém a tělesném rozvoji a na osvojení základních pravidel chován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ch životních hodnot a mezilidských vztah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89640"/>
            <a:ext cx="58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196640"/>
            <a:ext cx="7858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3 – 6 настай хүүхдүүдэд зориулагдс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нь сургуулийн өмнөх насны буюу 5-6 настай хүүхдүүдийг түрүүлж авда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үүдийг эцэг эхийн (хуул ёсны төлөөлөгч) хүсэлтээр цэцэрлэг хүлээж ав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үхэд хичээлийн жилийн явцад ч цэцэрлэгт орж бол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29Z</dcterms:modified>
  <cp:revision>206</cp:revision>
  <dc:subject/>
  <dc:title>Snímek 1</dc:title>
</cp:coreProperties>
</file>