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662-042D-4997-ABFF-454F91E9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EC5-FE92-4839-AB38-F24329B0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B15-7777-447A-8886-A784F775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456-3AB2-48E8-B66A-F08E13A2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929-D143-401E-9ADD-83EDA356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02E-34CF-4583-BC62-EA13A8B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486-830D-4AA0-96CC-371B2015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392C-A148-46E9-A337-BD493BFD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DED-8881-42B0-AAEC-3BEA991F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218B-E69D-4739-BE08-92D3D1B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102C-DE85-4CC1-AA4E-DF5F0A5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44EF-0A68-452F-9D63-73FA29C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D001-9241-47CC-9568-7D5532C8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056E-2F60-4A17-9B22-27F3D95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7CC7-1298-48E8-AB96-D5744C4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969E-3FD4-4C47-BA6C-83A9CD0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011A-E5C5-4633-A010-225D13BB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2836-4964-4193-B6FD-6A52D75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AF54-2C32-4701-B047-A5B8AA3E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D69-748A-4C66-BFC3-E3E3CC2C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680-8DF9-482D-B171-AF7FC5D8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BEC0-1071-483E-84B4-E98C5021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F1BB-3DFC-497E-9083-CEDE034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CDF3-3C95-4475-B267-AF55C2C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1EB5-5F7A-4B4D-8B7C-778DCAD8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0AAC-1A42-40E4-BA53-5F24DFD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03E1-EB3E-495E-A294-692518E0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4E26-3808-46C3-A3BC-72BE5C40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7084-9FFF-4886-AC4D-9A5B66A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65B2-5621-4DAB-A72A-559054B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67D-5ED3-4AD0-9D72-9E8630A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F2ED-80B4-4E6C-A7AA-D07BC3C8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9202-DCC8-48D9-B5F4-FECDA35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4F54-B8E4-4244-AA07-944E839F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66B3-7789-4717-9C08-6E3B67CA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F671-E074-4FFE-888D-DD04CDB4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DCF4-CC68-4E9F-AE1D-736AF9A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C7F3-8619-43D1-85D6-3FB84C99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F21B-EE1B-44B8-B983-BD0F0A8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C92A-2367-44AE-BE99-0CF2518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28CF-19AB-49E1-81AF-B0A3290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DD3-306F-4707-ABD4-D5285AF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86A0-A90A-4C55-B0DF-2296D764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682B-87F9-4389-8E9C-11B2CF4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59C6-A081-42A7-B08D-2A5A95B2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F88A7-4074-46AF-8316-2C0AF281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26E6-2F39-4474-8F82-896E74A7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790E0-56E0-4FA7-B189-D765A8FA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B2DE-CA3A-4784-B356-050A8519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519CE-44D0-4B63-B02C-F2D9809A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D2F7-E243-4B52-AFC3-A214B98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2C6D6-37B4-4E65-BF3A-B6F08DC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AA-45F6-4B58-ABA7-97E5705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16A5-0105-449A-B5CC-1F7F032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BCB4-946E-4534-8D95-A1A3ED0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6815-048E-44C8-9AD8-7DEA893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EA257-D9EE-4E90-AF4F-BA8C6E2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0728-D866-4064-99A6-EB63C1BB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660E-1CCA-46E5-B943-273AB390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FB355-06DC-4FFB-A2F0-07C5CA23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9F49-33BD-42BE-BD49-EEC4842AF4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DC6-FE1A-4141-A4D8-8843F62287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333-B3DE-483A-A1A6-13C1E554D33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954-8D4C-4A92-9B28-01BED07C21A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AB8-AB3C-43DD-BCAB-7C5180D49BE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2512-D3A3-4DEE-BB92-12D6E046516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21E-5BDD-41A5-A555-1E42C3ABA58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B776-E954-44BA-ABCE-E9045C38140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858-C15B-4469-8099-D492A07F119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343-606C-4B66-AA4F-67049F30025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508640"/>
            <a:ext cx="58579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bydle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LTANGEREL Ochger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00000" y="171432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ypotéku poskytují banky, které si p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jí čerpání stanovují různé podmín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informace o hypotékách pod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tlivé bank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znam bank na hypoték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banky.ic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691920"/>
            <a:ext cx="69721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Stavební spoření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26560" y="1714680"/>
            <a:ext cx="7959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u z možností, jak získat finance na koupi, stavbu nebo rekonstrukci bytu či dom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oba, která má trvalý pobyt na území České republiky a má přidělené rodné čísl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ýhod stavebního spoření (státní podpory) tak mohou využít i cizinci s trvalým pobytem v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informace o stavebním spoření vá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á každá stavební spořitel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znamy stavebních spořitele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sfinance.cz/seznamy/stav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-sporitelny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Pojištění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ádný byt nebo dům nelze na 100% ochránit před možností vzniku požáru, před vytopením,vykradením, apod. Ke zmenšení následků těchto událostí je možné nechat si byt nebo dům pojistit. Bližší informace o pojištění je možné získat v jednotlivých pojišťovná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 pojišťove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finance.cz/pojisteni/sez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y/pojistovny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2. Bydlení v náj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ní úprava nájmu bytu je rovněž obsažena v občanském zákoníku. Občanský zákoník umožňuje přenechat pronajatý byt nebo jeho část do podnájmu (na dobu určitou i neurčito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ájem bytu vzniká na základě nájemní smlouvy mezi pronajímatelem bytu a nájemc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ájemní smlouva musí být písemná a musí obsahovat minimálně následující údaje, jinak je neplatná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značení stran smlouv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pronajímatel a nájem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značení byt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adresa, číslo bytu,počet místností atd.) a jeho příslušenství (chodby, prádelny, sušárny, sklepy, balkony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edmět nájm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o jaké prostory jde) a jeho účel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působ výpočtu nájemnéh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ebo jeho   výši nájmu, způsob a termín jeho platby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působ výpočtu úhrad za služb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spojené s užíváním bytu nebo jejich výši (za ústřední  vytápění, dodávku teplé vody, užívání výtahu, odvoz odpadků apod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obu trvání nájm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jedná-li se o smlouvu na dobou určitou)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Co je to vratná kauc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še kauce se standardně pohybuje v rozmezí jednoho až dvou měsíčních nájmů, tedy částky, kterou platíte měsíčně za pronáj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uce je vratná po skončení pronajímání bytu a nejsou-li žádné nedoplatky, vrátí vám ji majitel v plné výš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zapomeňte si schovat podepsa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o tom, v jaké výši jste kau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žili. V případě neshod se vám t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bude hod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ájem bytu může zaniknout několika způso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ísemnou dohodou uzavřenou mezi pronajímatelem a nájemcem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uplynutím doby, na kterou byl nájemní vztah sjednán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písemnou výpovědí – v této výpovědi musí být uvedena lhůta, do kdy má nájem skončit, a to nejméně tři měsíce tak, aby skončila ke konci kalendářního měsí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55280" y="1714320"/>
            <a:ext cx="80312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věď z nájmu bytu může dát nájemce (i bez uvedení důvodu) nebo pronajímatel. Pronajímatel může vypovědět nájem pouze z důvodů uvedených v občanském zákoníku. Nájem může vypovědět s přivolením i bez přivolení sou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990033"/>
                </a:solidFill>
                <a:latin typeface="Verdana"/>
              </a:rPr>
              <a:t>Slovíčka ke tématu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2+KK –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ал тогооны булантай  хоěр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+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устай гал тогоотой нэг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3+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устай гал тогоотой гурван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Osobní vlastnictví (OS, OV)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хувийн эзэмшлийн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Družstevní vlastnictví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хоршоолын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Nájemní smlouva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байр хөлслөх гэрээ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PSČ (poštovní směrovací číslo)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шуудангын чиглэлий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3.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Bydlení v družstevních byt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Každé bytové družstvo je zpravidla vlastníkem jednoho nebo více domů s byty, které přidělují svým členům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len, kterému byl byt přidělen, má právo na uzavření nájemní smlouvy s družstv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Při řešení otázek týkajících se obsahu nájemního vztahu k družstevním bytům  je třeba mít na zřeteli i stanovy družstva, na které občanský zákoník odkazuj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ihlášení k odběru energií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lších služeb v bytě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odběr plynu – u dodavate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elektrické en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v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k odvozu komunálního odpad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Ztráta bydl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stliže při ztrátě bydlení nemohou pomoci příbuzní nebo přátelé, je dobré zkusit se obrátit na některou charitativní organizaci, která pomoc v takových případech nabíz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se do potíží dostane matka s dětmi, může se obrátit např. na azylové domy pro matky s dětmi, které jsou provozovány v některých měst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však třeba mít na paměti, 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tyto domy nebo ubytov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bízejí ubytování jen na přechod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bu (v nouz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Terminolog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71280" y="1628280"/>
            <a:ext cx="7815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Fyzická osoba (FO)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 je pojem užívaný převážně v právu, kde je třeba odlišovat osoby v běžném slova smyslu (lidi) od jiných druhů osob, které právo za samostatný subjekt uznává ( např. podniká na základě živnostenského nebo jiného oprávnění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Právnická osoba (PO)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 je právní pojem, který se vedle pojmu fyzická osoba (člověk) používá pro označení jednoho ze dvou typů právních subjektů (způsobilost mít práva a povinnost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nformační publikace pro cizince ČR – MVČR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.wikipedia.org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cenyenergie.cz/plyn/clanky-1/odhlaseni-a-prihlaseni-odberu-plynu-krok-za-krokem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rientační čís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ялгах дуа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čtvrt (městská)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хороо, рай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elektři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тог, цахилга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majitel/majitelka bytu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эзэ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ájemník/nájemni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хөлслөг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y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хий, гаа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onajmou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хөлслүүлэ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střední tope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төвийн халаал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nkasa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сарын тог, усны урьдчилсан хураам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rátná záloha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уцааж олгох барицааны мөнг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otvrzení o ubytová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бичи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movitos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үл хөдлөх хөрөнгө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alitní kancelář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зуучилгаа бай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hypoteční úvěr na bydle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зээ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odo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усан хоол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olej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их сургуулийн оюутны дотуур байр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nterná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дунд сургуулийн дотуур байр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V ČR existuje několik forem bydlení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e vlastním bytě nebo dom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 náj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 družstevních byt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vláštní formy bydle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69721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1.Bydlení ve vlastním bytě nebo domě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mínky nabývání nemovitostí cizinci v ČR upravuje devizový zákon č. 219/1995 Sb., v platném zně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uh oprávněných oso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devizového zákona je nabývání bytů a domů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cizinci omezen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Obecně mohou domy a byty nabýva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fyzické osoby s trvalým pobytem na území České republi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nebo právnické osoby se sídlem na území České republiky. Bližší podrobnosti obsahuje ustanovení § 17 devizového zá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upní smlouva mezi prodávajícím a kupujícím, která se řídí občanském zákoníkem (zákon č. 40/1964 Sb.). Smlouva musí být uzavřena písemně, jinak je neplatná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jitelem bytu nebo domu se stává okamžikem vkladu vlastnického práva do katastru nemovitostí ( nikoli tedy okamžikem podpisu kupní smlouvy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26560" y="1714680"/>
            <a:ext cx="7959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lý proces týkající se koupě bytu může trvat i několik měsíců. Je proto vhodné obrátit se na odborníka v oblasti nemovitosti, kterým může být právník, realitní makléř ap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nákup domu nebo bytu může využít hypoteční úvěr (informace podávají jednotlivé banky) nebo stavební spoření (informace podávají jednotlivé stavební spořiteln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Hypoteční úvěr - hypotéka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věr určený ke koupi nebo stavbě bytu nebo domu pro vlastní bydlení, popř. na jejich rekonstrukc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žadatelem o hypotéku může být jak fyzická, tak i právnická osob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lácení hypotéky bývá zajištěno zástavním právem k nemovitosti, a to i rozestavěné. Hypoteční úvěr může mít splatnost až 30 le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28Z</dcterms:modified>
  <cp:revision>171</cp:revision>
  <dc:subject/>
  <dc:title>Snímek 1</dc:title>
</cp:coreProperties>
</file>