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3BEC-69D5-4524-ABB9-CE958F03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BDB-41FB-4B04-B3B4-766A1980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AC3E-D800-49F1-A878-AEC4C1EE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288-E57D-4540-922C-53929F82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B3E-421B-4848-A49E-7B974C18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7897-5383-40B9-989A-CD7248D0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0DD1-FFA3-4B12-ADF7-53D9C437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7072-52F1-4D1B-842B-F4C351C6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E0AB-AA4F-40F0-AB67-DBD95C68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1781-EE88-40A8-BA17-281E7906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C876-6723-4E82-AE96-59CF7D57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2B59-A3C5-4B23-9A25-94D9EC3E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E8A8-8327-4D52-B309-3A3FB48B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414E-FDB5-4F89-B9BF-5944FF24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865D-4E28-41A2-B2A1-2BE2AB50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B2F6-3AF7-485F-936E-E63F9689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9218-4F81-47E5-AEFF-98A7C053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F6EB-4959-4188-8992-3A7C53B6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9EDA-462C-49E2-AB95-65A87E02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57A6-4321-4360-8CAB-C171E569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E1DF-1E0B-47EF-A0D4-8E5A28ED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EED5B-A346-4CCB-81DE-DD700ABC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A544B-4219-4651-891A-AAB6C397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D060A-57A5-4D5E-BF7D-CB2DF893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17825-D3B5-44BF-8A67-9962BDA5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CFFB2-4B53-40F8-AE85-0A56278E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D61AD-BEE6-42A9-B9DF-B6FA239B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E695D-D1D5-49D1-A8E7-23F0440B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603BD-41CA-439E-9890-9C85A3FC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D0E8C-F72A-4860-916A-F9998E2A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0B8-6653-4240-A29E-6C96B7D9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BBF6B-7B9D-474E-A451-34911D5A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E45C4-9BD4-46C0-B91F-7D8CB774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D4138-4A3C-4CC5-9637-2CD2283E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B7D73-C12B-41C6-B58B-07308148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F7ABF-3AEA-4823-A1BF-149FB07B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0AF3D-C44D-46BC-ABB6-DEFDDC3D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A6747-3C37-4B1C-8706-1D5A913A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CBF47-B91B-4F30-97D2-7B27E795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C43CE-0BB2-41AB-AFCA-896F5239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F713E-53FC-488B-9B74-6679FA47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940-8467-49FD-B10A-A13DB542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B5CE8-1C4F-48CD-AAD7-E1F98528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B9821-9A5F-4544-B13F-4E66D616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2642E-DEE7-44FD-902C-EFD5B929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3F457-84CE-4704-BADA-5CE9EC83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702C1-C185-4971-BB78-4FDBAE50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997D5-EFDF-4EF8-B3EC-9B04FEB7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EFEE0-AF10-4990-A78E-01C45372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60D3D-F21C-4ECA-B434-2754E893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FBCAF-1DC9-40D9-B8CD-99742AE8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55187-7E30-4F9C-ACB7-42428247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6EA3-88F9-41BD-A7DA-E60CA5ED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E5443-B403-40E6-A94E-B89C2696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B2ED0-5B6C-4A8D-B831-D00EF126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527FB-F453-4BA7-AB15-C49B4EA6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A6320-2FB4-4E0D-90E3-E47C0D6B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5D2CD-04F2-4445-9891-A05E4C16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AEAAB-27CF-4312-84C8-C66939D8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E3BC8-D852-4825-A0C0-E6BF05BA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8170-45D3-4CDB-9481-E1A4999CEEA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A045-77FE-4F69-8BF1-4447B693A7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98EE-38A2-47E4-936C-D2F30AF3AA6B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4E85-D92B-4DA5-B79E-786F64A82CEF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E508-BB64-436B-976E-9818903C41FF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ECF6-22B8-495D-BBEE-E9F7E18828AB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15FC-E574-423F-AE31-C245F289E778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C056-1077-4BBB-95C0-000AF2E3CD69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9727-1992-4286-8717-26AB88B8CA24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4735-EB89-4CD3-8DF0-7B28271CF041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zech.cz/cz/62148-zivnostenske-podnikani" TargetMode="External"/><Relationship Id="rId2" Type="http://schemas.openxmlformats.org/officeDocument/2006/relationships/hyperlink" Target="http://domavcr.cz/" TargetMode="External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4365360"/>
            <a:ext cx="585792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,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ociální tlumočení ve styku s cizinci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ovinnosti podnikatele vůči úřadům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Altangerel 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42560" y="1915920"/>
            <a:ext cx="77439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ěsíční zálohy na daň – když vaše výsledná daň přesáhne částku 30 000 Kč, budete muset platit také zálohy na daň z příjmů fyzických osob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Zdravotní pojišťovna (veřejná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kud máte trvalý pobyt a přístup k VZP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1) Na začátku vašeho podnikání – musíte ohlásit zahájení samostatné výdělečné činnosti a přihlásit se k účasti na pojištění – do 8 dnů od zahájení činnosti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042560" y="1915920"/>
            <a:ext cx="77439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aždý měsíc – platit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minimální zálohy – pojistné na zdravotní pojištění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. Zálohy jsou splatné od 1. do 8. dne následujícího měsíce. Výše minimální měsíční zálohy je stanovena na každý rok. Od ledna 2011 je 1.670 Kč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3)Jednou za rok musíte vyplnit a odevzdat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„Přehled o příjmech a výdajích OSVČ“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= roční vyúčtování) – nejlépe do 31. 3. (následujícího roku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Během podnikání musíte hlásit na úřady všechny důležité změny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inanční úřad – do 15 dn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SSZ – do 8 dnů následujícího měsí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ravotní pojišťovna – do 8 dn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042560" y="2060640"/>
            <a:ext cx="77439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Formulář: Přehled o příjmech a výdajích OSVČ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 Na základě tohoto dokumentu se vypočítá (podle výše zisku = rozdíl mezi příjmy a výdaji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a byly zaplacené zálohy na pojistné dostatečn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a máte povinnost doplatit pojistn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a budete mít následující rok zálohy vyšší / stejné / nebo nižš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0033"/>
                </a:solidFill>
                <a:latin typeface="Verdana"/>
              </a:rPr>
              <a:t>Daň z přijmů fyzickych oso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042560" y="1773360"/>
            <a:ext cx="77439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Cizinci, kteří na území ČR, mají stejná daňová práva a povinnosti jako občané České republiky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. Pokud je tedy cizinec daňovým rezidentem (plátce daně) České republiky, znamená to, že má v ČR neomezenou daňovou povinnos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Daňovými rezidenty ČR jsou ti cizinci, kteří mají na území České republiky bydliště nebo se zde obvykle zdržují více než 183 dnů během zdaňovacího roku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. Naopak cizinec-nerezident se na území ČR obvykle nezdržuje a zpravidla zde pobývá jen přechodně, například za účelem léčení nebo studia apod., a stálé bydliště má v jiném státě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42560" y="1773360"/>
            <a:ext cx="77439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Jsou to peníze, které se vypočítají z vašeho zisku (= rozdíl mezi příjmy a výdaji) a které musíte odvádět státu.</a:t>
            </a:r>
            <a:r>
              <a:rPr b="1" lang="cs-CZ" sz="2300" spc="-1" strike="noStrike">
                <a:solidFill>
                  <a:srgbClr val="000000"/>
                </a:solidFill>
                <a:latin typeface="Verdana"/>
              </a:rPr>
              <a:t> Výše daně: 15 % (rok 2011)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Verdana"/>
              </a:rPr>
              <a:t>Vypočet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- příjmy − výdaje = základ daně − (odečteme) odčitatelné položky (například úroky ze stavebního spořeni, dary apod.) = upravený základ daně × 15 % = daň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Od daně ještě odečteme zaplacené zálohy a slevy na dani (na poplatníka, na vyživovaného manžela/ manželku nebo dítě, případně další slevy) a výsledná částka je daň, kterou zaplatít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Ú</a:t>
            </a:r>
            <a:r>
              <a:rPr b="1" lang="en-US" sz="3200" spc="-1" strike="noStrike">
                <a:solidFill>
                  <a:srgbClr val="990033"/>
                </a:solidFill>
                <a:latin typeface="Verdana"/>
              </a:rPr>
              <a:t>četn</a:t>
            </a: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í</a:t>
            </a:r>
            <a:r>
              <a:rPr b="1" lang="en-US" sz="3200" spc="-1" strike="noStrike">
                <a:solidFill>
                  <a:srgbClr val="990033"/>
                </a:solidFill>
                <a:latin typeface="Verdana"/>
              </a:rPr>
              <a:t> a daňov</a:t>
            </a: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é</a:t>
            </a:r>
            <a:r>
              <a:rPr b="1" lang="en-US" sz="3200" spc="-1" strike="noStrike">
                <a:solidFill>
                  <a:srgbClr val="990033"/>
                </a:solidFill>
                <a:latin typeface="Verdana"/>
              </a:rPr>
              <a:t> dokla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042560" y="1844640"/>
            <a:ext cx="77439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dnou z povinnosti podnikatelů je vystavovávání různých dokumentů (dokladů). Jsou to zejména ty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k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jmový pokladní do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dajový pokladní do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aragon (účten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dací list a dalš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yto doklady si vždy schovejt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042560" y="1773360"/>
            <a:ext cx="77439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Faktura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– musíte ji vystavit, když je váš příjem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yšší než 10 000 Kč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a když platba proběhla bankovním převod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říjmový pokladní doklad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– vystavíte, když váš příjem bude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nižší nebo roven 10 000 Kč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a platba byla v hotovost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aké přesně informace (náležitosti) musí být na těchto dokladech, si můžete zjistit v zákonech (zákon o účetnictví, obchodní zákoník a zákon o dani z přidané hodnoty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Zdroje inform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http://www.czech.cz/cz/62148-zivnostenske-podnikan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Verdana"/>
                <a:hlinkClick r:id="rId2"/>
              </a:rPr>
              <a:t>http://domavcr.cz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Učebnice pro cizince - Vaše šance jít do prác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Slovíčka k témat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042560" y="1844640"/>
            <a:ext cx="7743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Daň z příjmů fyzických osob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- хувь хүний орлогын татва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Daňová evidence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- татварын бүртгэ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Daňové přiznaní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- татварын мэдүүлэ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Dodavatel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- нийлүүлэгч, хангаг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Faktura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- пада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042560" y="1844640"/>
            <a:ext cx="7743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Odběratel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- хэрэглэгч, захиалаг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Penále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- гэрээний торгуу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Pokladní příjmový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/výdajový doklad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- кассын орлогын / зарлагын барим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Přehled o příjmech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a výdají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- орлогын / зарлагын тухай той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500" spc="-1" strike="noStrike">
                <a:solidFill>
                  <a:srgbClr val="000000"/>
                </a:solidFill>
                <a:latin typeface="Verdana"/>
              </a:rPr>
              <a:t>Příjem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 – орлог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500" spc="-1" strike="noStrike">
                <a:solidFill>
                  <a:srgbClr val="000000"/>
                </a:solidFill>
                <a:latin typeface="Verdana"/>
              </a:rPr>
              <a:t>Sleva na dani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500" spc="-1" strike="noStrike">
                <a:solidFill>
                  <a:srgbClr val="000000"/>
                </a:solidFill>
                <a:latin typeface="Verdana"/>
              </a:rPr>
              <a:t>na poplatníka 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- татвар төлөгчийн хөнгөл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500" spc="-1" strike="noStrike">
                <a:solidFill>
                  <a:srgbClr val="000000"/>
                </a:solidFill>
                <a:latin typeface="Verdana"/>
              </a:rPr>
              <a:t>Účetnictví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 - нятлан бодох, санхүүгийн ажи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500" spc="-1" strike="noStrike">
                <a:solidFill>
                  <a:srgbClr val="000000"/>
                </a:solidFill>
                <a:latin typeface="Verdana"/>
              </a:rPr>
              <a:t>Výdaj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 - зарлаг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500" spc="-1" strike="noStrike">
                <a:solidFill>
                  <a:srgbClr val="000000"/>
                </a:solidFill>
                <a:latin typeface="Verdana"/>
              </a:rPr>
              <a:t>Výdaje procentem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500" spc="-1" strike="noStrike">
                <a:solidFill>
                  <a:srgbClr val="000000"/>
                </a:solidFill>
                <a:latin typeface="Verdana"/>
              </a:rPr>
              <a:t>z příjmů  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-орлогоос хасагдаx зарлагын хув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042560" y="1989000"/>
            <a:ext cx="77439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Vyživovaný manžel nebo manželka, dítě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do 26 let</a:t>
            </a: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- өрхийн орлогогүй эхнэр, нөхөр , 26 насны хүүхэ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Zálohy na pojistné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даатгалын урьдчилгаа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Daň z přidané hodnoty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 (zkratka DPH)-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нэмэгдсэн өртгийн албан татвар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НӨТ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990033"/>
                </a:solidFill>
                <a:latin typeface="Verdana"/>
              </a:rPr>
              <a:t>Povinnosti podnikatele – živnostenské podnik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042560" y="2133360"/>
            <a:ext cx="77439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gistruji se na úřady </a:t>
            </a:r>
            <a:r>
              <a:rPr b="0" lang="cs-CZ" sz="3000" spc="-1" strike="noStrike">
                <a:solidFill>
                  <a:srgbClr val="000000"/>
                </a:solidFill>
                <a:latin typeface="Viner Hand ITC"/>
              </a:rPr>
              <a:t>&gt;&gt;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znamuji důležité změny na úřadech </a:t>
            </a:r>
            <a:r>
              <a:rPr b="0" lang="cs-CZ" sz="3000" spc="-1" strike="noStrike">
                <a:solidFill>
                  <a:srgbClr val="000000"/>
                </a:solidFill>
                <a:latin typeface="Viner Hand ITC"/>
              </a:rPr>
              <a:t>&gt;&gt;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latím pravidelně povinné zálohy na pojištění </a:t>
            </a:r>
            <a:r>
              <a:rPr b="0" lang="cs-CZ" sz="3000" spc="-1" strike="noStrike">
                <a:solidFill>
                  <a:srgbClr val="000000"/>
                </a:solidFill>
                <a:latin typeface="Viner Hand ITC"/>
              </a:rPr>
              <a:t>&gt;&gt;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stavuji/přijímám faktury, pokladní doklady </a:t>
            </a:r>
            <a:r>
              <a:rPr b="0" lang="cs-CZ" sz="3000" spc="-1" strike="noStrike">
                <a:solidFill>
                  <a:srgbClr val="000000"/>
                </a:solidFill>
                <a:latin typeface="Viner Hand ITC"/>
              </a:rPr>
              <a:t>&gt;&gt;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u za rok podávám daňové přiznání a platí daně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Verdana"/>
              </a:rPr>
              <a:t>POVINNOSTI VŮČI </a:t>
            </a:r>
            <a:r>
              <a:rPr b="0" lang="cs-CZ" sz="3200" spc="-1" strike="noStrike">
                <a:solidFill>
                  <a:srgbClr val="990033"/>
                </a:solidFill>
                <a:latin typeface="Verdana"/>
              </a:rPr>
              <a:t>Ú</a:t>
            </a:r>
            <a:r>
              <a:rPr b="0" lang="en-US" sz="3200" spc="-1" strike="noStrike">
                <a:solidFill>
                  <a:srgbClr val="990033"/>
                </a:solidFill>
                <a:latin typeface="Verdana"/>
              </a:rPr>
              <a:t>ŘADŮM 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(V PRVN</a:t>
            </a: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Í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M ROCE PODNIK</a:t>
            </a: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Á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N</a:t>
            </a: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Í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042560" y="1773000"/>
            <a:ext cx="77439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Okresní správa sociálního zabezpečení (OSSZ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1) Na začátku vašeho podnikání (po ohlášení živnosti na živnostenském úřadu) musíte na tomto úřadu ohlásit zahájeni samostatné výdělečné činnosti – přihlásit se musíte do 8. dne následujícího měsíce po měsíci, v němž zahájíte činno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2) Na začátku vašeho podnikání – povinně musíte podat přihlášku OSVČ k účasti na důchodovém pojištění, dobrovolně potom přihlášku OSVČ k účasti na nemocenském pojiště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042560" y="1844280"/>
            <a:ext cx="77439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)Každý měsíc platíte minimální zálohy na sociální pojištění (důchodové, nemocenské) – zálohy jsou splatné od 1. do 20. dne následujícího měsíce. Výše minimální měsíční zálohy je stanovena na každý rok. Do  31.3.2011 byla min. záloha 1720,- , ale od 1.04.2011 min. záloha na sociální pojištění zvýšila na 1807,-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4) Jednou za rok musíte vyplnit a odevzdat formulář „Přehled o příjmech a výdajích OSVČ“ (= roční vyúčtování) – nejlépe do 31. 3. následujícího roku (nejpozději do 30. 4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042560" y="1773360"/>
            <a:ext cx="77439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Finanční úřad (místně příslušný podle sídla podnikán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 Na začátku vašeho podnikání – registrujete se jako daňový subjekt (vybíráte si daně, ke kterým se chcete registrovat. Vždy se musíte registrovat k dani z příjmů fyzických osob.) – do 30 dnů od ohlášení živnosti získáte daňové identifikační číslo (DIČ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2) Jednou za rok – musíte vyplnit a podat daňové přiznání – do 31. 3. (následujícího roku). Formulář „Přiznání k dani z příjmů fyzických osob“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7:55Z</dcterms:modified>
  <cp:revision>306</cp:revision>
  <dc:subject/>
  <dc:title>Snímek 1</dc:title>
</cp:coreProperties>
</file>