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9E41-05F6-4CE5-8179-D8C605E4EF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F9E-B9E2-4C46-B402-8FDE2DD577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0AB-F1F9-4976-A6E7-B435ADEE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A24-BE0D-4015-91D6-B26A64AB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B4A-4062-4C0C-882B-BADF9A51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B90-3D31-4AAF-BA9D-71FE62D1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596-866C-41DA-85D4-C5B17DA7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5FB-8D3D-49DB-ADC3-95B4B4BB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297-2205-4A01-B8BC-E58A0511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9A4-FF33-48FC-959D-53EEAAC0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D13-4ECD-43F0-814F-9A8D0908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31F-1374-458B-BFF8-BB4C1AD8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DD0-3AF9-43B0-91C3-30BBDA65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5C9-4E88-4F7D-8076-7061D20D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7F87-F3F5-4706-99AA-EB47EC88A4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279576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logo IOP + EU + text - 1"/>
          <p:cNvPicPr/>
          <p:nvPr/>
        </p:nvPicPr>
        <p:blipFill>
          <a:blip r:embed="rId1"/>
          <a:stretch/>
        </p:blipFill>
        <p:spPr>
          <a:xfrm>
            <a:off x="152280" y="228600"/>
            <a:ext cx="5059440" cy="56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438624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1" descr="logoMPSV-m-sm"/>
          <p:cNvPicPr/>
          <p:nvPr/>
        </p:nvPicPr>
        <p:blipFill>
          <a:blip r:embed="rId2"/>
          <a:stretch/>
        </p:blipFill>
        <p:spPr>
          <a:xfrm>
            <a:off x="8381880" y="228600"/>
            <a:ext cx="5288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343080" y="2865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0:49:32Z</dcterms:created>
  <dc:creator>prihonskai</dc:creator>
  <dc:description/>
  <dc:language>en-US</dc:language>
  <cp:lastModifiedBy>Kostelníková Ludmila</cp:lastModifiedBy>
  <dcterms:modified xsi:type="dcterms:W3CDTF">2013-08-01T09:05:51Z</dcterms:modified>
  <cp:revision>2</cp:revision>
  <dc:subject/>
  <dc:title>Prezentace aplikace PowerPoint</dc:title>
</cp:coreProperties>
</file>