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417-80E2-4FA1-9471-BD92074A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BA8-2B34-4B47-BC3F-4592BA47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027-AB32-441C-98FC-3BF97FFF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A97-7EEB-486F-99A7-7E24EBC0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7D2-EB73-4E67-BB01-1CBA8DB1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5B4-9CD6-4C16-8AC1-B15937C8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E6C-9366-4888-8AF5-6E1C4DAF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62C-26B8-4C77-B263-C5213918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176-AC39-4232-B477-BED38917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6A47-E464-4BC8-BC63-298DD0BF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82A-182A-4E22-B6F9-680A0FCA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C26-28C4-4B38-BC62-F41497BA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6301-92A6-475C-A3FE-7B8BBF751B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1" descr=""/>
          <p:cNvPicPr/>
          <p:nvPr/>
        </p:nvPicPr>
        <p:blipFill>
          <a:blip r:embed="rId1"/>
          <a:stretch/>
        </p:blipFill>
        <p:spPr>
          <a:xfrm>
            <a:off x="3924360" y="174600"/>
            <a:ext cx="5145120" cy="646200"/>
          </a:xfrm>
          <a:prstGeom prst="rect">
            <a:avLst/>
          </a:prstGeom>
          <a:ln w="0">
            <a:noFill/>
          </a:ln>
        </p:spPr>
      </p:pic>
      <p:pic>
        <p:nvPicPr>
          <p:cNvPr id="42" name="Obrázek 2" descr=""/>
          <p:cNvPicPr/>
          <p:nvPr/>
        </p:nvPicPr>
        <p:blipFill>
          <a:blip r:embed="rId2"/>
          <a:stretch/>
        </p:blipFill>
        <p:spPr>
          <a:xfrm>
            <a:off x="95400" y="174600"/>
            <a:ext cx="21002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07:51:24Z</dcterms:created>
  <dc:creator>prihonskai</dc:creator>
  <dc:description/>
  <dc:language>en-US</dc:language>
  <cp:lastModifiedBy>Kostelníková Ludmila</cp:lastModifiedBy>
  <dcterms:modified xsi:type="dcterms:W3CDTF">2013-08-01T09:04:27Z</dcterms:modified>
  <cp:revision>4</cp:revision>
  <dc:subject/>
  <dc:title>Prezentace aplikace PowerPoint</dc:title>
</cp:coreProperties>
</file>