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D8ED-FD29-484A-8A06-7C264872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651-BB80-4F11-9865-A90594EA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259-B989-46A9-97FC-89620745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0F2-63E0-42CB-8BD3-CBD90082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DFD6-D5B9-4B3D-85BC-0DAD22AF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D1DF-94B5-4900-9395-07BFC0A2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175-93E4-40F1-8C6D-69FD4B48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D35-7A7D-4A18-B1C4-BA9C1F8D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A75-3C2C-4771-A2F6-705ACF29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B12F-0903-4B0E-AFED-F0D11E9D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110C-1E74-4B82-BBBD-333A84B4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CE4-3DFD-4108-B82D-153E35A1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D57C-AB23-4BB3-893D-18009EBF47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1" descr=""/>
          <p:cNvPicPr/>
          <p:nvPr/>
        </p:nvPicPr>
        <p:blipFill>
          <a:blip r:embed="rId1"/>
          <a:stretch/>
        </p:blipFill>
        <p:spPr>
          <a:xfrm>
            <a:off x="3924360" y="174600"/>
            <a:ext cx="5145120" cy="646200"/>
          </a:xfrm>
          <a:prstGeom prst="rect">
            <a:avLst/>
          </a:prstGeom>
          <a:ln w="0">
            <a:noFill/>
          </a:ln>
        </p:spPr>
      </p:pic>
      <p:pic>
        <p:nvPicPr>
          <p:cNvPr id="42" name="Obrázek 2" descr=""/>
          <p:cNvPicPr/>
          <p:nvPr/>
        </p:nvPicPr>
        <p:blipFill>
          <a:blip r:embed="rId2"/>
          <a:stretch/>
        </p:blipFill>
        <p:spPr>
          <a:xfrm>
            <a:off x="95400" y="174600"/>
            <a:ext cx="21002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07:51:24Z</dcterms:created>
  <dc:creator>prihonskai</dc:creator>
  <dc:description/>
  <dc:language>en-US</dc:language>
  <cp:lastModifiedBy>Kostelníková Ludmila</cp:lastModifiedBy>
  <dcterms:modified xsi:type="dcterms:W3CDTF">2013-08-01T09:04:27Z</dcterms:modified>
  <cp:revision>4</cp:revision>
  <dc:subject/>
  <dc:title>Prezentace aplikace PowerPoint</dc:title>
</cp:coreProperties>
</file>