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444B-353B-416D-B6AE-AD421F0B0A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B26A-B4DE-4CDC-ABE8-771B6B82D2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026-0011-4259-8122-51D9F6F5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B67-789F-4C48-9B14-C719AF64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C6E-CC2B-49FB-B4EC-07E5BB21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BEC-3975-44A7-AD6E-189FEA1E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BC6-350C-4480-87A2-23ECCF7C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28F-9B02-4AB8-8BA2-192946FA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38F-E92B-4109-9D96-479A70CD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123-CCC8-4280-A95B-69A1C195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6B3-0507-4A46-B0D3-4828A6C8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760-22DE-4946-9DEE-C413AF6C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6E6-AEA7-46EF-9905-D842FE5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C13-DBF1-437E-AB74-F7AD3974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1F37-DCF6-40EA-A83B-9C250D7F45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279576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logo IOP + EU + text - 1"/>
          <p:cNvPicPr/>
          <p:nvPr/>
        </p:nvPicPr>
        <p:blipFill>
          <a:blip r:embed="rId1"/>
          <a:stretch/>
        </p:blipFill>
        <p:spPr>
          <a:xfrm>
            <a:off x="152280" y="228600"/>
            <a:ext cx="5059440" cy="56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438624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1" descr="logoMPSV-m-sm"/>
          <p:cNvPicPr/>
          <p:nvPr/>
        </p:nvPicPr>
        <p:blipFill>
          <a:blip r:embed="rId2"/>
          <a:stretch/>
        </p:blipFill>
        <p:spPr>
          <a:xfrm>
            <a:off x="8381880" y="228600"/>
            <a:ext cx="5288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343080" y="2865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0:49:32Z</dcterms:created>
  <dc:creator>prihonskai</dc:creator>
  <dc:description/>
  <dc:language>en-US</dc:language>
  <cp:lastModifiedBy>Kostelníková Ludmila</cp:lastModifiedBy>
  <dcterms:modified xsi:type="dcterms:W3CDTF">2013-08-01T09:05:51Z</dcterms:modified>
  <cp:revision>2</cp:revision>
  <dc:subject/>
  <dc:title>Prezentace aplikace PowerPoint</dc:title>
</cp:coreProperties>
</file>