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780-77B7-4AA5-A355-BF14253A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D2C-01F2-4D57-B13A-BEF6C28E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497-C88D-49D4-B6E4-00ABFA2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692-D5FF-4557-97C7-3803573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524-5338-4457-94AD-E1C653A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2AC-992A-4EA8-8EA0-3E847E9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473-3DA5-4C16-9C86-5F78561A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B0F-A40E-4BAF-AA8C-E3F8319B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CAB-DAAD-4BAF-8C6C-312AA37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C20-A6F6-43C9-993A-4500D71C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737-E6AB-401D-A190-BEF1921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9B4-847D-4036-A095-9812127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6A93-EC9A-49F4-8FD8-E7ACB1640B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ustice.c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oks.google.cz/books?id=VYB3mqdTv3sC&amp;printsec=frontcover&amp;source=gbs_ge_summary_r&amp;cad=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books.google.cz/books?id=NvH8AwAAQBAJ&amp;printsec=frontcover&amp;source=gbs_ge_summary_r&amp;cad=0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db021"/>
                </a:solidFill>
                <a:latin typeface="Calibri"/>
              </a:rPr>
              <a:t>Právo na respektování rodinného života v judikatuře Evropského soudu pro lidská práva ve světle rozsudků proti České repub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db021"/>
                </a:solidFill>
                <a:latin typeface="Calibri"/>
              </a:rPr>
              <a:t>Mgr. Eva Petrov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2257560"/>
            <a:ext cx="5761080" cy="36194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1908000" y="607392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Ministerstvo práce a sociálních věc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v Praze dne 4. listopadu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elný zá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dostatečně závažné důvo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vinnost státu přijmout veškerá opatření za účelem sloučení rod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" y="90792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Roz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T. proti České republice, č. 19315/11, rozsudek ze dne 17. červenc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nezletilého dítěte do péče Kloká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Havelka a ostatní proti České republice, č. 23499/06, rozsudek ze dne 21. června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Wallová a Walla proti České republice, č. 23848/04, rozsudek ze dne 26. října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Fuxová proti České republice, č. 74556/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 z důvodu absence rodného listu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Mezinárodní únos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Macready proti České republice, č. 4824/06 a 15512/08, rozsudek ze dne 22.dubna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mezinárodní únos dítěte do České republi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plikace Haagské úmluvy o občanskoprávních aspektech mezinárodních únosů dě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jlepší zájem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élka řízení o navrá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Internetové zdroje informa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chr.coe.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informační systém HU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Na stránkách Ministerstva spravedlnosti 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www.justice.cz 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jsou pod záložkami </a:t>
            </a:r>
            <a:r>
              <a:rPr b="0" i="1" sz="2400" spc="-1" strike="noStrike">
                <a:solidFill>
                  <a:srgbClr val="ffffff"/>
                </a:solidFill>
                <a:latin typeface="Calibri"/>
              </a:rPr>
              <a:t>Mezinárodní agenda/ Zastupování státu před ESLP a VLP OSN/ Vybraná rozhodnutí ESLP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dostupné překlady rozsudků proti České repub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pecializovaná peri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pravodaj Kanceláře vládního zmocněnce                                   pro zastupování České republiky před                                   Evropským soudem pro lidská práva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dostupné na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ustice.cz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 sekci Ministerstvo                              spravedlnosti/ Mezinárodní agenda/ Zastupování                                               státu před ESLP a VLP OS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hled rozsudků Evropského soudu pro lidská práva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Wolters Kluwer Č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bírka soudních rozhodnutí a stanovisek: Výběr                             z rozhodnutí Evropského soudu pro lidská práva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Novatr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4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141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Domác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412640"/>
            <a:ext cx="857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Kmec, D. Kosař, J. Kratochvíl, M. Bobek, nakl. C. H. Beck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ochraně lidských práv a základních svo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Čapek, nakl. LINDE PRAHA, a.s.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 a Česká republika                     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E. Hubálková,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Linde, 200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6" descr=""/>
          <p:cNvPicPr/>
          <p:nvPr/>
        </p:nvPicPr>
        <p:blipFill>
          <a:blip r:embed="rId1"/>
          <a:stretch/>
        </p:blipFill>
        <p:spPr>
          <a:xfrm>
            <a:off x="7885080" y="1252440"/>
            <a:ext cx="1098720" cy="16718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7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10987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8" descr=""/>
          <p:cNvPicPr/>
          <p:nvPr/>
        </p:nvPicPr>
        <p:blipFill>
          <a:blip r:embed="rId3"/>
          <a:stretch/>
        </p:blipFill>
        <p:spPr>
          <a:xfrm>
            <a:off x="7885080" y="4797360"/>
            <a:ext cx="111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ahraničn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412640"/>
            <a:ext cx="70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w of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D. J. Harris, M. O’Boyle, E. Bates, C. M. Buckley, 3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Oxford University Press, Oxford, 20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A Practitioner’s Guide to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K. Reid, 4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Sweet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&amp; Maxwell, London, 2011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 Convention européenne des Droits de l’Homme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,                      L.-E. Pettiti, E. Decaux, P.-H. Imbert [(uspoř.), 2. vyd.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Economica, Paříž,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5" descr=""/>
          <p:cNvPicPr/>
          <p:nvPr/>
        </p:nvPicPr>
        <p:blipFill>
          <a:blip r:embed="rId1"/>
          <a:stretch/>
        </p:blipFill>
        <p:spPr>
          <a:xfrm>
            <a:off x="7577280" y="5064120"/>
            <a:ext cx="1218960" cy="17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Front Cov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7280" y="3078000"/>
            <a:ext cx="1228680" cy="18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ront Co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77280" y="1200240"/>
            <a:ext cx="121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Ministerstvo spravedlnosti České republ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Kancelář vládního zmocně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Vyšehradská 16, 128 10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Mgr. Eva Petr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tel.: +420 221 997 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e-mail: epetrova@msp.justice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Kontak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rázek 2" descr=""/>
          <p:cNvPicPr/>
          <p:nvPr/>
        </p:nvPicPr>
        <p:blipFill>
          <a:blip r:embed="rId1"/>
          <a:stretch/>
        </p:blipFill>
        <p:spPr>
          <a:xfrm>
            <a:off x="5508720" y="2017800"/>
            <a:ext cx="36352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becně k právu na respektování rodinn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ladní princi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jem r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věření dítěte do péče jednoho z rodičů a právo na styk s dítě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debrání dítěte z péče rodič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ezinárodní únos dítě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becně k právu na respektování rodinného živ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Právo na respektování soukromého a rodinného života (článek 8 Úmluv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Každý má právo na respektování svého soukromého a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rodinného života</a:t>
            </a: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, obydlí a korespond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Státní orgán nemůže do výkonu tohoto práva zasahovat kromě případů, kdy je to v souladu se zákonem a nezbytné v demokratické společnosti v zájmu národní bezpečnosti, veřejné bezpečnosti, hospodářského blahobytu země, ochrany pořádku a předcházení zločinnosti, ochrany zdraví nebo morálky nebo ochrany práv a svobod jiný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ákladní princi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ega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zásah státu do rodinného živo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a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 souladu s právním předpisem, dostupnost, předvída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itimity (čl. 8 odst. 2 Úmluv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árodní bezpečnost, veřejná bezpečnost, hospodářský blahobyt země, předcházení nepokojům a zločinnosti, ochrana zdraví nebo morálky, ochrana práv a svobod jiný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proporc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ezbytnost zásahu v demokratické společ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zi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aktivní jednání stá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spravedlivá rovnováha mezi protichůdnými záj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stor pro uvá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cedurální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Pojem rod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ředpoklad existence r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faktická existence blízkých osobních vaz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konkrétní okolnosti příp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ět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ní nutná existence manžel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alšími příbuz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livé právní sp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jlepší zájem dítěte – průběžné hodno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gativní postoj druh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yndrom zavržen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efektivní prosazení práva rodiče na styk s dítě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přiměřená délka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úprava pouze předběžným opatř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az styku jako poslední ře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Vybrané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Prodělalová proti České republice, č. 40094/08, rozsudek ze dne 20. prosinc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Bergmann proti České republice, č. 8857/08, rozsudek ze dne 27. říjn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zitivní povinnosti státu – zachování rodinné vazby mezi rodičem a dítě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innost státních orgánů přijmout všechna opatření za účelem respektování rodičovských práv stěžova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lynutí času a pasivita státních orgán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Drenk proti České republice, č. 1071/12, rozsudek ze dne 4. září 2014 (rozsudek není konečný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vhodné chování stěžovatele otce k dít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odmítání styku s otcem ze strany dítěte, zdravotní problémy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ne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atera proti České republice, č. 25326/03, rozsudek ze dne 26. dub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edovič proti České republice, č. 27145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aršálek proti České republice, č. 8153/04, rozsudek ze dne 4. dubn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Cambal proti České republice, č. 22771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Dostál proti České republice, č. 26739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oleský proti České republice, č. 63627/00, rozsudek ze dne 29. června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Andělová proti České republice, č. 995/06, rozsudek ze dne 28. únor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Zavřel proti České republice, č. 14044/05, rozsudek ze dne 18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Kříž proti České republice, č. 26634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ezl proti České republice, č. 27726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Fiala proti České republice, č. 26141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Reslová proti České republice, č. 7550/04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Štulíř a ostatní proti České republice, č. 24654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8:52:31Z</dcterms:created>
  <dc:creator/>
  <dc:description/>
  <dc:language>en-US</dc:language>
  <cp:lastModifiedBy>Petrová Eva Mgr.</cp:lastModifiedBy>
  <dcterms:modified xsi:type="dcterms:W3CDTF">2014-11-03T09:09:58Z</dcterms:modified>
  <cp:revision>227</cp:revision>
  <dc:subject/>
  <dc:title>Evropská úmluva o lidských právech a Evropský soud pro lidská práva</dc:title>
</cp:coreProperties>
</file>